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4A4E-4570-431E-9795-75A2172E1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1422-EFA2-4989-AAAF-C810CCF0C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9C7-7139-4135-A576-A767EB70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BC5-DABE-4EB3-82AC-499DC963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7F4-D607-4C99-A0F0-738A7423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378-4ACE-464C-9BE0-FC2ECE8E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76B-E82F-41CD-B6F8-76E70284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2BD-8FE4-4E19-9847-F51D1E17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6E4-23F6-48DE-B963-5EF258B9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FC6-1766-453A-93B8-DA3F6960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9C3-DB80-4A42-AEAE-75993715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2A8-C33F-4869-953D-2E4CA9B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671-FA94-420C-B022-E70461F1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6EE-9651-4C88-8021-73BC7E69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A661-55E1-4CF5-9F0F-867987951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s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Antin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3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The Science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Why do we need good n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o Now (5 minutes)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 the first 5 pages blank in your composition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 the focus question in your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lecture, record on the right-hand page as many meaningful facts and ideas as you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egi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your notes on the left-hand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mages, pictures,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ing clarifies meanings and relationships, reinforces continuity, and strengthens mem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it is a way of preparing for examinations gradually and well ahea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over the right-hand page, using only your jottings on the left-hand page as cues or "flags" to help you rec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uncovering your notes, verify what you have sa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dure helps to transfer the facts and ideas of your long term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ill spend 10 minutes every week or so in a quick review of these notes, you will retain most of what you have learned, and you will be able to use your knowledge currently to greater and greater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Students are required to maintain organized no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s will be graded according to the Notebook Grading Rubr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the first five pages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use these pages as your table of con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number 1 in the upper right corner of page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be your page #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ience notebook will be organized as follo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Should be T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– 4       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             Notebook Rubric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ge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/10      Why do we need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ch day fill out the Table of Cont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is important that you keep up with the table of contents so you can find previous less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is important that you keep your notebook neat and organized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VERY 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Note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your write your “input”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umber each page so that you can locate topics in your note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Note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also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you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e you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handouts your receive can be taped/glu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9:37:23Z</dcterms:created>
  <dc:creator>Dr John Antinora</dc:creator>
  <dc:description/>
  <dc:language>en-US</dc:language>
  <cp:lastModifiedBy>Lenovo User</cp:lastModifiedBy>
  <dcterms:modified xsi:type="dcterms:W3CDTF">2010-02-03T16:30:49Z</dcterms:modified>
  <cp:revision>86</cp:revision>
  <dc:subject/>
  <dc:title>Slide 1</dc:title>
</cp:coreProperties>
</file>