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3B3-236D-419B-BADA-2F08DFE9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00A-1FEC-482F-B5E1-0F536369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110-DA68-40B0-88E8-13032FEE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FD8-B46C-4D22-AEF8-E37ABD5D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00C-EB1C-43C2-B01D-E7235336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669-BD8A-4C59-849E-9C172CE6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78C-2520-4005-9DB3-4166B979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CF8-22AC-47A7-BFD4-DAEB4162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158-239C-4606-86E1-C24EDB8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A4C-94D9-4ACB-B8FE-DBA8B861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54A-2EC5-4D26-A16D-765D648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8C0-7ED7-457E-B25C-5239D1E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527-66AC-4536-B1A7-7128256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E69-82AC-4A4F-A6A3-ED412D2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D451-D3D0-4946-84B7-BF9930A3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Antin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3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Science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hy do we need good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o Now (5 minutes)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the first 5 pages blank in your composition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cus question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lecture, record on the right-hand page as many meaningful facts and ideas as you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eg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 on the left-hand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mages, pictures,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clarifies meanings and relationships, reinforces continuity, and strengthens mem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t is a way of preparing for examinations gradually and well ahea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over the right-hand page, using only your jottings on the left-hand page as cues or "flags" to help you re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ncovering your notes, verify what you have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dure helps to transfer the facts and ideas of your long term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ll spend 10 minutes every week or so in a quick review of these notes, you will retain most of what you have learned, and you will be able to use your knowledge currently to greater and greater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tudents are required to maintain organized no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s will be graded according to the Notebook Grading Rubr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the first five pages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use these pages as your table of 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umber 1 in the upper right corner of page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be your page #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ce notebook will be organized as follo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hould be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4      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             Notebook Rubric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g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/10      Why do we need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day fill out the Table of Cont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up with the table of contents so you can find previous less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your notebook neat and organized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VERY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r write your “input”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umber each page so that you can locate topics i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als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handouts your receive can be taped/glu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37:23Z</dcterms:created>
  <dc:creator>Dr John Antinora</dc:creator>
  <dc:description/>
  <dc:language>en-US</dc:language>
  <cp:lastModifiedBy>Lenovo User</cp:lastModifiedBy>
  <dcterms:modified xsi:type="dcterms:W3CDTF">2010-02-03T16:30:49Z</dcterms:modified>
  <cp:revision>86</cp:revision>
  <dc:subject/>
  <dc:title>Slide 1</dc:title>
</cp:coreProperties>
</file>