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9382-0EB9-4061-A35D-4194CDF8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A7B4-6E8B-41C8-8AF2-12C65738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1D6-FA58-48D9-B328-2B124F9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5B2-0E6F-4538-9656-DC1D703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417-6F2C-4BE4-8B5E-FCF0844B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D77-91AF-494E-87D2-42651F0F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187-5D5F-49F1-88DD-22EC912B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D49-5FAF-4743-9E8A-5904F0AC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A2C-DEF2-4ED7-823D-919C3F20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9A2-69A0-4320-BE61-EAA3941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409-D723-44B0-B4BB-C4B3D7E4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7A4-C7AF-4E7A-B1DC-BF164E3F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E28-4B53-44E6-859B-F9790E8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625-AA4E-4DBC-8523-8EBB065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F0E1-8540-4FDE-9CCC-6C0AFAC9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s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Antin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3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Science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hy do we need good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o Now (5 minutes)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 the first 5 pages blank in your composition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the focus question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lecture, record on the right-hand page as many meaningful facts and ideas as you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egi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 on the left-hand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mages, pictures,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clarifies meanings and relationships, reinforces continuity, and strengthens mem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t is a way of preparing for examinations gradually and well ahea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over the right-hand page, using only your jottings on the left-hand page as cues or "flags" to help you rec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ncovering your notes, verify what you have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dure helps to transfer the facts and ideas of your long term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ll spend 10 minutes every week or so in a quick review of these notes, you will retain most of what you have learned, and you will be able to use your knowledge currently to greater and greater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tudents are required to maintain organized no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s will be graded according to the Notebook Grading Rubr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the first five pages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use these pages as your table of 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number 1 in the upper right corner of page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be your page #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ce notebook will be organized as follo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Should be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– 4       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             Notebook Rubric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g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/10      Why do we need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h day fill out the Table of Cont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up with the table of contents so you can find previous less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your notebook neat and organized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VERY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your write your “input”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umber each page so that you can locate topics in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also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handouts your receive can be taped/glu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9:37:23Z</dcterms:created>
  <dc:creator>Dr John Antinora</dc:creator>
  <dc:description/>
  <dc:language>en-US</dc:language>
  <cp:lastModifiedBy>Lenovo User</cp:lastModifiedBy>
  <dcterms:modified xsi:type="dcterms:W3CDTF">2010-02-03T16:30:49Z</dcterms:modified>
  <cp:revision>86</cp:revision>
  <dc:subject/>
  <dc:title>Slide 1</dc:title>
</cp:coreProperties>
</file>