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CD98-BC51-41EB-AD65-BF96C802D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98DF-9B20-4723-9DF4-A8B022A68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2AB-6A9F-4380-94A3-EAEAF23D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B1F-2664-46A8-885C-CA24B93C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FC5-5773-4813-9076-96691C3D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F0B-09F0-45C8-82A3-9787C421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2B2-EBE5-4230-9DA1-96AEB9FE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AD63-6FC8-43AD-89DD-58009CD4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E42-1887-4B84-BFBF-A6B8F919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D2F5-9BB6-4D26-BD45-A79632B9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E1C-D9BC-4801-BCBC-0784948E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581-04A7-4373-867B-38E6CE7D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C19-8240-4C48-B522-31553B0E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BB4-FDD1-44BF-9311-9BFE07F4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DFBA-3459-4799-8A20-25485BD18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s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Antin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3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The Science Not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Why do we need good no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o Now (5 minutes)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ep the first 5 pages blank in your composition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wer the focus question in your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R’s of 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lecture, record on the right-hand page as many meaningful facts and ideas as you c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legib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R’s of 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your notes on the left-hand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mages, pictures,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ing clarifies meanings and relationships, reinforces continuity, and strengthens mem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it is a way of preparing for examinations gradually and well ahea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R’s of 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cover the right-hand page, using only your jottings on the left-hand page as cues or "flags" to help you reca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uncovering your notes, verify what you have sa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dure helps to transfer the facts and ideas of your long term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R’s of 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ill spend 10 minutes every week or so in a quick review of these notes, you will retain most of what you have learned, and you will be able to use your knowledge currently to greater and greater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Students are required to maintain organized no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s will be graded according to the Notebook Grading Rubr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the first five pages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use these pages as your table of cont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number 1 in the upper right corner of page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be your page #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ience notebook will be organized as follow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Should be T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– 4       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             Notebook Rubric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cus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ge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/10      Why do we need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ach day fill out the Table of Conten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is important that you keep up with the table of contents so you can find previous lesso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is important that you keep your notebook neat and organized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VERY 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Note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ere your write your “input”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number each page so that you can locate topics in your note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Note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also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you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ze you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handouts your receive can be taped/glue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9:37:23Z</dcterms:created>
  <dc:creator>Dr John Antinora</dc:creator>
  <dc:description/>
  <dc:language>en-US</dc:language>
  <cp:lastModifiedBy>Lenovo User</cp:lastModifiedBy>
  <dcterms:modified xsi:type="dcterms:W3CDTF">2010-02-03T16:30:49Z</dcterms:modified>
  <cp:revision>86</cp:revision>
  <dc:subject/>
  <dc:title>Slide 1</dc:title>
</cp:coreProperties>
</file>