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058-F99D-4027-9015-45B06EB0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319-5D06-4FA2-8376-F42BD28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616-CC75-42BE-9FBC-35D80AA7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FA8-D404-4A21-8B1C-1A3E9A01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9E2-2AB7-4368-A452-1FD9423E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309-C18C-4702-A79B-7B2E5FD1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CC0-E259-4C9B-8CEE-1F24B8A3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B63-AFCD-45FC-91A0-ABE7AE5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1D0-E6E3-428E-94DA-A44A0B6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E49-2466-47B8-BE01-F8A0A230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0A9-67D0-4EC7-9A0F-CFCDD72B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656-4D00-4553-B61C-7AFB0DDE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EBE2-A741-4EF1-8AF1-DA9D03976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JAntinora</cp:lastModifiedBy>
  <cp:lastPrinted>2001-08-14T21:30:16Z</cp:lastPrinted>
  <dcterms:modified xsi:type="dcterms:W3CDTF">2012-09-07T02:11:17Z</dcterms:modified>
  <cp:revision>145</cp:revision>
  <dc:subject/>
  <dc:title>PowerPoint Presentation</dc:title>
</cp:coreProperties>
</file>