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3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17.jpeg" ContentType="image/jpeg"/>
  <Override PartName="/ppt/media/image8.wmf" ContentType="image/x-wmf"/>
  <Override PartName="/ppt/media/image13.wmf" ContentType="image/x-wmf"/>
  <Override PartName="/ppt/media/image10.jpeg" ContentType="image/jpeg"/>
  <Override PartName="/ppt/media/image9.wmf" ContentType="image/x-wmf"/>
  <Override PartName="/ppt/media/image27.png" ContentType="image/png"/>
  <Override PartName="/ppt/media/image12.wmf" ContentType="image/x-wmf"/>
  <Override PartName="/ppt/media/image30.jpeg" ContentType="image/jpeg"/>
  <Override PartName="/ppt/media/image32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5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2.jpeg" ContentType="image/jpeg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4EDF-33B2-4127-BFBC-845D0B21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962E-B35C-46F8-8146-0B026E57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FB1-C1BE-46B7-8011-17C72FC6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609-4D4A-434D-8C3F-0D69126B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934-CBC4-43BE-A22A-D00CAD1A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E47-718D-4A06-B933-588B5ED1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D2C-85B5-491C-9E61-7061D9FB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3B2-4BFD-4665-840C-EC2E1696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5A1-AC08-47CF-BCC7-2B99E800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CC59-5575-4F5E-ADA1-19CB002A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1CB-F5E2-4C7C-BE2A-068E8165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A4D-6177-406C-954B-9859106B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E8BB-61DA-4BC5-A0EC-AF43EDB00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1219320" y="6858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Cornell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066680" y="3962520"/>
            <a:ext cx="4724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Notes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66960" cy="3470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26" descr="C:\My Download Files\sequesntial.jpg"/>
          <p:cNvPicPr/>
          <p:nvPr/>
        </p:nvPicPr>
        <p:blipFill>
          <a:blip r:embed="rId1"/>
          <a:stretch/>
        </p:blipFill>
        <p:spPr>
          <a:xfrm>
            <a:off x="3581280" y="2590920"/>
            <a:ext cx="5257800" cy="3598920"/>
          </a:xfrm>
          <a:prstGeom prst="rect">
            <a:avLst/>
          </a:prstGeom>
          <a:ln w="0">
            <a:noFill/>
          </a:ln>
        </p:spPr>
      </p:pic>
      <p:sp>
        <p:nvSpPr>
          <p:cNvPr id="337" name="WordArt 1027"/>
          <p:cNvSpPr txBox="1"/>
          <p:nvPr/>
        </p:nvSpPr>
        <p:spPr>
          <a:xfrm>
            <a:off x="152388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xample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38" name="Line 1028"/>
          <p:cNvSpPr/>
          <p:nvPr/>
        </p:nvSpPr>
        <p:spPr>
          <a:xfrm>
            <a:off x="3429000" y="13716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29"/>
          <p:cNvSpPr/>
          <p:nvPr/>
        </p:nvSpPr>
        <p:spPr>
          <a:xfrm>
            <a:off x="4549680" y="1444680"/>
            <a:ext cx="34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Diagram cop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during lecture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30"/>
          <p:cNvSpPr/>
          <p:nvPr/>
        </p:nvSpPr>
        <p:spPr>
          <a:xfrm>
            <a:off x="1050840" y="1477800"/>
            <a:ext cx="245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Questions about 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32"/>
          <p:cNvSpPr/>
          <p:nvPr/>
        </p:nvSpPr>
        <p:spPr>
          <a:xfrm>
            <a:off x="1143000" y="2438280"/>
            <a:ext cx="23018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the ticks find the catt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n’t the ticks usually kill their h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could tick infestations in cattle impact hum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3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1295280" y="533520"/>
            <a:ext cx="6782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ractice Ti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492360" cy="39621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1066680" y="2027160"/>
            <a:ext cx="472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et’s get out a sheet of Cornell note paper and get ready to practice the ski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066680" y="1600200"/>
            <a:ext cx="76964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large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ight hand                  colum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take notes like                       you normally wou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ny sty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note-taking you wish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lin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rrativ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mbo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han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702080" cy="1825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1066680" y="1600200"/>
            <a:ext cx="7086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10000"/>
                </a:solidFill>
                <a:latin typeface="Arial"/>
              </a:rPr>
              <a:t>Compare</a:t>
            </a:r>
            <a:r>
              <a:rPr b="1" lang="en-US" sz="3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with a partner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alk about what you               wrote and why. Look                  for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gaps &amp; missed info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oth partners should feel free to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add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to their not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406600" cy="4419720"/>
          </a:xfrm>
          <a:prstGeom prst="rect">
            <a:avLst/>
          </a:prstGeom>
          <a:ln w="0">
            <a:noFill/>
          </a:ln>
        </p:spPr>
      </p:pic>
      <p:sp>
        <p:nvSpPr>
          <p:cNvPr id="351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3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066680" y="1600200"/>
            <a:ext cx="62262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your partner(s)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eate ques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 the left hand colum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 questions should elicit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itical thinking skil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s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3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through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Bloom’s Tax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3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  <p:animClr clrSpc="rgb">
                                <p:cBhvr>
                                  <p:cTn id="206" dur="1" fill="hold"/>
                                  <p:tgtEl>
                                    <p:spTgt spid="3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1066680" y="1371600"/>
            <a:ext cx="76964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862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NOWLEDGE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recalling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MPREHENS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nderstanding mea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LIC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ing learning in new sit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ALY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bility to see parts &amp; relationshi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5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YNTHE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e parts to create a new wh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6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VALU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judgment based on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WordArt 3"/>
          <p:cNvSpPr txBox="1"/>
          <p:nvPr/>
        </p:nvSpPr>
        <p:spPr>
          <a:xfrm>
            <a:off x="1295280" y="457200"/>
            <a:ext cx="74678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rief Review of Bloom's Taxonom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3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066680" y="1600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Your questions should reflec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4"/>
          <p:cNvSpPr/>
          <p:nvPr/>
        </p:nvSpPr>
        <p:spPr>
          <a:xfrm>
            <a:off x="1066680" y="2438280"/>
            <a:ext cx="64771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don’t understand or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ant to discu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your teacher/tu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think would go good on an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ssay te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ap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your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5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3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066680" y="1600200"/>
            <a:ext cx="74678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your own, in the space provided at the bottom of the page, complete a 3 or 4   sentence summary of                        what you wrote in                              your n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(the summary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pSp>
        <p:nvGrpSpPr>
          <p:cNvPr id="364" name="Group 65"/>
          <p:cNvGrpSpPr/>
          <p:nvPr/>
        </p:nvGrpSpPr>
        <p:grpSpPr>
          <a:xfrm>
            <a:off x="6324480" y="3352680"/>
            <a:ext cx="2187720" cy="2944440"/>
            <a:chOff x="6324480" y="3352680"/>
            <a:chExt cx="2187720" cy="2944440"/>
          </a:xfrm>
        </p:grpSpPr>
        <p:sp>
          <p:nvSpPr>
            <p:cNvPr id="365" name="Freeform 6"/>
            <p:cNvSpPr/>
            <p:nvPr/>
          </p:nvSpPr>
          <p:spPr>
            <a:xfrm>
              <a:off x="6552720" y="4283640"/>
              <a:ext cx="1379160" cy="1430280"/>
            </a:xfrm>
            <a:custGeom>
              <a:avLst/>
              <a:gdLst/>
              <a:ahLst/>
              <a:rect l="l" t="t" r="r" b="b"/>
              <a:pathLst>
                <a:path w="5940" h="5830">
                  <a:moveTo>
                    <a:pt x="0" y="1575"/>
                  </a:moveTo>
                  <a:lnTo>
                    <a:pt x="124" y="1457"/>
                  </a:lnTo>
                  <a:lnTo>
                    <a:pt x="300" y="1337"/>
                  </a:lnTo>
                  <a:lnTo>
                    <a:pt x="462" y="1201"/>
                  </a:lnTo>
                  <a:lnTo>
                    <a:pt x="878" y="864"/>
                  </a:lnTo>
                  <a:lnTo>
                    <a:pt x="1838" y="0"/>
                  </a:lnTo>
                  <a:lnTo>
                    <a:pt x="5509" y="728"/>
                  </a:lnTo>
                  <a:lnTo>
                    <a:pt x="5940" y="4648"/>
                  </a:lnTo>
                  <a:lnTo>
                    <a:pt x="4357" y="5458"/>
                  </a:lnTo>
                  <a:lnTo>
                    <a:pt x="1478" y="5830"/>
                  </a:lnTo>
                  <a:lnTo>
                    <a:pt x="0" y="1575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7312320" y="5680080"/>
              <a:ext cx="1154520" cy="315360"/>
            </a:xfrm>
            <a:custGeom>
              <a:avLst/>
              <a:gdLst/>
              <a:ahLst/>
              <a:rect l="l" t="t" r="r" b="b"/>
              <a:pathLst>
                <a:path w="4979" h="1283">
                  <a:moveTo>
                    <a:pt x="1815" y="1283"/>
                  </a:moveTo>
                  <a:lnTo>
                    <a:pt x="4925" y="638"/>
                  </a:lnTo>
                  <a:lnTo>
                    <a:pt x="4957" y="480"/>
                  </a:lnTo>
                  <a:lnTo>
                    <a:pt x="4979" y="352"/>
                  </a:lnTo>
                  <a:lnTo>
                    <a:pt x="4957" y="225"/>
                  </a:lnTo>
                  <a:lnTo>
                    <a:pt x="4901" y="153"/>
                  </a:lnTo>
                  <a:lnTo>
                    <a:pt x="4836" y="120"/>
                  </a:lnTo>
                  <a:lnTo>
                    <a:pt x="3337" y="0"/>
                  </a:lnTo>
                  <a:lnTo>
                    <a:pt x="0" y="469"/>
                  </a:lnTo>
                  <a:lnTo>
                    <a:pt x="1815" y="1283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7290000" y="5803920"/>
              <a:ext cx="461160" cy="191160"/>
            </a:xfrm>
            <a:custGeom>
              <a:avLst/>
              <a:gdLst/>
              <a:ahLst/>
              <a:rect l="l" t="t" r="r" b="b"/>
              <a:pathLst>
                <a:path w="1986" h="781">
                  <a:moveTo>
                    <a:pt x="0" y="477"/>
                  </a:moveTo>
                  <a:lnTo>
                    <a:pt x="1885" y="781"/>
                  </a:lnTo>
                  <a:lnTo>
                    <a:pt x="1930" y="774"/>
                  </a:lnTo>
                  <a:lnTo>
                    <a:pt x="1972" y="647"/>
                  </a:lnTo>
                  <a:lnTo>
                    <a:pt x="1986" y="533"/>
                  </a:lnTo>
                  <a:lnTo>
                    <a:pt x="1972" y="402"/>
                  </a:lnTo>
                  <a:lnTo>
                    <a:pt x="1941" y="290"/>
                  </a:lnTo>
                  <a:lnTo>
                    <a:pt x="1911" y="219"/>
                  </a:lnTo>
                  <a:lnTo>
                    <a:pt x="479" y="0"/>
                  </a:lnTo>
                  <a:lnTo>
                    <a:pt x="236" y="116"/>
                  </a:lnTo>
                  <a:lnTo>
                    <a:pt x="66" y="304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8205120" y="5740560"/>
              <a:ext cx="132120" cy="151560"/>
            </a:xfrm>
            <a:custGeom>
              <a:avLst/>
              <a:gdLst/>
              <a:ahLst/>
              <a:rect l="l" t="t" r="r" b="b"/>
              <a:pathLst>
                <a:path w="567" h="615">
                  <a:moveTo>
                    <a:pt x="0" y="108"/>
                  </a:moveTo>
                  <a:lnTo>
                    <a:pt x="31" y="202"/>
                  </a:lnTo>
                  <a:lnTo>
                    <a:pt x="42" y="325"/>
                  </a:lnTo>
                  <a:lnTo>
                    <a:pt x="31" y="434"/>
                  </a:lnTo>
                  <a:lnTo>
                    <a:pt x="5" y="615"/>
                  </a:lnTo>
                  <a:lnTo>
                    <a:pt x="534" y="506"/>
                  </a:lnTo>
                  <a:lnTo>
                    <a:pt x="558" y="374"/>
                  </a:lnTo>
                  <a:lnTo>
                    <a:pt x="567" y="246"/>
                  </a:lnTo>
                  <a:lnTo>
                    <a:pt x="558" y="126"/>
                  </a:lnTo>
                  <a:lnTo>
                    <a:pt x="522" y="44"/>
                  </a:lnTo>
                  <a:lnTo>
                    <a:pt x="499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8362800" y="5734440"/>
              <a:ext cx="69480" cy="95760"/>
            </a:xfrm>
            <a:custGeom>
              <a:avLst/>
              <a:gdLst/>
              <a:ahLst/>
              <a:rect l="l" t="t" r="r" b="b"/>
              <a:pathLst>
                <a:path w="296" h="390">
                  <a:moveTo>
                    <a:pt x="131" y="0"/>
                  </a:moveTo>
                  <a:lnTo>
                    <a:pt x="0" y="281"/>
                  </a:lnTo>
                  <a:lnTo>
                    <a:pt x="197" y="390"/>
                  </a:lnTo>
                  <a:lnTo>
                    <a:pt x="296" y="17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7817760" y="5837760"/>
              <a:ext cx="50040" cy="136800"/>
            </a:xfrm>
            <a:custGeom>
              <a:avLst/>
              <a:gdLst/>
              <a:ahLst/>
              <a:rect l="l" t="t" r="r" b="b"/>
              <a:pathLst>
                <a:path w="221" h="558">
                  <a:moveTo>
                    <a:pt x="0" y="23"/>
                  </a:moveTo>
                  <a:lnTo>
                    <a:pt x="45" y="154"/>
                  </a:lnTo>
                  <a:lnTo>
                    <a:pt x="68" y="319"/>
                  </a:lnTo>
                  <a:lnTo>
                    <a:pt x="68" y="419"/>
                  </a:lnTo>
                  <a:lnTo>
                    <a:pt x="33" y="558"/>
                  </a:lnTo>
                  <a:lnTo>
                    <a:pt x="176" y="528"/>
                  </a:lnTo>
                  <a:lnTo>
                    <a:pt x="199" y="409"/>
                  </a:lnTo>
                  <a:lnTo>
                    <a:pt x="221" y="299"/>
                  </a:lnTo>
                  <a:lnTo>
                    <a:pt x="211" y="178"/>
                  </a:lnTo>
                  <a:lnTo>
                    <a:pt x="199" y="100"/>
                  </a:lnTo>
                  <a:lnTo>
                    <a:pt x="165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6467760" y="4458960"/>
              <a:ext cx="1715040" cy="1712880"/>
            </a:xfrm>
            <a:custGeom>
              <a:avLst/>
              <a:gdLst/>
              <a:ahLst/>
              <a:rect l="l" t="t" r="r" b="b"/>
              <a:pathLst>
                <a:path w="7382" h="6981">
                  <a:moveTo>
                    <a:pt x="419" y="888"/>
                  </a:moveTo>
                  <a:lnTo>
                    <a:pt x="254" y="1109"/>
                  </a:lnTo>
                  <a:lnTo>
                    <a:pt x="105" y="1367"/>
                  </a:lnTo>
                  <a:lnTo>
                    <a:pt x="56" y="1653"/>
                  </a:lnTo>
                  <a:lnTo>
                    <a:pt x="0" y="1961"/>
                  </a:lnTo>
                  <a:lnTo>
                    <a:pt x="38" y="2411"/>
                  </a:lnTo>
                  <a:lnTo>
                    <a:pt x="183" y="3045"/>
                  </a:lnTo>
                  <a:lnTo>
                    <a:pt x="307" y="3552"/>
                  </a:lnTo>
                  <a:lnTo>
                    <a:pt x="457" y="4025"/>
                  </a:lnTo>
                  <a:lnTo>
                    <a:pt x="567" y="4933"/>
                  </a:lnTo>
                  <a:lnTo>
                    <a:pt x="693" y="5397"/>
                  </a:lnTo>
                  <a:lnTo>
                    <a:pt x="823" y="5655"/>
                  </a:lnTo>
                  <a:lnTo>
                    <a:pt x="970" y="5891"/>
                  </a:lnTo>
                  <a:lnTo>
                    <a:pt x="1131" y="6034"/>
                  </a:lnTo>
                  <a:lnTo>
                    <a:pt x="1262" y="6106"/>
                  </a:lnTo>
                  <a:lnTo>
                    <a:pt x="1169" y="6286"/>
                  </a:lnTo>
                  <a:lnTo>
                    <a:pt x="1154" y="6721"/>
                  </a:lnTo>
                  <a:lnTo>
                    <a:pt x="1334" y="6942"/>
                  </a:lnTo>
                  <a:lnTo>
                    <a:pt x="1517" y="6958"/>
                  </a:lnTo>
                  <a:lnTo>
                    <a:pt x="1665" y="6981"/>
                  </a:lnTo>
                  <a:lnTo>
                    <a:pt x="1792" y="6595"/>
                  </a:lnTo>
                  <a:lnTo>
                    <a:pt x="1979" y="6380"/>
                  </a:lnTo>
                  <a:lnTo>
                    <a:pt x="2028" y="6305"/>
                  </a:lnTo>
                  <a:lnTo>
                    <a:pt x="1959" y="6740"/>
                  </a:lnTo>
                  <a:lnTo>
                    <a:pt x="1959" y="6848"/>
                  </a:lnTo>
                  <a:lnTo>
                    <a:pt x="2028" y="6920"/>
                  </a:lnTo>
                  <a:lnTo>
                    <a:pt x="2201" y="6920"/>
                  </a:lnTo>
                  <a:lnTo>
                    <a:pt x="2470" y="6826"/>
                  </a:lnTo>
                  <a:lnTo>
                    <a:pt x="2526" y="6777"/>
                  </a:lnTo>
                  <a:lnTo>
                    <a:pt x="2602" y="6630"/>
                  </a:lnTo>
                  <a:lnTo>
                    <a:pt x="2651" y="6436"/>
                  </a:lnTo>
                  <a:lnTo>
                    <a:pt x="2763" y="6342"/>
                  </a:lnTo>
                  <a:lnTo>
                    <a:pt x="2890" y="6270"/>
                  </a:lnTo>
                  <a:lnTo>
                    <a:pt x="3021" y="6162"/>
                  </a:lnTo>
                  <a:lnTo>
                    <a:pt x="3187" y="6017"/>
                  </a:lnTo>
                  <a:lnTo>
                    <a:pt x="3296" y="5874"/>
                  </a:lnTo>
                  <a:lnTo>
                    <a:pt x="3446" y="5655"/>
                  </a:lnTo>
                  <a:lnTo>
                    <a:pt x="3847" y="5488"/>
                  </a:lnTo>
                  <a:lnTo>
                    <a:pt x="4378" y="5367"/>
                  </a:lnTo>
                  <a:lnTo>
                    <a:pt x="5050" y="5258"/>
                  </a:lnTo>
                  <a:lnTo>
                    <a:pt x="5879" y="5186"/>
                  </a:lnTo>
                  <a:lnTo>
                    <a:pt x="6390" y="5109"/>
                  </a:lnTo>
                  <a:lnTo>
                    <a:pt x="6722" y="5060"/>
                  </a:lnTo>
                  <a:lnTo>
                    <a:pt x="6996" y="4999"/>
                  </a:lnTo>
                  <a:lnTo>
                    <a:pt x="7104" y="4910"/>
                  </a:lnTo>
                  <a:lnTo>
                    <a:pt x="7177" y="4840"/>
                  </a:lnTo>
                  <a:lnTo>
                    <a:pt x="7235" y="4692"/>
                  </a:lnTo>
                  <a:lnTo>
                    <a:pt x="7256" y="4459"/>
                  </a:lnTo>
                  <a:lnTo>
                    <a:pt x="7327" y="4168"/>
                  </a:lnTo>
                  <a:lnTo>
                    <a:pt x="7382" y="3810"/>
                  </a:lnTo>
                  <a:lnTo>
                    <a:pt x="7349" y="3426"/>
                  </a:lnTo>
                  <a:lnTo>
                    <a:pt x="7289" y="2920"/>
                  </a:lnTo>
                  <a:lnTo>
                    <a:pt x="7177" y="2356"/>
                  </a:lnTo>
                  <a:lnTo>
                    <a:pt x="7036" y="1849"/>
                  </a:lnTo>
                  <a:lnTo>
                    <a:pt x="6760" y="1074"/>
                  </a:lnTo>
                  <a:lnTo>
                    <a:pt x="5718" y="2411"/>
                  </a:lnTo>
                  <a:lnTo>
                    <a:pt x="5769" y="3192"/>
                  </a:lnTo>
                  <a:lnTo>
                    <a:pt x="5823" y="3679"/>
                  </a:lnTo>
                  <a:lnTo>
                    <a:pt x="5860" y="3937"/>
                  </a:lnTo>
                  <a:lnTo>
                    <a:pt x="5451" y="4096"/>
                  </a:lnTo>
                  <a:lnTo>
                    <a:pt x="4874" y="4294"/>
                  </a:lnTo>
                  <a:lnTo>
                    <a:pt x="4341" y="4475"/>
                  </a:lnTo>
                  <a:lnTo>
                    <a:pt x="3992" y="4587"/>
                  </a:lnTo>
                  <a:lnTo>
                    <a:pt x="3535" y="4692"/>
                  </a:lnTo>
                  <a:lnTo>
                    <a:pt x="3149" y="4800"/>
                  </a:lnTo>
                  <a:lnTo>
                    <a:pt x="3021" y="4856"/>
                  </a:lnTo>
                  <a:lnTo>
                    <a:pt x="3227" y="4332"/>
                  </a:lnTo>
                  <a:lnTo>
                    <a:pt x="3463" y="3607"/>
                  </a:lnTo>
                  <a:lnTo>
                    <a:pt x="3700" y="2933"/>
                  </a:lnTo>
                  <a:lnTo>
                    <a:pt x="3828" y="2467"/>
                  </a:lnTo>
                  <a:lnTo>
                    <a:pt x="3936" y="2284"/>
                  </a:lnTo>
                  <a:lnTo>
                    <a:pt x="4070" y="2216"/>
                  </a:lnTo>
                  <a:lnTo>
                    <a:pt x="4196" y="2104"/>
                  </a:lnTo>
                  <a:lnTo>
                    <a:pt x="4292" y="1977"/>
                  </a:lnTo>
                  <a:lnTo>
                    <a:pt x="4341" y="1818"/>
                  </a:lnTo>
                  <a:lnTo>
                    <a:pt x="4412" y="1580"/>
                  </a:lnTo>
                  <a:lnTo>
                    <a:pt x="4488" y="1343"/>
                  </a:lnTo>
                  <a:lnTo>
                    <a:pt x="4742" y="1169"/>
                  </a:lnTo>
                  <a:lnTo>
                    <a:pt x="4781" y="1091"/>
                  </a:lnTo>
                  <a:lnTo>
                    <a:pt x="4821" y="861"/>
                  </a:lnTo>
                  <a:lnTo>
                    <a:pt x="4765" y="693"/>
                  </a:lnTo>
                  <a:lnTo>
                    <a:pt x="4671" y="475"/>
                  </a:lnTo>
                  <a:lnTo>
                    <a:pt x="4362" y="475"/>
                  </a:lnTo>
                  <a:lnTo>
                    <a:pt x="4119" y="491"/>
                  </a:lnTo>
                  <a:lnTo>
                    <a:pt x="4322" y="309"/>
                  </a:lnTo>
                  <a:lnTo>
                    <a:pt x="4582" y="277"/>
                  </a:lnTo>
                  <a:lnTo>
                    <a:pt x="4781" y="309"/>
                  </a:lnTo>
                  <a:lnTo>
                    <a:pt x="4908" y="277"/>
                  </a:lnTo>
                  <a:lnTo>
                    <a:pt x="4983" y="223"/>
                  </a:lnTo>
                  <a:lnTo>
                    <a:pt x="4633" y="0"/>
                  </a:lnTo>
                  <a:lnTo>
                    <a:pt x="4142" y="0"/>
                  </a:lnTo>
                  <a:lnTo>
                    <a:pt x="3974" y="183"/>
                  </a:lnTo>
                  <a:lnTo>
                    <a:pt x="3678" y="457"/>
                  </a:lnTo>
                  <a:lnTo>
                    <a:pt x="3589" y="491"/>
                  </a:lnTo>
                  <a:lnTo>
                    <a:pt x="3479" y="641"/>
                  </a:lnTo>
                  <a:lnTo>
                    <a:pt x="3367" y="1169"/>
                  </a:lnTo>
                  <a:lnTo>
                    <a:pt x="3258" y="1669"/>
                  </a:lnTo>
                  <a:lnTo>
                    <a:pt x="3133" y="2032"/>
                  </a:lnTo>
                  <a:lnTo>
                    <a:pt x="3021" y="2216"/>
                  </a:lnTo>
                  <a:lnTo>
                    <a:pt x="2747" y="2689"/>
                  </a:lnTo>
                  <a:lnTo>
                    <a:pt x="2421" y="3304"/>
                  </a:lnTo>
                  <a:lnTo>
                    <a:pt x="2158" y="3646"/>
                  </a:lnTo>
                  <a:lnTo>
                    <a:pt x="2028" y="3754"/>
                  </a:lnTo>
                  <a:lnTo>
                    <a:pt x="1864" y="2775"/>
                  </a:lnTo>
                  <a:lnTo>
                    <a:pt x="1738" y="2268"/>
                  </a:lnTo>
                  <a:lnTo>
                    <a:pt x="1533" y="1778"/>
                  </a:lnTo>
                  <a:lnTo>
                    <a:pt x="1334" y="1379"/>
                  </a:lnTo>
                  <a:lnTo>
                    <a:pt x="1131" y="1109"/>
                  </a:lnTo>
                  <a:lnTo>
                    <a:pt x="1004" y="964"/>
                  </a:lnTo>
                  <a:lnTo>
                    <a:pt x="823" y="888"/>
                  </a:lnTo>
                  <a:lnTo>
                    <a:pt x="663" y="875"/>
                  </a:lnTo>
                  <a:lnTo>
                    <a:pt x="419" y="888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7007040" y="3367080"/>
              <a:ext cx="742320" cy="676080"/>
            </a:xfrm>
            <a:custGeom>
              <a:avLst/>
              <a:gdLst/>
              <a:ahLst/>
              <a:rect l="l" t="t" r="r" b="b"/>
              <a:pathLst>
                <a:path w="3198" h="2754">
                  <a:moveTo>
                    <a:pt x="0" y="2754"/>
                  </a:moveTo>
                  <a:lnTo>
                    <a:pt x="149" y="2274"/>
                  </a:lnTo>
                  <a:lnTo>
                    <a:pt x="100" y="2184"/>
                  </a:lnTo>
                  <a:lnTo>
                    <a:pt x="458" y="1280"/>
                  </a:lnTo>
                  <a:lnTo>
                    <a:pt x="812" y="781"/>
                  </a:lnTo>
                  <a:lnTo>
                    <a:pt x="1022" y="514"/>
                  </a:lnTo>
                  <a:lnTo>
                    <a:pt x="1175" y="386"/>
                  </a:lnTo>
                  <a:lnTo>
                    <a:pt x="1374" y="243"/>
                  </a:lnTo>
                  <a:lnTo>
                    <a:pt x="1671" y="87"/>
                  </a:lnTo>
                  <a:lnTo>
                    <a:pt x="2254" y="0"/>
                  </a:lnTo>
                  <a:lnTo>
                    <a:pt x="2575" y="83"/>
                  </a:lnTo>
                  <a:lnTo>
                    <a:pt x="2741" y="16"/>
                  </a:lnTo>
                  <a:lnTo>
                    <a:pt x="2994" y="16"/>
                  </a:lnTo>
                  <a:lnTo>
                    <a:pt x="3198" y="110"/>
                  </a:lnTo>
                  <a:lnTo>
                    <a:pt x="2917" y="672"/>
                  </a:lnTo>
                  <a:lnTo>
                    <a:pt x="0" y="2754"/>
                  </a:lnTo>
                  <a:close/>
                </a:path>
              </a:pathLst>
            </a:custGeom>
            <a:solidFill>
              <a:srgbClr val="00235b"/>
            </a:solidFill>
            <a:ln w="0">
              <a:solidFill>
                <a:srgbClr val="0023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7252200" y="3446640"/>
              <a:ext cx="91800" cy="85320"/>
            </a:xfrm>
            <a:custGeom>
              <a:avLst/>
              <a:gdLst/>
              <a:ahLst/>
              <a:rect l="l" t="t" r="r" b="b"/>
              <a:pathLst>
                <a:path w="393" h="349">
                  <a:moveTo>
                    <a:pt x="205" y="7"/>
                  </a:moveTo>
                  <a:lnTo>
                    <a:pt x="112" y="143"/>
                  </a:lnTo>
                  <a:lnTo>
                    <a:pt x="178" y="179"/>
                  </a:lnTo>
                  <a:lnTo>
                    <a:pt x="0" y="349"/>
                  </a:lnTo>
                  <a:lnTo>
                    <a:pt x="178" y="320"/>
                  </a:lnTo>
                  <a:lnTo>
                    <a:pt x="393" y="112"/>
                  </a:lnTo>
                  <a:lnTo>
                    <a:pt x="254" y="154"/>
                  </a:lnTo>
                  <a:lnTo>
                    <a:pt x="288" y="0"/>
                  </a:lnTo>
                  <a:lnTo>
                    <a:pt x="205" y="7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7078320" y="3801960"/>
              <a:ext cx="70920" cy="115920"/>
            </a:xfrm>
            <a:custGeom>
              <a:avLst/>
              <a:gdLst/>
              <a:ahLst/>
              <a:rect l="l" t="t" r="r" b="b"/>
              <a:pathLst>
                <a:path w="307" h="473">
                  <a:moveTo>
                    <a:pt x="307" y="0"/>
                  </a:moveTo>
                  <a:lnTo>
                    <a:pt x="108" y="206"/>
                  </a:lnTo>
                  <a:lnTo>
                    <a:pt x="136" y="260"/>
                  </a:lnTo>
                  <a:lnTo>
                    <a:pt x="0" y="473"/>
                  </a:lnTo>
                  <a:lnTo>
                    <a:pt x="2" y="286"/>
                  </a:lnTo>
                  <a:lnTo>
                    <a:pt x="68" y="210"/>
                  </a:lnTo>
                  <a:lnTo>
                    <a:pt x="42" y="161"/>
                  </a:lnTo>
                  <a:lnTo>
                    <a:pt x="162" y="56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7605000" y="3387960"/>
              <a:ext cx="30600" cy="65880"/>
            </a:xfrm>
            <a:custGeom>
              <a:avLst/>
              <a:gdLst/>
              <a:ahLst/>
              <a:rect l="l" t="t" r="r" b="b"/>
              <a:pathLst>
                <a:path w="134" h="266">
                  <a:moveTo>
                    <a:pt x="105" y="0"/>
                  </a:moveTo>
                  <a:lnTo>
                    <a:pt x="94" y="109"/>
                  </a:lnTo>
                  <a:lnTo>
                    <a:pt x="134" y="177"/>
                  </a:lnTo>
                  <a:lnTo>
                    <a:pt x="56" y="266"/>
                  </a:lnTo>
                  <a:lnTo>
                    <a:pt x="38" y="205"/>
                  </a:lnTo>
                  <a:lnTo>
                    <a:pt x="68" y="143"/>
                  </a:lnTo>
                  <a:lnTo>
                    <a:pt x="0" y="9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7588080" y="3454200"/>
              <a:ext cx="64080" cy="36720"/>
            </a:xfrm>
            <a:custGeom>
              <a:avLst/>
              <a:gdLst/>
              <a:ahLst/>
              <a:rect l="l" t="t" r="r" b="b"/>
              <a:pathLst>
                <a:path w="274" h="149">
                  <a:moveTo>
                    <a:pt x="139" y="0"/>
                  </a:moveTo>
                  <a:lnTo>
                    <a:pt x="0" y="87"/>
                  </a:lnTo>
                  <a:lnTo>
                    <a:pt x="127" y="149"/>
                  </a:lnTo>
                  <a:lnTo>
                    <a:pt x="274" y="60"/>
                  </a:lnTo>
                  <a:lnTo>
                    <a:pt x="176" y="33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7149240" y="3511440"/>
              <a:ext cx="727200" cy="960120"/>
            </a:xfrm>
            <a:custGeom>
              <a:avLst/>
              <a:gdLst/>
              <a:ahLst/>
              <a:rect l="l" t="t" r="r" b="b"/>
              <a:pathLst>
                <a:path w="3132" h="3913">
                  <a:moveTo>
                    <a:pt x="1648" y="0"/>
                  </a:moveTo>
                  <a:lnTo>
                    <a:pt x="1219" y="583"/>
                  </a:lnTo>
                  <a:lnTo>
                    <a:pt x="789" y="1018"/>
                  </a:lnTo>
                  <a:lnTo>
                    <a:pt x="373" y="1309"/>
                  </a:lnTo>
                  <a:lnTo>
                    <a:pt x="210" y="1540"/>
                  </a:lnTo>
                  <a:lnTo>
                    <a:pt x="132" y="2074"/>
                  </a:lnTo>
                  <a:lnTo>
                    <a:pt x="0" y="3523"/>
                  </a:lnTo>
                  <a:lnTo>
                    <a:pt x="65" y="3628"/>
                  </a:lnTo>
                  <a:lnTo>
                    <a:pt x="181" y="3710"/>
                  </a:lnTo>
                  <a:lnTo>
                    <a:pt x="458" y="3833"/>
                  </a:lnTo>
                  <a:lnTo>
                    <a:pt x="733" y="3857"/>
                  </a:lnTo>
                  <a:lnTo>
                    <a:pt x="942" y="3846"/>
                  </a:lnTo>
                  <a:lnTo>
                    <a:pt x="1107" y="3864"/>
                  </a:lnTo>
                  <a:lnTo>
                    <a:pt x="1250" y="3913"/>
                  </a:lnTo>
                  <a:lnTo>
                    <a:pt x="1411" y="3902"/>
                  </a:lnTo>
                  <a:lnTo>
                    <a:pt x="1580" y="3857"/>
                  </a:lnTo>
                  <a:lnTo>
                    <a:pt x="1742" y="3782"/>
                  </a:lnTo>
                  <a:lnTo>
                    <a:pt x="2255" y="3594"/>
                  </a:lnTo>
                  <a:lnTo>
                    <a:pt x="2706" y="3148"/>
                  </a:lnTo>
                  <a:lnTo>
                    <a:pt x="3034" y="2394"/>
                  </a:lnTo>
                  <a:lnTo>
                    <a:pt x="3132" y="1442"/>
                  </a:lnTo>
                  <a:lnTo>
                    <a:pt x="2079" y="71"/>
                  </a:lnTo>
                  <a:lnTo>
                    <a:pt x="164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7254000" y="4096440"/>
              <a:ext cx="173880" cy="400320"/>
            </a:xfrm>
            <a:custGeom>
              <a:avLst/>
              <a:gdLst/>
              <a:ahLst/>
              <a:rect l="l" t="t" r="r" b="b"/>
              <a:pathLst>
                <a:path w="745" h="1631">
                  <a:moveTo>
                    <a:pt x="17" y="11"/>
                  </a:moveTo>
                  <a:lnTo>
                    <a:pt x="0" y="44"/>
                  </a:lnTo>
                  <a:lnTo>
                    <a:pt x="606" y="1631"/>
                  </a:lnTo>
                  <a:lnTo>
                    <a:pt x="745" y="1512"/>
                  </a:lnTo>
                  <a:lnTo>
                    <a:pt x="142" y="28"/>
                  </a:lnTo>
                  <a:lnTo>
                    <a:pt x="115" y="0"/>
                  </a:lnTo>
                  <a:lnTo>
                    <a:pt x="66" y="0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7482240" y="4208400"/>
              <a:ext cx="143280" cy="85320"/>
            </a:xfrm>
            <a:custGeom>
              <a:avLst/>
              <a:gdLst/>
              <a:ahLst/>
              <a:rect l="l" t="t" r="r" b="b"/>
              <a:pathLst>
                <a:path w="618" h="348">
                  <a:moveTo>
                    <a:pt x="0" y="29"/>
                  </a:moveTo>
                  <a:lnTo>
                    <a:pt x="47" y="105"/>
                  </a:lnTo>
                  <a:lnTo>
                    <a:pt x="175" y="236"/>
                  </a:lnTo>
                  <a:lnTo>
                    <a:pt x="257" y="290"/>
                  </a:lnTo>
                  <a:lnTo>
                    <a:pt x="370" y="336"/>
                  </a:lnTo>
                  <a:lnTo>
                    <a:pt x="475" y="348"/>
                  </a:lnTo>
                  <a:lnTo>
                    <a:pt x="554" y="319"/>
                  </a:lnTo>
                  <a:lnTo>
                    <a:pt x="592" y="287"/>
                  </a:lnTo>
                  <a:lnTo>
                    <a:pt x="618" y="236"/>
                  </a:lnTo>
                  <a:lnTo>
                    <a:pt x="613" y="181"/>
                  </a:lnTo>
                  <a:lnTo>
                    <a:pt x="18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7455960" y="3847680"/>
              <a:ext cx="112680" cy="55440"/>
            </a:xfrm>
            <a:custGeom>
              <a:avLst/>
              <a:gdLst/>
              <a:ahLst/>
              <a:rect l="l" t="t" r="r" b="b"/>
              <a:pathLst>
                <a:path w="490" h="225">
                  <a:moveTo>
                    <a:pt x="49" y="22"/>
                  </a:moveTo>
                  <a:lnTo>
                    <a:pt x="291" y="0"/>
                  </a:lnTo>
                  <a:lnTo>
                    <a:pt x="396" y="18"/>
                  </a:lnTo>
                  <a:lnTo>
                    <a:pt x="445" y="60"/>
                  </a:lnTo>
                  <a:lnTo>
                    <a:pt x="473" y="109"/>
                  </a:lnTo>
                  <a:lnTo>
                    <a:pt x="490" y="176"/>
                  </a:lnTo>
                  <a:lnTo>
                    <a:pt x="490" y="219"/>
                  </a:lnTo>
                  <a:lnTo>
                    <a:pt x="408" y="225"/>
                  </a:lnTo>
                  <a:lnTo>
                    <a:pt x="298" y="217"/>
                  </a:lnTo>
                  <a:lnTo>
                    <a:pt x="153" y="170"/>
                  </a:lnTo>
                  <a:lnTo>
                    <a:pt x="70" y="109"/>
                  </a:lnTo>
                  <a:lnTo>
                    <a:pt x="0" y="37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7728840" y="3924000"/>
              <a:ext cx="87480" cy="57240"/>
            </a:xfrm>
            <a:custGeom>
              <a:avLst/>
              <a:gdLst/>
              <a:ahLst/>
              <a:rect l="l" t="t" r="r" b="b"/>
              <a:pathLst>
                <a:path w="375" h="236">
                  <a:moveTo>
                    <a:pt x="0" y="78"/>
                  </a:moveTo>
                  <a:lnTo>
                    <a:pt x="110" y="176"/>
                  </a:lnTo>
                  <a:lnTo>
                    <a:pt x="165" y="216"/>
                  </a:lnTo>
                  <a:lnTo>
                    <a:pt x="297" y="236"/>
                  </a:lnTo>
                  <a:lnTo>
                    <a:pt x="375" y="220"/>
                  </a:lnTo>
                  <a:lnTo>
                    <a:pt x="363" y="167"/>
                  </a:lnTo>
                  <a:lnTo>
                    <a:pt x="319" y="71"/>
                  </a:lnTo>
                  <a:lnTo>
                    <a:pt x="248" y="22"/>
                  </a:lnTo>
                  <a:lnTo>
                    <a:pt x="187" y="0"/>
                  </a:lnTo>
                  <a:lnTo>
                    <a:pt x="143" y="0"/>
                  </a:lnTo>
                  <a:lnTo>
                    <a:pt x="56" y="29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3"/>
            <p:cNvSpPr/>
            <p:nvPr/>
          </p:nvSpPr>
          <p:spPr>
            <a:xfrm>
              <a:off x="7490520" y="4174560"/>
              <a:ext cx="150120" cy="79200"/>
            </a:xfrm>
            <a:custGeom>
              <a:avLst/>
              <a:gdLst/>
              <a:ahLst/>
              <a:rect l="l" t="t" r="r" b="b"/>
              <a:pathLst>
                <a:path w="645" h="326">
                  <a:moveTo>
                    <a:pt x="0" y="40"/>
                  </a:moveTo>
                  <a:lnTo>
                    <a:pt x="23" y="128"/>
                  </a:lnTo>
                  <a:lnTo>
                    <a:pt x="67" y="194"/>
                  </a:lnTo>
                  <a:lnTo>
                    <a:pt x="156" y="222"/>
                  </a:lnTo>
                  <a:lnTo>
                    <a:pt x="259" y="248"/>
                  </a:lnTo>
                  <a:lnTo>
                    <a:pt x="341" y="277"/>
                  </a:lnTo>
                  <a:lnTo>
                    <a:pt x="420" y="320"/>
                  </a:lnTo>
                  <a:lnTo>
                    <a:pt x="496" y="326"/>
                  </a:lnTo>
                  <a:lnTo>
                    <a:pt x="585" y="297"/>
                  </a:lnTo>
                  <a:lnTo>
                    <a:pt x="645" y="248"/>
                  </a:lnTo>
                  <a:lnTo>
                    <a:pt x="559" y="117"/>
                  </a:lnTo>
                  <a:lnTo>
                    <a:pt x="480" y="84"/>
                  </a:lnTo>
                  <a:lnTo>
                    <a:pt x="447" y="79"/>
                  </a:lnTo>
                  <a:lnTo>
                    <a:pt x="369" y="23"/>
                  </a:lnTo>
                  <a:lnTo>
                    <a:pt x="221" y="0"/>
                  </a:lnTo>
                  <a:lnTo>
                    <a:pt x="83" y="1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4"/>
            <p:cNvSpPr/>
            <p:nvPr/>
          </p:nvSpPr>
          <p:spPr>
            <a:xfrm>
              <a:off x="7440120" y="3843000"/>
              <a:ext cx="135000" cy="66240"/>
            </a:xfrm>
            <a:custGeom>
              <a:avLst/>
              <a:gdLst/>
              <a:ahLst/>
              <a:rect l="l" t="t" r="r" b="b"/>
              <a:pathLst>
                <a:path w="585" h="269">
                  <a:moveTo>
                    <a:pt x="585" y="265"/>
                  </a:moveTo>
                  <a:lnTo>
                    <a:pt x="562" y="178"/>
                  </a:lnTo>
                  <a:lnTo>
                    <a:pt x="551" y="131"/>
                  </a:lnTo>
                  <a:lnTo>
                    <a:pt x="525" y="82"/>
                  </a:lnTo>
                  <a:lnTo>
                    <a:pt x="487" y="44"/>
                  </a:lnTo>
                  <a:lnTo>
                    <a:pt x="449" y="22"/>
                  </a:lnTo>
                  <a:lnTo>
                    <a:pt x="386" y="7"/>
                  </a:lnTo>
                  <a:lnTo>
                    <a:pt x="326" y="0"/>
                  </a:lnTo>
                  <a:lnTo>
                    <a:pt x="221" y="10"/>
                  </a:lnTo>
                  <a:lnTo>
                    <a:pt x="120" y="22"/>
                  </a:lnTo>
                  <a:lnTo>
                    <a:pt x="49" y="22"/>
                  </a:lnTo>
                  <a:lnTo>
                    <a:pt x="0" y="22"/>
                  </a:lnTo>
                  <a:lnTo>
                    <a:pt x="23" y="71"/>
                  </a:lnTo>
                  <a:lnTo>
                    <a:pt x="56" y="127"/>
                  </a:lnTo>
                  <a:lnTo>
                    <a:pt x="89" y="155"/>
                  </a:lnTo>
                  <a:lnTo>
                    <a:pt x="138" y="178"/>
                  </a:lnTo>
                  <a:lnTo>
                    <a:pt x="216" y="198"/>
                  </a:lnTo>
                  <a:lnTo>
                    <a:pt x="281" y="220"/>
                  </a:lnTo>
                  <a:lnTo>
                    <a:pt x="356" y="239"/>
                  </a:lnTo>
                  <a:lnTo>
                    <a:pt x="405" y="241"/>
                  </a:lnTo>
                  <a:lnTo>
                    <a:pt x="288" y="204"/>
                  </a:lnTo>
                  <a:lnTo>
                    <a:pt x="232" y="171"/>
                  </a:lnTo>
                  <a:lnTo>
                    <a:pt x="199" y="138"/>
                  </a:lnTo>
                  <a:lnTo>
                    <a:pt x="168" y="100"/>
                  </a:lnTo>
                  <a:lnTo>
                    <a:pt x="157" y="78"/>
                  </a:lnTo>
                  <a:lnTo>
                    <a:pt x="150" y="44"/>
                  </a:lnTo>
                  <a:lnTo>
                    <a:pt x="304" y="33"/>
                  </a:lnTo>
                  <a:lnTo>
                    <a:pt x="377" y="33"/>
                  </a:lnTo>
                  <a:lnTo>
                    <a:pt x="449" y="49"/>
                  </a:lnTo>
                  <a:lnTo>
                    <a:pt x="487" y="82"/>
                  </a:lnTo>
                  <a:lnTo>
                    <a:pt x="513" y="115"/>
                  </a:lnTo>
                  <a:lnTo>
                    <a:pt x="529" y="160"/>
                  </a:lnTo>
                  <a:lnTo>
                    <a:pt x="536" y="198"/>
                  </a:lnTo>
                  <a:lnTo>
                    <a:pt x="529" y="216"/>
                  </a:lnTo>
                  <a:lnTo>
                    <a:pt x="502" y="241"/>
                  </a:lnTo>
                  <a:lnTo>
                    <a:pt x="449" y="254"/>
                  </a:lnTo>
                  <a:lnTo>
                    <a:pt x="569" y="269"/>
                  </a:lnTo>
                  <a:lnTo>
                    <a:pt x="585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5"/>
            <p:cNvSpPr/>
            <p:nvPr/>
          </p:nvSpPr>
          <p:spPr>
            <a:xfrm>
              <a:off x="7491960" y="3847680"/>
              <a:ext cx="47160" cy="43920"/>
            </a:xfrm>
            <a:custGeom>
              <a:avLst/>
              <a:gdLst/>
              <a:ahLst/>
              <a:rect l="l" t="t" r="r" b="b"/>
              <a:pathLst>
                <a:path w="203" h="176">
                  <a:moveTo>
                    <a:pt x="76" y="67"/>
                  </a:moveTo>
                  <a:lnTo>
                    <a:pt x="60" y="60"/>
                  </a:lnTo>
                  <a:lnTo>
                    <a:pt x="49" y="60"/>
                  </a:lnTo>
                  <a:lnTo>
                    <a:pt x="37" y="67"/>
                  </a:lnTo>
                  <a:lnTo>
                    <a:pt x="37" y="78"/>
                  </a:lnTo>
                  <a:lnTo>
                    <a:pt x="37" y="89"/>
                  </a:lnTo>
                  <a:lnTo>
                    <a:pt x="49" y="98"/>
                  </a:lnTo>
                  <a:lnTo>
                    <a:pt x="60" y="98"/>
                  </a:lnTo>
                  <a:lnTo>
                    <a:pt x="76" y="93"/>
                  </a:lnTo>
                  <a:lnTo>
                    <a:pt x="86" y="89"/>
                  </a:lnTo>
                  <a:lnTo>
                    <a:pt x="102" y="109"/>
                  </a:lnTo>
                  <a:lnTo>
                    <a:pt x="128" y="121"/>
                  </a:lnTo>
                  <a:lnTo>
                    <a:pt x="149" y="116"/>
                  </a:lnTo>
                  <a:lnTo>
                    <a:pt x="158" y="89"/>
                  </a:lnTo>
                  <a:lnTo>
                    <a:pt x="158" y="60"/>
                  </a:lnTo>
                  <a:lnTo>
                    <a:pt x="149" y="44"/>
                  </a:lnTo>
                  <a:lnTo>
                    <a:pt x="198" y="44"/>
                  </a:lnTo>
                  <a:lnTo>
                    <a:pt x="203" y="67"/>
                  </a:lnTo>
                  <a:lnTo>
                    <a:pt x="198" y="109"/>
                  </a:lnTo>
                  <a:lnTo>
                    <a:pt x="177" y="138"/>
                  </a:lnTo>
                  <a:lnTo>
                    <a:pt x="149" y="165"/>
                  </a:lnTo>
                  <a:lnTo>
                    <a:pt x="121" y="176"/>
                  </a:lnTo>
                  <a:lnTo>
                    <a:pt x="86" y="176"/>
                  </a:lnTo>
                  <a:lnTo>
                    <a:pt x="37" y="156"/>
                  </a:lnTo>
                  <a:lnTo>
                    <a:pt x="16" y="128"/>
                  </a:lnTo>
                  <a:lnTo>
                    <a:pt x="0" y="89"/>
                  </a:lnTo>
                  <a:lnTo>
                    <a:pt x="0" y="49"/>
                  </a:lnTo>
                  <a:lnTo>
                    <a:pt x="11" y="22"/>
                  </a:lnTo>
                  <a:lnTo>
                    <a:pt x="32" y="0"/>
                  </a:lnTo>
                  <a:lnTo>
                    <a:pt x="98" y="0"/>
                  </a:lnTo>
                  <a:lnTo>
                    <a:pt x="102" y="33"/>
                  </a:lnTo>
                  <a:lnTo>
                    <a:pt x="102" y="67"/>
                  </a:lnTo>
                  <a:lnTo>
                    <a:pt x="83" y="78"/>
                  </a:lnTo>
                  <a:lnTo>
                    <a:pt x="76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6"/>
            <p:cNvSpPr/>
            <p:nvPr/>
          </p:nvSpPr>
          <p:spPr>
            <a:xfrm>
              <a:off x="7507440" y="3847680"/>
              <a:ext cx="32040" cy="27720"/>
            </a:xfrm>
            <a:custGeom>
              <a:avLst/>
              <a:gdLst/>
              <a:ahLst/>
              <a:rect l="l" t="t" r="r" b="b"/>
              <a:pathLst>
                <a:path w="133" h="109">
                  <a:moveTo>
                    <a:pt x="0" y="44"/>
                  </a:moveTo>
                  <a:lnTo>
                    <a:pt x="18" y="67"/>
                  </a:lnTo>
                  <a:lnTo>
                    <a:pt x="18" y="89"/>
                  </a:lnTo>
                  <a:lnTo>
                    <a:pt x="33" y="109"/>
                  </a:lnTo>
                  <a:lnTo>
                    <a:pt x="37" y="84"/>
                  </a:lnTo>
                  <a:lnTo>
                    <a:pt x="37" y="67"/>
                  </a:lnTo>
                  <a:lnTo>
                    <a:pt x="56" y="49"/>
                  </a:lnTo>
                  <a:lnTo>
                    <a:pt x="84" y="49"/>
                  </a:lnTo>
                  <a:lnTo>
                    <a:pt x="105" y="60"/>
                  </a:lnTo>
                  <a:lnTo>
                    <a:pt x="133" y="49"/>
                  </a:lnTo>
                  <a:lnTo>
                    <a:pt x="133" y="33"/>
                  </a:lnTo>
                  <a:lnTo>
                    <a:pt x="115" y="11"/>
                  </a:lnTo>
                  <a:lnTo>
                    <a:pt x="84" y="0"/>
                  </a:lnTo>
                  <a:lnTo>
                    <a:pt x="2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7"/>
            <p:cNvSpPr/>
            <p:nvPr/>
          </p:nvSpPr>
          <p:spPr>
            <a:xfrm>
              <a:off x="7714800" y="3921120"/>
              <a:ext cx="121320" cy="74880"/>
            </a:xfrm>
            <a:custGeom>
              <a:avLst/>
              <a:gdLst/>
              <a:ahLst/>
              <a:rect l="l" t="t" r="r" b="b"/>
              <a:pathLst>
                <a:path w="525" h="306">
                  <a:moveTo>
                    <a:pt x="18" y="89"/>
                  </a:moveTo>
                  <a:lnTo>
                    <a:pt x="63" y="46"/>
                  </a:lnTo>
                  <a:lnTo>
                    <a:pt x="119" y="18"/>
                  </a:lnTo>
                  <a:lnTo>
                    <a:pt x="173" y="0"/>
                  </a:lnTo>
                  <a:lnTo>
                    <a:pt x="239" y="0"/>
                  </a:lnTo>
                  <a:lnTo>
                    <a:pt x="311" y="11"/>
                  </a:lnTo>
                  <a:lnTo>
                    <a:pt x="393" y="60"/>
                  </a:lnTo>
                  <a:lnTo>
                    <a:pt x="442" y="116"/>
                  </a:lnTo>
                  <a:lnTo>
                    <a:pt x="469" y="166"/>
                  </a:lnTo>
                  <a:lnTo>
                    <a:pt x="491" y="231"/>
                  </a:lnTo>
                  <a:lnTo>
                    <a:pt x="525" y="299"/>
                  </a:lnTo>
                  <a:lnTo>
                    <a:pt x="491" y="306"/>
                  </a:lnTo>
                  <a:lnTo>
                    <a:pt x="442" y="306"/>
                  </a:lnTo>
                  <a:lnTo>
                    <a:pt x="389" y="299"/>
                  </a:lnTo>
                  <a:lnTo>
                    <a:pt x="316" y="269"/>
                  </a:lnTo>
                  <a:lnTo>
                    <a:pt x="250" y="243"/>
                  </a:lnTo>
                  <a:lnTo>
                    <a:pt x="206" y="215"/>
                  </a:lnTo>
                  <a:lnTo>
                    <a:pt x="266" y="227"/>
                  </a:lnTo>
                  <a:lnTo>
                    <a:pt x="333" y="227"/>
                  </a:lnTo>
                  <a:lnTo>
                    <a:pt x="370" y="215"/>
                  </a:lnTo>
                  <a:lnTo>
                    <a:pt x="400" y="194"/>
                  </a:lnTo>
                  <a:lnTo>
                    <a:pt x="415" y="180"/>
                  </a:lnTo>
                  <a:lnTo>
                    <a:pt x="415" y="166"/>
                  </a:lnTo>
                  <a:lnTo>
                    <a:pt x="389" y="120"/>
                  </a:lnTo>
                  <a:lnTo>
                    <a:pt x="333" y="67"/>
                  </a:lnTo>
                  <a:lnTo>
                    <a:pt x="281" y="40"/>
                  </a:lnTo>
                  <a:lnTo>
                    <a:pt x="262" y="40"/>
                  </a:lnTo>
                  <a:lnTo>
                    <a:pt x="222" y="33"/>
                  </a:lnTo>
                  <a:lnTo>
                    <a:pt x="178" y="33"/>
                  </a:lnTo>
                  <a:lnTo>
                    <a:pt x="161" y="51"/>
                  </a:lnTo>
                  <a:lnTo>
                    <a:pt x="157" y="77"/>
                  </a:lnTo>
                  <a:lnTo>
                    <a:pt x="157" y="100"/>
                  </a:lnTo>
                  <a:lnTo>
                    <a:pt x="129" y="100"/>
                  </a:lnTo>
                  <a:lnTo>
                    <a:pt x="129" y="89"/>
                  </a:lnTo>
                  <a:lnTo>
                    <a:pt x="129" y="77"/>
                  </a:lnTo>
                  <a:lnTo>
                    <a:pt x="129" y="67"/>
                  </a:lnTo>
                  <a:lnTo>
                    <a:pt x="112" y="60"/>
                  </a:lnTo>
                  <a:lnTo>
                    <a:pt x="94" y="70"/>
                  </a:lnTo>
                  <a:lnTo>
                    <a:pt x="89" y="82"/>
                  </a:lnTo>
                  <a:lnTo>
                    <a:pt x="101" y="96"/>
                  </a:lnTo>
                  <a:lnTo>
                    <a:pt x="112" y="100"/>
                  </a:lnTo>
                  <a:lnTo>
                    <a:pt x="157" y="116"/>
                  </a:lnTo>
                  <a:lnTo>
                    <a:pt x="173" y="156"/>
                  </a:lnTo>
                  <a:lnTo>
                    <a:pt x="178" y="205"/>
                  </a:lnTo>
                  <a:lnTo>
                    <a:pt x="112" y="166"/>
                  </a:lnTo>
                  <a:lnTo>
                    <a:pt x="63" y="145"/>
                  </a:lnTo>
                  <a:lnTo>
                    <a:pt x="0" y="116"/>
                  </a:lnTo>
                  <a:lnTo>
                    <a:pt x="1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8"/>
            <p:cNvSpPr/>
            <p:nvPr/>
          </p:nvSpPr>
          <p:spPr>
            <a:xfrm>
              <a:off x="7737480" y="3924000"/>
              <a:ext cx="38520" cy="38160"/>
            </a:xfrm>
            <a:custGeom>
              <a:avLst/>
              <a:gdLst/>
              <a:ahLst/>
              <a:rect l="l" t="t" r="r" b="b"/>
              <a:pathLst>
                <a:path w="168" h="155">
                  <a:moveTo>
                    <a:pt x="168" y="22"/>
                  </a:moveTo>
                  <a:lnTo>
                    <a:pt x="168" y="49"/>
                  </a:lnTo>
                  <a:lnTo>
                    <a:pt x="156" y="89"/>
                  </a:lnTo>
                  <a:lnTo>
                    <a:pt x="128" y="134"/>
                  </a:lnTo>
                  <a:lnTo>
                    <a:pt x="100" y="145"/>
                  </a:lnTo>
                  <a:lnTo>
                    <a:pt x="74" y="155"/>
                  </a:lnTo>
                  <a:lnTo>
                    <a:pt x="0" y="105"/>
                  </a:lnTo>
                  <a:lnTo>
                    <a:pt x="35" y="89"/>
                  </a:lnTo>
                  <a:lnTo>
                    <a:pt x="56" y="71"/>
                  </a:lnTo>
                  <a:lnTo>
                    <a:pt x="63" y="78"/>
                  </a:lnTo>
                  <a:lnTo>
                    <a:pt x="74" y="85"/>
                  </a:lnTo>
                  <a:lnTo>
                    <a:pt x="89" y="89"/>
                  </a:lnTo>
                  <a:lnTo>
                    <a:pt x="123" y="78"/>
                  </a:lnTo>
                  <a:lnTo>
                    <a:pt x="128" y="49"/>
                  </a:lnTo>
                  <a:lnTo>
                    <a:pt x="123" y="35"/>
                  </a:lnTo>
                  <a:lnTo>
                    <a:pt x="89" y="22"/>
                  </a:lnTo>
                  <a:lnTo>
                    <a:pt x="89" y="7"/>
                  </a:lnTo>
                  <a:lnTo>
                    <a:pt x="13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9"/>
            <p:cNvSpPr/>
            <p:nvPr/>
          </p:nvSpPr>
          <p:spPr>
            <a:xfrm>
              <a:off x="7412400" y="3755880"/>
              <a:ext cx="203400" cy="69120"/>
            </a:xfrm>
            <a:custGeom>
              <a:avLst/>
              <a:gdLst/>
              <a:ahLst/>
              <a:rect l="l" t="t" r="r" b="b"/>
              <a:pathLst>
                <a:path w="875" h="279">
                  <a:moveTo>
                    <a:pt x="859" y="279"/>
                  </a:moveTo>
                  <a:lnTo>
                    <a:pt x="826" y="279"/>
                  </a:lnTo>
                  <a:lnTo>
                    <a:pt x="777" y="279"/>
                  </a:lnTo>
                  <a:lnTo>
                    <a:pt x="676" y="218"/>
                  </a:lnTo>
                  <a:lnTo>
                    <a:pt x="470" y="132"/>
                  </a:lnTo>
                  <a:lnTo>
                    <a:pt x="379" y="87"/>
                  </a:lnTo>
                  <a:lnTo>
                    <a:pt x="308" y="43"/>
                  </a:lnTo>
                  <a:lnTo>
                    <a:pt x="246" y="43"/>
                  </a:lnTo>
                  <a:lnTo>
                    <a:pt x="159" y="49"/>
                  </a:lnTo>
                  <a:lnTo>
                    <a:pt x="0" y="87"/>
                  </a:lnTo>
                  <a:lnTo>
                    <a:pt x="170" y="24"/>
                  </a:lnTo>
                  <a:lnTo>
                    <a:pt x="259" y="5"/>
                  </a:lnTo>
                  <a:lnTo>
                    <a:pt x="335" y="0"/>
                  </a:lnTo>
                  <a:lnTo>
                    <a:pt x="384" y="16"/>
                  </a:lnTo>
                  <a:lnTo>
                    <a:pt x="491" y="43"/>
                  </a:lnTo>
                  <a:lnTo>
                    <a:pt x="665" y="120"/>
                  </a:lnTo>
                  <a:lnTo>
                    <a:pt x="782" y="164"/>
                  </a:lnTo>
                  <a:lnTo>
                    <a:pt x="842" y="204"/>
                  </a:lnTo>
                  <a:lnTo>
                    <a:pt x="871" y="223"/>
                  </a:lnTo>
                  <a:lnTo>
                    <a:pt x="875" y="253"/>
                  </a:lnTo>
                  <a:lnTo>
                    <a:pt x="875" y="270"/>
                  </a:lnTo>
                  <a:lnTo>
                    <a:pt x="859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0"/>
            <p:cNvSpPr/>
            <p:nvPr/>
          </p:nvSpPr>
          <p:spPr>
            <a:xfrm>
              <a:off x="7749720" y="3848760"/>
              <a:ext cx="114120" cy="42480"/>
            </a:xfrm>
            <a:custGeom>
              <a:avLst/>
              <a:gdLst/>
              <a:ahLst/>
              <a:rect l="l" t="t" r="r" b="b"/>
              <a:pathLst>
                <a:path w="491" h="169">
                  <a:moveTo>
                    <a:pt x="0" y="71"/>
                  </a:moveTo>
                  <a:lnTo>
                    <a:pt x="0" y="37"/>
                  </a:lnTo>
                  <a:lnTo>
                    <a:pt x="23" y="15"/>
                  </a:lnTo>
                  <a:lnTo>
                    <a:pt x="67" y="0"/>
                  </a:lnTo>
                  <a:lnTo>
                    <a:pt x="143" y="4"/>
                  </a:lnTo>
                  <a:lnTo>
                    <a:pt x="259" y="20"/>
                  </a:lnTo>
                  <a:lnTo>
                    <a:pt x="424" y="77"/>
                  </a:lnTo>
                  <a:lnTo>
                    <a:pt x="475" y="126"/>
                  </a:lnTo>
                  <a:lnTo>
                    <a:pt x="491" y="169"/>
                  </a:lnTo>
                  <a:lnTo>
                    <a:pt x="442" y="138"/>
                  </a:lnTo>
                  <a:lnTo>
                    <a:pt x="337" y="138"/>
                  </a:lnTo>
                  <a:lnTo>
                    <a:pt x="203" y="102"/>
                  </a:lnTo>
                  <a:lnTo>
                    <a:pt x="33" y="8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1"/>
            <p:cNvSpPr/>
            <p:nvPr/>
          </p:nvSpPr>
          <p:spPr>
            <a:xfrm>
              <a:off x="7670160" y="3899160"/>
              <a:ext cx="48600" cy="63360"/>
            </a:xfrm>
            <a:custGeom>
              <a:avLst/>
              <a:gdLst/>
              <a:ahLst/>
              <a:rect l="l" t="t" r="r" b="b"/>
              <a:pathLst>
                <a:path w="210" h="253">
                  <a:moveTo>
                    <a:pt x="161" y="9"/>
                  </a:moveTo>
                  <a:lnTo>
                    <a:pt x="117" y="37"/>
                  </a:lnTo>
                  <a:lnTo>
                    <a:pt x="72" y="82"/>
                  </a:lnTo>
                  <a:lnTo>
                    <a:pt x="34" y="133"/>
                  </a:lnTo>
                  <a:lnTo>
                    <a:pt x="12" y="187"/>
                  </a:lnTo>
                  <a:lnTo>
                    <a:pt x="0" y="253"/>
                  </a:lnTo>
                  <a:lnTo>
                    <a:pt x="34" y="176"/>
                  </a:lnTo>
                  <a:lnTo>
                    <a:pt x="72" y="98"/>
                  </a:lnTo>
                  <a:lnTo>
                    <a:pt x="124" y="56"/>
                  </a:lnTo>
                  <a:lnTo>
                    <a:pt x="210" y="0"/>
                  </a:lnTo>
                  <a:lnTo>
                    <a:pt x="16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2"/>
            <p:cNvSpPr/>
            <p:nvPr/>
          </p:nvSpPr>
          <p:spPr>
            <a:xfrm>
              <a:off x="7650720" y="3981600"/>
              <a:ext cx="43200" cy="147240"/>
            </a:xfrm>
            <a:custGeom>
              <a:avLst/>
              <a:gdLst/>
              <a:ahLst/>
              <a:rect l="l" t="t" r="r" b="b"/>
              <a:pathLst>
                <a:path w="188" h="600">
                  <a:moveTo>
                    <a:pt x="76" y="0"/>
                  </a:moveTo>
                  <a:lnTo>
                    <a:pt x="72" y="127"/>
                  </a:lnTo>
                  <a:lnTo>
                    <a:pt x="76" y="205"/>
                  </a:lnTo>
                  <a:lnTo>
                    <a:pt x="92" y="270"/>
                  </a:lnTo>
                  <a:lnTo>
                    <a:pt x="115" y="331"/>
                  </a:lnTo>
                  <a:lnTo>
                    <a:pt x="143" y="380"/>
                  </a:lnTo>
                  <a:lnTo>
                    <a:pt x="181" y="426"/>
                  </a:lnTo>
                  <a:lnTo>
                    <a:pt x="188" y="469"/>
                  </a:lnTo>
                  <a:lnTo>
                    <a:pt x="176" y="518"/>
                  </a:lnTo>
                  <a:lnTo>
                    <a:pt x="152" y="558"/>
                  </a:lnTo>
                  <a:lnTo>
                    <a:pt x="121" y="585"/>
                  </a:lnTo>
                  <a:lnTo>
                    <a:pt x="99" y="595"/>
                  </a:lnTo>
                  <a:lnTo>
                    <a:pt x="76" y="600"/>
                  </a:lnTo>
                  <a:lnTo>
                    <a:pt x="49" y="600"/>
                  </a:lnTo>
                  <a:lnTo>
                    <a:pt x="16" y="600"/>
                  </a:lnTo>
                  <a:lnTo>
                    <a:pt x="0" y="595"/>
                  </a:lnTo>
                  <a:lnTo>
                    <a:pt x="54" y="595"/>
                  </a:lnTo>
                  <a:lnTo>
                    <a:pt x="92" y="585"/>
                  </a:lnTo>
                  <a:lnTo>
                    <a:pt x="143" y="546"/>
                  </a:lnTo>
                  <a:lnTo>
                    <a:pt x="164" y="497"/>
                  </a:lnTo>
                  <a:lnTo>
                    <a:pt x="164" y="469"/>
                  </a:lnTo>
                  <a:lnTo>
                    <a:pt x="164" y="426"/>
                  </a:lnTo>
                  <a:lnTo>
                    <a:pt x="143" y="391"/>
                  </a:lnTo>
                  <a:lnTo>
                    <a:pt x="103" y="359"/>
                  </a:lnTo>
                  <a:lnTo>
                    <a:pt x="76" y="359"/>
                  </a:lnTo>
                  <a:lnTo>
                    <a:pt x="72" y="386"/>
                  </a:lnTo>
                  <a:lnTo>
                    <a:pt x="54" y="415"/>
                  </a:lnTo>
                  <a:lnTo>
                    <a:pt x="61" y="380"/>
                  </a:lnTo>
                  <a:lnTo>
                    <a:pt x="61" y="326"/>
                  </a:lnTo>
                  <a:lnTo>
                    <a:pt x="49" y="244"/>
                  </a:lnTo>
                  <a:lnTo>
                    <a:pt x="54" y="139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3"/>
            <p:cNvSpPr/>
            <p:nvPr/>
          </p:nvSpPr>
          <p:spPr>
            <a:xfrm>
              <a:off x="7625880" y="4093560"/>
              <a:ext cx="41400" cy="20520"/>
            </a:xfrm>
            <a:custGeom>
              <a:avLst/>
              <a:gdLst/>
              <a:ahLst/>
              <a:rect l="l" t="t" r="r" b="b"/>
              <a:pathLst>
                <a:path w="179" h="83">
                  <a:moveTo>
                    <a:pt x="134" y="0"/>
                  </a:moveTo>
                  <a:lnTo>
                    <a:pt x="89" y="33"/>
                  </a:lnTo>
                  <a:lnTo>
                    <a:pt x="0" y="68"/>
                  </a:lnTo>
                  <a:lnTo>
                    <a:pt x="56" y="56"/>
                  </a:lnTo>
                  <a:lnTo>
                    <a:pt x="123" y="83"/>
                  </a:lnTo>
                  <a:lnTo>
                    <a:pt x="145" y="83"/>
                  </a:lnTo>
                  <a:lnTo>
                    <a:pt x="168" y="79"/>
                  </a:lnTo>
                  <a:lnTo>
                    <a:pt x="179" y="79"/>
                  </a:lnTo>
                  <a:lnTo>
                    <a:pt x="179" y="56"/>
                  </a:lnTo>
                  <a:lnTo>
                    <a:pt x="168" y="33"/>
                  </a:lnTo>
                  <a:lnTo>
                    <a:pt x="156" y="23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4"/>
            <p:cNvSpPr/>
            <p:nvPr/>
          </p:nvSpPr>
          <p:spPr>
            <a:xfrm>
              <a:off x="7567200" y="4074480"/>
              <a:ext cx="45720" cy="18720"/>
            </a:xfrm>
            <a:custGeom>
              <a:avLst/>
              <a:gdLst/>
              <a:ahLst/>
              <a:rect l="l" t="t" r="r" b="b"/>
              <a:pathLst>
                <a:path w="194" h="77">
                  <a:moveTo>
                    <a:pt x="177" y="6"/>
                  </a:moveTo>
                  <a:lnTo>
                    <a:pt x="96" y="0"/>
                  </a:lnTo>
                  <a:lnTo>
                    <a:pt x="46" y="6"/>
                  </a:lnTo>
                  <a:lnTo>
                    <a:pt x="18" y="6"/>
                  </a:lnTo>
                  <a:lnTo>
                    <a:pt x="0" y="21"/>
                  </a:lnTo>
                  <a:lnTo>
                    <a:pt x="0" y="35"/>
                  </a:lnTo>
                  <a:lnTo>
                    <a:pt x="0" y="51"/>
                  </a:lnTo>
                  <a:lnTo>
                    <a:pt x="67" y="77"/>
                  </a:lnTo>
                  <a:lnTo>
                    <a:pt x="90" y="58"/>
                  </a:lnTo>
                  <a:lnTo>
                    <a:pt x="117" y="40"/>
                  </a:lnTo>
                  <a:lnTo>
                    <a:pt x="161" y="35"/>
                  </a:lnTo>
                  <a:lnTo>
                    <a:pt x="177" y="35"/>
                  </a:lnTo>
                  <a:lnTo>
                    <a:pt x="173" y="46"/>
                  </a:lnTo>
                  <a:lnTo>
                    <a:pt x="166" y="51"/>
                  </a:lnTo>
                  <a:lnTo>
                    <a:pt x="184" y="46"/>
                  </a:lnTo>
                  <a:lnTo>
                    <a:pt x="194" y="35"/>
                  </a:lnTo>
                  <a:lnTo>
                    <a:pt x="194" y="11"/>
                  </a:lnTo>
                  <a:lnTo>
                    <a:pt x="17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5"/>
            <p:cNvSpPr/>
            <p:nvPr/>
          </p:nvSpPr>
          <p:spPr>
            <a:xfrm>
              <a:off x="7465680" y="4164120"/>
              <a:ext cx="191880" cy="82440"/>
            </a:xfrm>
            <a:custGeom>
              <a:avLst/>
              <a:gdLst/>
              <a:ahLst/>
              <a:rect l="l" t="t" r="r" b="b"/>
              <a:pathLst>
                <a:path w="825" h="335">
                  <a:moveTo>
                    <a:pt x="0" y="77"/>
                  </a:moveTo>
                  <a:lnTo>
                    <a:pt x="104" y="49"/>
                  </a:lnTo>
                  <a:lnTo>
                    <a:pt x="207" y="16"/>
                  </a:lnTo>
                  <a:lnTo>
                    <a:pt x="303" y="5"/>
                  </a:lnTo>
                  <a:lnTo>
                    <a:pt x="386" y="0"/>
                  </a:lnTo>
                  <a:lnTo>
                    <a:pt x="469" y="5"/>
                  </a:lnTo>
                  <a:lnTo>
                    <a:pt x="518" y="21"/>
                  </a:lnTo>
                  <a:lnTo>
                    <a:pt x="535" y="49"/>
                  </a:lnTo>
                  <a:lnTo>
                    <a:pt x="574" y="98"/>
                  </a:lnTo>
                  <a:lnTo>
                    <a:pt x="677" y="98"/>
                  </a:lnTo>
                  <a:lnTo>
                    <a:pt x="724" y="110"/>
                  </a:lnTo>
                  <a:lnTo>
                    <a:pt x="754" y="147"/>
                  </a:lnTo>
                  <a:lnTo>
                    <a:pt x="787" y="203"/>
                  </a:lnTo>
                  <a:lnTo>
                    <a:pt x="810" y="264"/>
                  </a:lnTo>
                  <a:lnTo>
                    <a:pt x="825" y="335"/>
                  </a:lnTo>
                  <a:lnTo>
                    <a:pt x="766" y="319"/>
                  </a:lnTo>
                  <a:lnTo>
                    <a:pt x="717" y="279"/>
                  </a:lnTo>
                  <a:lnTo>
                    <a:pt x="687" y="252"/>
                  </a:lnTo>
                  <a:lnTo>
                    <a:pt x="677" y="219"/>
                  </a:lnTo>
                  <a:lnTo>
                    <a:pt x="638" y="181"/>
                  </a:lnTo>
                  <a:lnTo>
                    <a:pt x="600" y="163"/>
                  </a:lnTo>
                  <a:lnTo>
                    <a:pt x="551" y="159"/>
                  </a:lnTo>
                  <a:lnTo>
                    <a:pt x="513" y="159"/>
                  </a:lnTo>
                  <a:lnTo>
                    <a:pt x="429" y="103"/>
                  </a:lnTo>
                  <a:lnTo>
                    <a:pt x="364" y="82"/>
                  </a:lnTo>
                  <a:lnTo>
                    <a:pt x="314" y="77"/>
                  </a:lnTo>
                  <a:lnTo>
                    <a:pt x="265" y="77"/>
                  </a:lnTo>
                  <a:lnTo>
                    <a:pt x="199" y="77"/>
                  </a:lnTo>
                  <a:lnTo>
                    <a:pt x="136" y="87"/>
                  </a:lnTo>
                  <a:lnTo>
                    <a:pt x="69" y="98"/>
                  </a:lnTo>
                  <a:lnTo>
                    <a:pt x="20" y="9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6"/>
            <p:cNvSpPr/>
            <p:nvPr/>
          </p:nvSpPr>
          <p:spPr>
            <a:xfrm>
              <a:off x="7466760" y="4183200"/>
              <a:ext cx="183600" cy="113400"/>
            </a:xfrm>
            <a:custGeom>
              <a:avLst/>
              <a:gdLst/>
              <a:ahLst/>
              <a:rect l="l" t="t" r="r" b="b"/>
              <a:pathLst>
                <a:path w="789" h="461">
                  <a:moveTo>
                    <a:pt x="122" y="10"/>
                  </a:moveTo>
                  <a:lnTo>
                    <a:pt x="127" y="66"/>
                  </a:lnTo>
                  <a:lnTo>
                    <a:pt x="143" y="93"/>
                  </a:lnTo>
                  <a:lnTo>
                    <a:pt x="160" y="126"/>
                  </a:lnTo>
                  <a:lnTo>
                    <a:pt x="187" y="142"/>
                  </a:lnTo>
                  <a:lnTo>
                    <a:pt x="220" y="153"/>
                  </a:lnTo>
                  <a:lnTo>
                    <a:pt x="260" y="164"/>
                  </a:lnTo>
                  <a:lnTo>
                    <a:pt x="332" y="182"/>
                  </a:lnTo>
                  <a:lnTo>
                    <a:pt x="419" y="209"/>
                  </a:lnTo>
                  <a:lnTo>
                    <a:pt x="473" y="242"/>
                  </a:lnTo>
                  <a:lnTo>
                    <a:pt x="520" y="262"/>
                  </a:lnTo>
                  <a:lnTo>
                    <a:pt x="557" y="269"/>
                  </a:lnTo>
                  <a:lnTo>
                    <a:pt x="600" y="269"/>
                  </a:lnTo>
                  <a:lnTo>
                    <a:pt x="628" y="262"/>
                  </a:lnTo>
                  <a:lnTo>
                    <a:pt x="656" y="253"/>
                  </a:lnTo>
                  <a:lnTo>
                    <a:pt x="707" y="220"/>
                  </a:lnTo>
                  <a:lnTo>
                    <a:pt x="719" y="197"/>
                  </a:lnTo>
                  <a:lnTo>
                    <a:pt x="789" y="242"/>
                  </a:lnTo>
                  <a:lnTo>
                    <a:pt x="749" y="285"/>
                  </a:lnTo>
                  <a:lnTo>
                    <a:pt x="707" y="374"/>
                  </a:lnTo>
                  <a:lnTo>
                    <a:pt x="677" y="412"/>
                  </a:lnTo>
                  <a:lnTo>
                    <a:pt x="633" y="440"/>
                  </a:lnTo>
                  <a:lnTo>
                    <a:pt x="600" y="452"/>
                  </a:lnTo>
                  <a:lnTo>
                    <a:pt x="551" y="461"/>
                  </a:lnTo>
                  <a:lnTo>
                    <a:pt x="497" y="452"/>
                  </a:lnTo>
                  <a:lnTo>
                    <a:pt x="396" y="430"/>
                  </a:lnTo>
                  <a:lnTo>
                    <a:pt x="332" y="407"/>
                  </a:lnTo>
                  <a:lnTo>
                    <a:pt x="281" y="381"/>
                  </a:lnTo>
                  <a:lnTo>
                    <a:pt x="242" y="340"/>
                  </a:lnTo>
                  <a:lnTo>
                    <a:pt x="309" y="345"/>
                  </a:lnTo>
                  <a:lnTo>
                    <a:pt x="359" y="351"/>
                  </a:lnTo>
                  <a:lnTo>
                    <a:pt x="419" y="374"/>
                  </a:lnTo>
                  <a:lnTo>
                    <a:pt x="473" y="400"/>
                  </a:lnTo>
                  <a:lnTo>
                    <a:pt x="513" y="412"/>
                  </a:lnTo>
                  <a:lnTo>
                    <a:pt x="557" y="412"/>
                  </a:lnTo>
                  <a:lnTo>
                    <a:pt x="591" y="407"/>
                  </a:lnTo>
                  <a:lnTo>
                    <a:pt x="628" y="384"/>
                  </a:lnTo>
                  <a:lnTo>
                    <a:pt x="651" y="363"/>
                  </a:lnTo>
                  <a:lnTo>
                    <a:pt x="672" y="321"/>
                  </a:lnTo>
                  <a:lnTo>
                    <a:pt x="672" y="291"/>
                  </a:lnTo>
                  <a:lnTo>
                    <a:pt x="640" y="307"/>
                  </a:lnTo>
                  <a:lnTo>
                    <a:pt x="595" y="307"/>
                  </a:lnTo>
                  <a:lnTo>
                    <a:pt x="530" y="307"/>
                  </a:lnTo>
                  <a:lnTo>
                    <a:pt x="483" y="285"/>
                  </a:lnTo>
                  <a:lnTo>
                    <a:pt x="441" y="258"/>
                  </a:lnTo>
                  <a:lnTo>
                    <a:pt x="381" y="236"/>
                  </a:lnTo>
                  <a:lnTo>
                    <a:pt x="309" y="220"/>
                  </a:lnTo>
                  <a:lnTo>
                    <a:pt x="225" y="202"/>
                  </a:lnTo>
                  <a:lnTo>
                    <a:pt x="160" y="187"/>
                  </a:lnTo>
                  <a:lnTo>
                    <a:pt x="122" y="175"/>
                  </a:lnTo>
                  <a:lnTo>
                    <a:pt x="82" y="153"/>
                  </a:lnTo>
                  <a:lnTo>
                    <a:pt x="131" y="231"/>
                  </a:lnTo>
                  <a:lnTo>
                    <a:pt x="77" y="175"/>
                  </a:lnTo>
                  <a:lnTo>
                    <a:pt x="51" y="133"/>
                  </a:lnTo>
                  <a:lnTo>
                    <a:pt x="28" y="75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1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7"/>
            <p:cNvSpPr/>
            <p:nvPr/>
          </p:nvSpPr>
          <p:spPr>
            <a:xfrm>
              <a:off x="7593840" y="4115520"/>
              <a:ext cx="16200" cy="55800"/>
            </a:xfrm>
            <a:custGeom>
              <a:avLst/>
              <a:gdLst/>
              <a:ahLst/>
              <a:rect l="l" t="t" r="r" b="b"/>
              <a:pathLst>
                <a:path w="72" h="226">
                  <a:moveTo>
                    <a:pt x="65" y="0"/>
                  </a:moveTo>
                  <a:lnTo>
                    <a:pt x="27" y="54"/>
                  </a:lnTo>
                  <a:lnTo>
                    <a:pt x="5" y="99"/>
                  </a:lnTo>
                  <a:lnTo>
                    <a:pt x="0" y="139"/>
                  </a:lnTo>
                  <a:lnTo>
                    <a:pt x="0" y="171"/>
                  </a:lnTo>
                  <a:lnTo>
                    <a:pt x="0" y="199"/>
                  </a:lnTo>
                  <a:lnTo>
                    <a:pt x="16" y="215"/>
                  </a:lnTo>
                  <a:lnTo>
                    <a:pt x="27" y="226"/>
                  </a:lnTo>
                  <a:lnTo>
                    <a:pt x="49" y="220"/>
                  </a:lnTo>
                  <a:lnTo>
                    <a:pt x="54" y="211"/>
                  </a:lnTo>
                  <a:lnTo>
                    <a:pt x="65" y="188"/>
                  </a:lnTo>
                  <a:lnTo>
                    <a:pt x="72" y="166"/>
                  </a:lnTo>
                  <a:lnTo>
                    <a:pt x="49" y="171"/>
                  </a:lnTo>
                  <a:lnTo>
                    <a:pt x="33" y="171"/>
                  </a:lnTo>
                  <a:lnTo>
                    <a:pt x="23" y="159"/>
                  </a:lnTo>
                  <a:lnTo>
                    <a:pt x="11" y="143"/>
                  </a:lnTo>
                  <a:lnTo>
                    <a:pt x="5" y="121"/>
                  </a:lnTo>
                  <a:lnTo>
                    <a:pt x="11" y="99"/>
                  </a:lnTo>
                  <a:lnTo>
                    <a:pt x="27" y="6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8"/>
            <p:cNvSpPr/>
            <p:nvPr/>
          </p:nvSpPr>
          <p:spPr>
            <a:xfrm>
              <a:off x="7000200" y="3352680"/>
              <a:ext cx="676800" cy="611280"/>
            </a:xfrm>
            <a:custGeom>
              <a:avLst/>
              <a:gdLst/>
              <a:ahLst/>
              <a:rect l="l" t="t" r="r" b="b"/>
              <a:pathLst>
                <a:path w="2915" h="2490">
                  <a:moveTo>
                    <a:pt x="1398" y="304"/>
                  </a:moveTo>
                  <a:lnTo>
                    <a:pt x="1613" y="192"/>
                  </a:lnTo>
                  <a:lnTo>
                    <a:pt x="1735" y="166"/>
                  </a:lnTo>
                  <a:lnTo>
                    <a:pt x="1470" y="360"/>
                  </a:lnTo>
                  <a:lnTo>
                    <a:pt x="1669" y="304"/>
                  </a:lnTo>
                  <a:lnTo>
                    <a:pt x="1470" y="463"/>
                  </a:lnTo>
                  <a:lnTo>
                    <a:pt x="1631" y="431"/>
                  </a:lnTo>
                  <a:lnTo>
                    <a:pt x="1447" y="645"/>
                  </a:lnTo>
                  <a:lnTo>
                    <a:pt x="1323" y="755"/>
                  </a:lnTo>
                  <a:lnTo>
                    <a:pt x="1089" y="891"/>
                  </a:lnTo>
                  <a:lnTo>
                    <a:pt x="742" y="1051"/>
                  </a:lnTo>
                  <a:lnTo>
                    <a:pt x="957" y="891"/>
                  </a:lnTo>
                  <a:lnTo>
                    <a:pt x="1124" y="765"/>
                  </a:lnTo>
                  <a:lnTo>
                    <a:pt x="892" y="842"/>
                  </a:lnTo>
                  <a:lnTo>
                    <a:pt x="1017" y="716"/>
                  </a:lnTo>
                  <a:lnTo>
                    <a:pt x="1138" y="608"/>
                  </a:lnTo>
                  <a:lnTo>
                    <a:pt x="1017" y="661"/>
                  </a:lnTo>
                  <a:lnTo>
                    <a:pt x="1211" y="431"/>
                  </a:lnTo>
                  <a:lnTo>
                    <a:pt x="979" y="645"/>
                  </a:lnTo>
                  <a:lnTo>
                    <a:pt x="758" y="859"/>
                  </a:lnTo>
                  <a:lnTo>
                    <a:pt x="578" y="1090"/>
                  </a:lnTo>
                  <a:lnTo>
                    <a:pt x="401" y="1359"/>
                  </a:lnTo>
                  <a:lnTo>
                    <a:pt x="218" y="1752"/>
                  </a:lnTo>
                  <a:lnTo>
                    <a:pt x="147" y="2093"/>
                  </a:lnTo>
                  <a:lnTo>
                    <a:pt x="0" y="2490"/>
                  </a:lnTo>
                  <a:lnTo>
                    <a:pt x="218" y="2093"/>
                  </a:lnTo>
                  <a:lnTo>
                    <a:pt x="417" y="1883"/>
                  </a:lnTo>
                  <a:lnTo>
                    <a:pt x="600" y="1806"/>
                  </a:lnTo>
                  <a:lnTo>
                    <a:pt x="829" y="1734"/>
                  </a:lnTo>
                  <a:lnTo>
                    <a:pt x="1138" y="1685"/>
                  </a:lnTo>
                  <a:lnTo>
                    <a:pt x="1377" y="1596"/>
                  </a:lnTo>
                  <a:lnTo>
                    <a:pt x="1646" y="1466"/>
                  </a:lnTo>
                  <a:lnTo>
                    <a:pt x="1955" y="1216"/>
                  </a:lnTo>
                  <a:lnTo>
                    <a:pt x="2171" y="949"/>
                  </a:lnTo>
                  <a:lnTo>
                    <a:pt x="2374" y="661"/>
                  </a:lnTo>
                  <a:lnTo>
                    <a:pt x="2557" y="533"/>
                  </a:lnTo>
                  <a:lnTo>
                    <a:pt x="2374" y="558"/>
                  </a:lnTo>
                  <a:lnTo>
                    <a:pt x="2629" y="391"/>
                  </a:lnTo>
                  <a:lnTo>
                    <a:pt x="2573" y="376"/>
                  </a:lnTo>
                  <a:lnTo>
                    <a:pt x="2662" y="286"/>
                  </a:lnTo>
                  <a:lnTo>
                    <a:pt x="2519" y="252"/>
                  </a:lnTo>
                  <a:lnTo>
                    <a:pt x="2644" y="143"/>
                  </a:lnTo>
                  <a:lnTo>
                    <a:pt x="2915" y="56"/>
                  </a:lnTo>
                  <a:lnTo>
                    <a:pt x="2629" y="90"/>
                  </a:lnTo>
                  <a:lnTo>
                    <a:pt x="2501" y="34"/>
                  </a:lnTo>
                  <a:lnTo>
                    <a:pt x="2343" y="0"/>
                  </a:lnTo>
                  <a:lnTo>
                    <a:pt x="2159" y="0"/>
                  </a:lnTo>
                  <a:lnTo>
                    <a:pt x="1883" y="56"/>
                  </a:lnTo>
                  <a:lnTo>
                    <a:pt x="1613" y="166"/>
                  </a:lnTo>
                  <a:lnTo>
                    <a:pt x="1398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9"/>
            <p:cNvSpPr/>
            <p:nvPr/>
          </p:nvSpPr>
          <p:spPr>
            <a:xfrm>
              <a:off x="6647400" y="3669120"/>
              <a:ext cx="764640" cy="1411200"/>
            </a:xfrm>
            <a:custGeom>
              <a:avLst/>
              <a:gdLst/>
              <a:ahLst/>
              <a:rect l="l" t="t" r="r" b="b"/>
              <a:pathLst>
                <a:path w="3298" h="5749">
                  <a:moveTo>
                    <a:pt x="3298" y="56"/>
                  </a:moveTo>
                  <a:lnTo>
                    <a:pt x="2928" y="487"/>
                  </a:lnTo>
                  <a:lnTo>
                    <a:pt x="2656" y="795"/>
                  </a:lnTo>
                  <a:lnTo>
                    <a:pt x="2586" y="933"/>
                  </a:lnTo>
                  <a:lnTo>
                    <a:pt x="2586" y="735"/>
                  </a:lnTo>
                  <a:lnTo>
                    <a:pt x="2443" y="898"/>
                  </a:lnTo>
                  <a:lnTo>
                    <a:pt x="2388" y="1036"/>
                  </a:lnTo>
                  <a:lnTo>
                    <a:pt x="2366" y="1170"/>
                  </a:lnTo>
                  <a:lnTo>
                    <a:pt x="2388" y="1203"/>
                  </a:lnTo>
                  <a:lnTo>
                    <a:pt x="2443" y="1219"/>
                  </a:lnTo>
                  <a:lnTo>
                    <a:pt x="2515" y="1092"/>
                  </a:lnTo>
                  <a:lnTo>
                    <a:pt x="2410" y="1504"/>
                  </a:lnTo>
                  <a:lnTo>
                    <a:pt x="2366" y="1808"/>
                  </a:lnTo>
                  <a:lnTo>
                    <a:pt x="2388" y="1989"/>
                  </a:lnTo>
                  <a:lnTo>
                    <a:pt x="2443" y="2155"/>
                  </a:lnTo>
                  <a:lnTo>
                    <a:pt x="2553" y="2330"/>
                  </a:lnTo>
                  <a:lnTo>
                    <a:pt x="2768" y="2546"/>
                  </a:lnTo>
                  <a:lnTo>
                    <a:pt x="2951" y="2705"/>
                  </a:lnTo>
                  <a:lnTo>
                    <a:pt x="2916" y="2546"/>
                  </a:lnTo>
                  <a:lnTo>
                    <a:pt x="3236" y="3349"/>
                  </a:lnTo>
                  <a:lnTo>
                    <a:pt x="3202" y="3386"/>
                  </a:lnTo>
                  <a:lnTo>
                    <a:pt x="3131" y="3204"/>
                  </a:lnTo>
                  <a:lnTo>
                    <a:pt x="2988" y="3260"/>
                  </a:lnTo>
                  <a:lnTo>
                    <a:pt x="2785" y="3260"/>
                  </a:lnTo>
                  <a:lnTo>
                    <a:pt x="2607" y="3204"/>
                  </a:lnTo>
                  <a:lnTo>
                    <a:pt x="2426" y="3117"/>
                  </a:lnTo>
                  <a:lnTo>
                    <a:pt x="2260" y="3005"/>
                  </a:lnTo>
                  <a:lnTo>
                    <a:pt x="2515" y="3133"/>
                  </a:lnTo>
                  <a:lnTo>
                    <a:pt x="2674" y="3173"/>
                  </a:lnTo>
                  <a:lnTo>
                    <a:pt x="2768" y="3191"/>
                  </a:lnTo>
                  <a:lnTo>
                    <a:pt x="2841" y="3101"/>
                  </a:lnTo>
                  <a:lnTo>
                    <a:pt x="2857" y="3005"/>
                  </a:lnTo>
                  <a:lnTo>
                    <a:pt x="2879" y="2865"/>
                  </a:lnTo>
                  <a:lnTo>
                    <a:pt x="2857" y="2742"/>
                  </a:lnTo>
                  <a:lnTo>
                    <a:pt x="2805" y="2633"/>
                  </a:lnTo>
                  <a:lnTo>
                    <a:pt x="2607" y="2457"/>
                  </a:lnTo>
                  <a:lnTo>
                    <a:pt x="2459" y="2291"/>
                  </a:lnTo>
                  <a:lnTo>
                    <a:pt x="2388" y="2155"/>
                  </a:lnTo>
                  <a:lnTo>
                    <a:pt x="2332" y="1973"/>
                  </a:lnTo>
                  <a:lnTo>
                    <a:pt x="2204" y="2885"/>
                  </a:lnTo>
                  <a:lnTo>
                    <a:pt x="2227" y="2974"/>
                  </a:lnTo>
                  <a:lnTo>
                    <a:pt x="2096" y="2903"/>
                  </a:lnTo>
                  <a:lnTo>
                    <a:pt x="2062" y="2934"/>
                  </a:lnTo>
                  <a:lnTo>
                    <a:pt x="2062" y="3030"/>
                  </a:lnTo>
                  <a:lnTo>
                    <a:pt x="2134" y="3117"/>
                  </a:lnTo>
                  <a:lnTo>
                    <a:pt x="2244" y="3260"/>
                  </a:lnTo>
                  <a:lnTo>
                    <a:pt x="2366" y="3402"/>
                  </a:lnTo>
                  <a:lnTo>
                    <a:pt x="2497" y="3657"/>
                  </a:lnTo>
                  <a:lnTo>
                    <a:pt x="2316" y="3402"/>
                  </a:lnTo>
                  <a:lnTo>
                    <a:pt x="2118" y="3222"/>
                  </a:lnTo>
                  <a:lnTo>
                    <a:pt x="2134" y="3510"/>
                  </a:lnTo>
                  <a:lnTo>
                    <a:pt x="2174" y="3721"/>
                  </a:lnTo>
                  <a:lnTo>
                    <a:pt x="2244" y="3905"/>
                  </a:lnTo>
                  <a:lnTo>
                    <a:pt x="2410" y="4069"/>
                  </a:lnTo>
                  <a:lnTo>
                    <a:pt x="2586" y="4264"/>
                  </a:lnTo>
                  <a:lnTo>
                    <a:pt x="2729" y="3811"/>
                  </a:lnTo>
                  <a:lnTo>
                    <a:pt x="2625" y="4366"/>
                  </a:lnTo>
                  <a:lnTo>
                    <a:pt x="2535" y="4835"/>
                  </a:lnTo>
                  <a:lnTo>
                    <a:pt x="2459" y="5089"/>
                  </a:lnTo>
                  <a:lnTo>
                    <a:pt x="2366" y="5286"/>
                  </a:lnTo>
                  <a:lnTo>
                    <a:pt x="2062" y="5749"/>
                  </a:lnTo>
                  <a:lnTo>
                    <a:pt x="2276" y="5319"/>
                  </a:lnTo>
                  <a:lnTo>
                    <a:pt x="1935" y="5352"/>
                  </a:lnTo>
                  <a:lnTo>
                    <a:pt x="1698" y="5301"/>
                  </a:lnTo>
                  <a:lnTo>
                    <a:pt x="1518" y="5214"/>
                  </a:lnTo>
                  <a:lnTo>
                    <a:pt x="1375" y="5049"/>
                  </a:lnTo>
                  <a:lnTo>
                    <a:pt x="1102" y="4944"/>
                  </a:lnTo>
                  <a:lnTo>
                    <a:pt x="865" y="4802"/>
                  </a:lnTo>
                  <a:lnTo>
                    <a:pt x="682" y="4621"/>
                  </a:lnTo>
                  <a:lnTo>
                    <a:pt x="580" y="4427"/>
                  </a:lnTo>
                  <a:lnTo>
                    <a:pt x="490" y="4141"/>
                  </a:lnTo>
                  <a:lnTo>
                    <a:pt x="490" y="3866"/>
                  </a:lnTo>
                  <a:lnTo>
                    <a:pt x="522" y="3601"/>
                  </a:lnTo>
                  <a:lnTo>
                    <a:pt x="612" y="3372"/>
                  </a:lnTo>
                  <a:lnTo>
                    <a:pt x="720" y="3191"/>
                  </a:lnTo>
                  <a:lnTo>
                    <a:pt x="326" y="3510"/>
                  </a:lnTo>
                  <a:lnTo>
                    <a:pt x="0" y="3746"/>
                  </a:lnTo>
                  <a:lnTo>
                    <a:pt x="303" y="3474"/>
                  </a:lnTo>
                  <a:lnTo>
                    <a:pt x="522" y="3204"/>
                  </a:lnTo>
                  <a:lnTo>
                    <a:pt x="778" y="2865"/>
                  </a:lnTo>
                  <a:lnTo>
                    <a:pt x="991" y="2513"/>
                  </a:lnTo>
                  <a:lnTo>
                    <a:pt x="1190" y="2059"/>
                  </a:lnTo>
                  <a:lnTo>
                    <a:pt x="1429" y="1383"/>
                  </a:lnTo>
                  <a:lnTo>
                    <a:pt x="1736" y="664"/>
                  </a:lnTo>
                  <a:lnTo>
                    <a:pt x="1919" y="519"/>
                  </a:lnTo>
                  <a:lnTo>
                    <a:pt x="1808" y="701"/>
                  </a:lnTo>
                  <a:lnTo>
                    <a:pt x="1879" y="750"/>
                  </a:lnTo>
                  <a:lnTo>
                    <a:pt x="1792" y="806"/>
                  </a:lnTo>
                  <a:lnTo>
                    <a:pt x="1754" y="971"/>
                  </a:lnTo>
                  <a:lnTo>
                    <a:pt x="1848" y="933"/>
                  </a:lnTo>
                  <a:lnTo>
                    <a:pt x="1736" y="1132"/>
                  </a:lnTo>
                  <a:lnTo>
                    <a:pt x="1586" y="1471"/>
                  </a:lnTo>
                  <a:lnTo>
                    <a:pt x="1769" y="1170"/>
                  </a:lnTo>
                  <a:lnTo>
                    <a:pt x="1879" y="1020"/>
                  </a:lnTo>
                  <a:lnTo>
                    <a:pt x="2007" y="915"/>
                  </a:lnTo>
                  <a:lnTo>
                    <a:pt x="1935" y="915"/>
                  </a:lnTo>
                  <a:lnTo>
                    <a:pt x="2028" y="844"/>
                  </a:lnTo>
                  <a:lnTo>
                    <a:pt x="2151" y="701"/>
                  </a:lnTo>
                  <a:lnTo>
                    <a:pt x="2028" y="716"/>
                  </a:lnTo>
                  <a:lnTo>
                    <a:pt x="2174" y="615"/>
                  </a:lnTo>
                  <a:lnTo>
                    <a:pt x="2347" y="540"/>
                  </a:lnTo>
                  <a:lnTo>
                    <a:pt x="2564" y="465"/>
                  </a:lnTo>
                  <a:lnTo>
                    <a:pt x="2785" y="360"/>
                  </a:lnTo>
                  <a:lnTo>
                    <a:pt x="3274" y="0"/>
                  </a:lnTo>
                  <a:lnTo>
                    <a:pt x="329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0"/>
            <p:cNvSpPr/>
            <p:nvPr/>
          </p:nvSpPr>
          <p:spPr>
            <a:xfrm>
              <a:off x="7421040" y="3361320"/>
              <a:ext cx="774720" cy="1838520"/>
            </a:xfrm>
            <a:custGeom>
              <a:avLst/>
              <a:gdLst/>
              <a:ahLst/>
              <a:rect l="l" t="t" r="r" b="b"/>
              <a:pathLst>
                <a:path w="3336" h="7487">
                  <a:moveTo>
                    <a:pt x="480" y="682"/>
                  </a:moveTo>
                  <a:lnTo>
                    <a:pt x="689" y="698"/>
                  </a:lnTo>
                  <a:lnTo>
                    <a:pt x="832" y="754"/>
                  </a:lnTo>
                  <a:lnTo>
                    <a:pt x="960" y="881"/>
                  </a:lnTo>
                  <a:lnTo>
                    <a:pt x="1064" y="1042"/>
                  </a:lnTo>
                  <a:lnTo>
                    <a:pt x="1307" y="1414"/>
                  </a:lnTo>
                  <a:lnTo>
                    <a:pt x="1375" y="1613"/>
                  </a:lnTo>
                  <a:lnTo>
                    <a:pt x="1435" y="1868"/>
                  </a:lnTo>
                  <a:lnTo>
                    <a:pt x="1435" y="1613"/>
                  </a:lnTo>
                  <a:lnTo>
                    <a:pt x="1410" y="1381"/>
                  </a:lnTo>
                  <a:lnTo>
                    <a:pt x="1578" y="1651"/>
                  </a:lnTo>
                  <a:lnTo>
                    <a:pt x="1792" y="2025"/>
                  </a:lnTo>
                  <a:lnTo>
                    <a:pt x="1885" y="2200"/>
                  </a:lnTo>
                  <a:lnTo>
                    <a:pt x="1885" y="2439"/>
                  </a:lnTo>
                  <a:lnTo>
                    <a:pt x="1866" y="2724"/>
                  </a:lnTo>
                  <a:lnTo>
                    <a:pt x="1825" y="3012"/>
                  </a:lnTo>
                  <a:lnTo>
                    <a:pt x="1484" y="3728"/>
                  </a:lnTo>
                  <a:lnTo>
                    <a:pt x="1248" y="3995"/>
                  </a:lnTo>
                  <a:lnTo>
                    <a:pt x="993" y="4171"/>
                  </a:lnTo>
                  <a:lnTo>
                    <a:pt x="745" y="4314"/>
                  </a:lnTo>
                  <a:lnTo>
                    <a:pt x="468" y="4354"/>
                  </a:lnTo>
                  <a:lnTo>
                    <a:pt x="412" y="4457"/>
                  </a:lnTo>
                  <a:lnTo>
                    <a:pt x="56" y="4531"/>
                  </a:lnTo>
                  <a:lnTo>
                    <a:pt x="487" y="4513"/>
                  </a:lnTo>
                  <a:lnTo>
                    <a:pt x="850" y="4655"/>
                  </a:lnTo>
                  <a:lnTo>
                    <a:pt x="850" y="4691"/>
                  </a:lnTo>
                  <a:lnTo>
                    <a:pt x="778" y="4745"/>
                  </a:lnTo>
                  <a:lnTo>
                    <a:pt x="618" y="4763"/>
                  </a:lnTo>
                  <a:lnTo>
                    <a:pt x="452" y="4745"/>
                  </a:lnTo>
                  <a:lnTo>
                    <a:pt x="487" y="4925"/>
                  </a:lnTo>
                  <a:lnTo>
                    <a:pt x="562" y="4999"/>
                  </a:lnTo>
                  <a:lnTo>
                    <a:pt x="562" y="5119"/>
                  </a:lnTo>
                  <a:lnTo>
                    <a:pt x="0" y="5229"/>
                  </a:lnTo>
                  <a:lnTo>
                    <a:pt x="595" y="5158"/>
                  </a:lnTo>
                  <a:lnTo>
                    <a:pt x="651" y="5211"/>
                  </a:lnTo>
                  <a:lnTo>
                    <a:pt x="667" y="5282"/>
                  </a:lnTo>
                  <a:lnTo>
                    <a:pt x="651" y="5372"/>
                  </a:lnTo>
                  <a:lnTo>
                    <a:pt x="618" y="5372"/>
                  </a:lnTo>
                  <a:lnTo>
                    <a:pt x="667" y="5443"/>
                  </a:lnTo>
                  <a:lnTo>
                    <a:pt x="667" y="5517"/>
                  </a:lnTo>
                  <a:lnTo>
                    <a:pt x="633" y="5608"/>
                  </a:lnTo>
                  <a:lnTo>
                    <a:pt x="580" y="5641"/>
                  </a:lnTo>
                  <a:lnTo>
                    <a:pt x="359" y="5800"/>
                  </a:lnTo>
                  <a:lnTo>
                    <a:pt x="288" y="6088"/>
                  </a:lnTo>
                  <a:lnTo>
                    <a:pt x="412" y="5818"/>
                  </a:lnTo>
                  <a:lnTo>
                    <a:pt x="546" y="5746"/>
                  </a:lnTo>
                  <a:lnTo>
                    <a:pt x="468" y="6069"/>
                  </a:lnTo>
                  <a:lnTo>
                    <a:pt x="288" y="6860"/>
                  </a:lnTo>
                  <a:lnTo>
                    <a:pt x="164" y="7398"/>
                  </a:lnTo>
                  <a:lnTo>
                    <a:pt x="382" y="7464"/>
                  </a:lnTo>
                  <a:lnTo>
                    <a:pt x="651" y="7487"/>
                  </a:lnTo>
                  <a:lnTo>
                    <a:pt x="850" y="7487"/>
                  </a:lnTo>
                  <a:lnTo>
                    <a:pt x="1031" y="7431"/>
                  </a:lnTo>
                  <a:lnTo>
                    <a:pt x="1157" y="7326"/>
                  </a:lnTo>
                  <a:lnTo>
                    <a:pt x="1307" y="7178"/>
                  </a:lnTo>
                  <a:lnTo>
                    <a:pt x="1410" y="6931"/>
                  </a:lnTo>
                  <a:lnTo>
                    <a:pt x="1410" y="7161"/>
                  </a:lnTo>
                  <a:lnTo>
                    <a:pt x="1339" y="7377"/>
                  </a:lnTo>
                  <a:lnTo>
                    <a:pt x="1285" y="7464"/>
                  </a:lnTo>
                  <a:lnTo>
                    <a:pt x="1555" y="7464"/>
                  </a:lnTo>
                  <a:lnTo>
                    <a:pt x="1825" y="7377"/>
                  </a:lnTo>
                  <a:lnTo>
                    <a:pt x="2102" y="7178"/>
                  </a:lnTo>
                  <a:lnTo>
                    <a:pt x="2316" y="6946"/>
                  </a:lnTo>
                  <a:lnTo>
                    <a:pt x="2515" y="6626"/>
                  </a:lnTo>
                  <a:lnTo>
                    <a:pt x="2665" y="6268"/>
                  </a:lnTo>
                  <a:lnTo>
                    <a:pt x="2735" y="5923"/>
                  </a:lnTo>
                  <a:lnTo>
                    <a:pt x="2735" y="5589"/>
                  </a:lnTo>
                  <a:lnTo>
                    <a:pt x="2917" y="5856"/>
                  </a:lnTo>
                  <a:lnTo>
                    <a:pt x="3062" y="6121"/>
                  </a:lnTo>
                  <a:lnTo>
                    <a:pt x="3093" y="6317"/>
                  </a:lnTo>
                  <a:lnTo>
                    <a:pt x="3093" y="6445"/>
                  </a:lnTo>
                  <a:lnTo>
                    <a:pt x="3044" y="6572"/>
                  </a:lnTo>
                  <a:lnTo>
                    <a:pt x="3205" y="6516"/>
                  </a:lnTo>
                  <a:lnTo>
                    <a:pt x="3299" y="6373"/>
                  </a:lnTo>
                  <a:lnTo>
                    <a:pt x="3336" y="6197"/>
                  </a:lnTo>
                  <a:lnTo>
                    <a:pt x="3336" y="5945"/>
                  </a:lnTo>
                  <a:lnTo>
                    <a:pt x="3260" y="5680"/>
                  </a:lnTo>
                  <a:lnTo>
                    <a:pt x="3133" y="5409"/>
                  </a:lnTo>
                  <a:lnTo>
                    <a:pt x="2823" y="4872"/>
                  </a:lnTo>
                  <a:lnTo>
                    <a:pt x="2593" y="4299"/>
                  </a:lnTo>
                  <a:lnTo>
                    <a:pt x="2497" y="3958"/>
                  </a:lnTo>
                  <a:lnTo>
                    <a:pt x="2497" y="3672"/>
                  </a:lnTo>
                  <a:lnTo>
                    <a:pt x="2553" y="3368"/>
                  </a:lnTo>
                  <a:lnTo>
                    <a:pt x="2665" y="3136"/>
                  </a:lnTo>
                  <a:lnTo>
                    <a:pt x="2702" y="2795"/>
                  </a:lnTo>
                  <a:lnTo>
                    <a:pt x="2681" y="2257"/>
                  </a:lnTo>
                  <a:lnTo>
                    <a:pt x="2533" y="1381"/>
                  </a:lnTo>
                  <a:lnTo>
                    <a:pt x="2395" y="930"/>
                  </a:lnTo>
                  <a:lnTo>
                    <a:pt x="2189" y="537"/>
                  </a:lnTo>
                  <a:lnTo>
                    <a:pt x="2013" y="326"/>
                  </a:lnTo>
                  <a:lnTo>
                    <a:pt x="1721" y="109"/>
                  </a:lnTo>
                  <a:lnTo>
                    <a:pt x="1538" y="38"/>
                  </a:lnTo>
                  <a:lnTo>
                    <a:pt x="1375" y="0"/>
                  </a:lnTo>
                  <a:lnTo>
                    <a:pt x="1236" y="0"/>
                  </a:lnTo>
                  <a:lnTo>
                    <a:pt x="1140" y="0"/>
                  </a:lnTo>
                  <a:lnTo>
                    <a:pt x="977" y="38"/>
                  </a:lnTo>
                  <a:lnTo>
                    <a:pt x="772" y="132"/>
                  </a:lnTo>
                  <a:lnTo>
                    <a:pt x="993" y="71"/>
                  </a:lnTo>
                  <a:lnTo>
                    <a:pt x="1267" y="56"/>
                  </a:lnTo>
                  <a:lnTo>
                    <a:pt x="1064" y="109"/>
                  </a:lnTo>
                  <a:lnTo>
                    <a:pt x="941" y="181"/>
                  </a:lnTo>
                  <a:lnTo>
                    <a:pt x="928" y="237"/>
                  </a:lnTo>
                  <a:lnTo>
                    <a:pt x="1049" y="237"/>
                  </a:lnTo>
                  <a:lnTo>
                    <a:pt x="871" y="375"/>
                  </a:lnTo>
                  <a:lnTo>
                    <a:pt x="1031" y="357"/>
                  </a:lnTo>
                  <a:lnTo>
                    <a:pt x="941" y="429"/>
                  </a:lnTo>
                  <a:lnTo>
                    <a:pt x="1015" y="469"/>
                  </a:lnTo>
                  <a:lnTo>
                    <a:pt x="1127" y="524"/>
                  </a:lnTo>
                  <a:lnTo>
                    <a:pt x="871" y="524"/>
                  </a:lnTo>
                  <a:lnTo>
                    <a:pt x="600" y="574"/>
                  </a:lnTo>
                  <a:lnTo>
                    <a:pt x="48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1"/>
            <p:cNvSpPr/>
            <p:nvPr/>
          </p:nvSpPr>
          <p:spPr>
            <a:xfrm>
              <a:off x="7254000" y="4090320"/>
              <a:ext cx="232200" cy="503640"/>
            </a:xfrm>
            <a:custGeom>
              <a:avLst/>
              <a:gdLst/>
              <a:ahLst/>
              <a:rect l="l" t="t" r="r" b="b"/>
              <a:pathLst>
                <a:path w="997" h="2048">
                  <a:moveTo>
                    <a:pt x="11" y="67"/>
                  </a:moveTo>
                  <a:lnTo>
                    <a:pt x="33" y="44"/>
                  </a:lnTo>
                  <a:lnTo>
                    <a:pt x="77" y="30"/>
                  </a:lnTo>
                  <a:lnTo>
                    <a:pt x="110" y="41"/>
                  </a:lnTo>
                  <a:lnTo>
                    <a:pt x="142" y="56"/>
                  </a:lnTo>
                  <a:lnTo>
                    <a:pt x="738" y="1542"/>
                  </a:lnTo>
                  <a:lnTo>
                    <a:pt x="606" y="1631"/>
                  </a:lnTo>
                  <a:lnTo>
                    <a:pt x="501" y="1740"/>
                  </a:lnTo>
                  <a:lnTo>
                    <a:pt x="374" y="1845"/>
                  </a:lnTo>
                  <a:lnTo>
                    <a:pt x="292" y="1916"/>
                  </a:lnTo>
                  <a:lnTo>
                    <a:pt x="198" y="1984"/>
                  </a:lnTo>
                  <a:lnTo>
                    <a:pt x="154" y="2048"/>
                  </a:lnTo>
                  <a:lnTo>
                    <a:pt x="209" y="1984"/>
                  </a:lnTo>
                  <a:lnTo>
                    <a:pt x="287" y="1939"/>
                  </a:lnTo>
                  <a:lnTo>
                    <a:pt x="386" y="1872"/>
                  </a:lnTo>
                  <a:lnTo>
                    <a:pt x="550" y="1720"/>
                  </a:lnTo>
                  <a:lnTo>
                    <a:pt x="756" y="1560"/>
                  </a:lnTo>
                  <a:lnTo>
                    <a:pt x="827" y="1553"/>
                  </a:lnTo>
                  <a:lnTo>
                    <a:pt x="756" y="1504"/>
                  </a:lnTo>
                  <a:lnTo>
                    <a:pt x="711" y="1410"/>
                  </a:lnTo>
                  <a:lnTo>
                    <a:pt x="887" y="1343"/>
                  </a:lnTo>
                  <a:lnTo>
                    <a:pt x="997" y="1354"/>
                  </a:lnTo>
                  <a:lnTo>
                    <a:pt x="805" y="1279"/>
                  </a:lnTo>
                  <a:lnTo>
                    <a:pt x="606" y="1147"/>
                  </a:lnTo>
                  <a:lnTo>
                    <a:pt x="154" y="41"/>
                  </a:lnTo>
                  <a:lnTo>
                    <a:pt x="110" y="11"/>
                  </a:lnTo>
                  <a:lnTo>
                    <a:pt x="60" y="0"/>
                  </a:lnTo>
                  <a:lnTo>
                    <a:pt x="0" y="30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2"/>
            <p:cNvSpPr/>
            <p:nvPr/>
          </p:nvSpPr>
          <p:spPr>
            <a:xfrm>
              <a:off x="7174080" y="4880160"/>
              <a:ext cx="306360" cy="765720"/>
            </a:xfrm>
            <a:custGeom>
              <a:avLst/>
              <a:gdLst/>
              <a:ahLst/>
              <a:rect l="l" t="t" r="r" b="b"/>
              <a:pathLst>
                <a:path w="1318" h="3117">
                  <a:moveTo>
                    <a:pt x="1318" y="0"/>
                  </a:moveTo>
                  <a:lnTo>
                    <a:pt x="1285" y="138"/>
                  </a:lnTo>
                  <a:lnTo>
                    <a:pt x="1208" y="288"/>
                  </a:lnTo>
                  <a:lnTo>
                    <a:pt x="1098" y="426"/>
                  </a:lnTo>
                  <a:lnTo>
                    <a:pt x="960" y="513"/>
                  </a:lnTo>
                  <a:lnTo>
                    <a:pt x="852" y="606"/>
                  </a:lnTo>
                  <a:lnTo>
                    <a:pt x="779" y="749"/>
                  </a:lnTo>
                  <a:lnTo>
                    <a:pt x="651" y="1191"/>
                  </a:lnTo>
                  <a:lnTo>
                    <a:pt x="473" y="1729"/>
                  </a:lnTo>
                  <a:lnTo>
                    <a:pt x="319" y="2190"/>
                  </a:lnTo>
                  <a:lnTo>
                    <a:pt x="176" y="2621"/>
                  </a:lnTo>
                  <a:lnTo>
                    <a:pt x="0" y="3117"/>
                  </a:lnTo>
                  <a:lnTo>
                    <a:pt x="22" y="3105"/>
                  </a:lnTo>
                  <a:lnTo>
                    <a:pt x="252" y="2487"/>
                  </a:lnTo>
                  <a:lnTo>
                    <a:pt x="461" y="1879"/>
                  </a:lnTo>
                  <a:lnTo>
                    <a:pt x="600" y="1421"/>
                  </a:lnTo>
                  <a:lnTo>
                    <a:pt x="732" y="997"/>
                  </a:lnTo>
                  <a:lnTo>
                    <a:pt x="810" y="734"/>
                  </a:lnTo>
                  <a:lnTo>
                    <a:pt x="881" y="618"/>
                  </a:lnTo>
                  <a:lnTo>
                    <a:pt x="981" y="540"/>
                  </a:lnTo>
                  <a:lnTo>
                    <a:pt x="1120" y="426"/>
                  </a:lnTo>
                  <a:lnTo>
                    <a:pt x="1218" y="319"/>
                  </a:lnTo>
                  <a:lnTo>
                    <a:pt x="1297" y="178"/>
                  </a:lnTo>
                  <a:lnTo>
                    <a:pt x="1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3"/>
            <p:cNvSpPr/>
            <p:nvPr/>
          </p:nvSpPr>
          <p:spPr>
            <a:xfrm>
              <a:off x="7316280" y="4520880"/>
              <a:ext cx="282600" cy="110520"/>
            </a:xfrm>
            <a:custGeom>
              <a:avLst/>
              <a:gdLst/>
              <a:ahLst/>
              <a:rect l="l" t="t" r="r" b="b"/>
              <a:pathLst>
                <a:path w="1215" h="450">
                  <a:moveTo>
                    <a:pt x="641" y="82"/>
                  </a:moveTo>
                  <a:lnTo>
                    <a:pt x="686" y="202"/>
                  </a:lnTo>
                  <a:lnTo>
                    <a:pt x="944" y="199"/>
                  </a:lnTo>
                  <a:lnTo>
                    <a:pt x="983" y="213"/>
                  </a:lnTo>
                  <a:lnTo>
                    <a:pt x="833" y="220"/>
                  </a:lnTo>
                  <a:lnTo>
                    <a:pt x="646" y="241"/>
                  </a:lnTo>
                  <a:lnTo>
                    <a:pt x="192" y="330"/>
                  </a:lnTo>
                  <a:lnTo>
                    <a:pt x="94" y="361"/>
                  </a:lnTo>
                  <a:lnTo>
                    <a:pt x="49" y="389"/>
                  </a:lnTo>
                  <a:lnTo>
                    <a:pt x="18" y="424"/>
                  </a:lnTo>
                  <a:lnTo>
                    <a:pt x="0" y="450"/>
                  </a:lnTo>
                  <a:lnTo>
                    <a:pt x="12" y="408"/>
                  </a:lnTo>
                  <a:lnTo>
                    <a:pt x="49" y="361"/>
                  </a:lnTo>
                  <a:lnTo>
                    <a:pt x="105" y="330"/>
                  </a:lnTo>
                  <a:lnTo>
                    <a:pt x="188" y="296"/>
                  </a:lnTo>
                  <a:lnTo>
                    <a:pt x="431" y="247"/>
                  </a:lnTo>
                  <a:lnTo>
                    <a:pt x="529" y="138"/>
                  </a:lnTo>
                  <a:lnTo>
                    <a:pt x="661" y="22"/>
                  </a:lnTo>
                  <a:lnTo>
                    <a:pt x="773" y="22"/>
                  </a:lnTo>
                  <a:lnTo>
                    <a:pt x="855" y="10"/>
                  </a:lnTo>
                  <a:lnTo>
                    <a:pt x="915" y="0"/>
                  </a:lnTo>
                  <a:lnTo>
                    <a:pt x="998" y="22"/>
                  </a:lnTo>
                  <a:lnTo>
                    <a:pt x="1105" y="33"/>
                  </a:lnTo>
                  <a:lnTo>
                    <a:pt x="1215" y="33"/>
                  </a:lnTo>
                  <a:lnTo>
                    <a:pt x="1047" y="54"/>
                  </a:lnTo>
                  <a:lnTo>
                    <a:pt x="906" y="40"/>
                  </a:lnTo>
                  <a:lnTo>
                    <a:pt x="717" y="54"/>
                  </a:lnTo>
                  <a:lnTo>
                    <a:pt x="649" y="71"/>
                  </a:lnTo>
                  <a:lnTo>
                    <a:pt x="64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4"/>
            <p:cNvSpPr/>
            <p:nvPr/>
          </p:nvSpPr>
          <p:spPr>
            <a:xfrm>
              <a:off x="7476480" y="4671000"/>
              <a:ext cx="101520" cy="32400"/>
            </a:xfrm>
            <a:custGeom>
              <a:avLst/>
              <a:gdLst/>
              <a:ahLst/>
              <a:rect l="l" t="t" r="r" b="b"/>
              <a:pathLst>
                <a:path w="440" h="133">
                  <a:moveTo>
                    <a:pt x="424" y="0"/>
                  </a:moveTo>
                  <a:lnTo>
                    <a:pt x="0" y="133"/>
                  </a:lnTo>
                  <a:lnTo>
                    <a:pt x="356" y="56"/>
                  </a:lnTo>
                  <a:lnTo>
                    <a:pt x="440" y="66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5"/>
            <p:cNvSpPr/>
            <p:nvPr/>
          </p:nvSpPr>
          <p:spPr>
            <a:xfrm>
              <a:off x="6459480" y="4619160"/>
              <a:ext cx="303480" cy="1346400"/>
            </a:xfrm>
            <a:custGeom>
              <a:avLst/>
              <a:gdLst/>
              <a:ahLst/>
              <a:rect l="l" t="t" r="r" b="b"/>
              <a:pathLst>
                <a:path w="1303" h="5483">
                  <a:moveTo>
                    <a:pt x="647" y="0"/>
                  </a:moveTo>
                  <a:lnTo>
                    <a:pt x="430" y="154"/>
                  </a:lnTo>
                  <a:lnTo>
                    <a:pt x="243" y="379"/>
                  </a:lnTo>
                  <a:lnTo>
                    <a:pt x="161" y="578"/>
                  </a:lnTo>
                  <a:lnTo>
                    <a:pt x="56" y="844"/>
                  </a:lnTo>
                  <a:lnTo>
                    <a:pt x="11" y="1144"/>
                  </a:lnTo>
                  <a:lnTo>
                    <a:pt x="0" y="1452"/>
                  </a:lnTo>
                  <a:lnTo>
                    <a:pt x="29" y="1778"/>
                  </a:lnTo>
                  <a:lnTo>
                    <a:pt x="128" y="2218"/>
                  </a:lnTo>
                  <a:lnTo>
                    <a:pt x="331" y="2896"/>
                  </a:lnTo>
                  <a:lnTo>
                    <a:pt x="430" y="3308"/>
                  </a:lnTo>
                  <a:lnTo>
                    <a:pt x="521" y="3770"/>
                  </a:lnTo>
                  <a:lnTo>
                    <a:pt x="601" y="4392"/>
                  </a:lnTo>
                  <a:lnTo>
                    <a:pt x="674" y="4691"/>
                  </a:lnTo>
                  <a:lnTo>
                    <a:pt x="757" y="4916"/>
                  </a:lnTo>
                  <a:lnTo>
                    <a:pt x="889" y="5131"/>
                  </a:lnTo>
                  <a:lnTo>
                    <a:pt x="1045" y="5312"/>
                  </a:lnTo>
                  <a:lnTo>
                    <a:pt x="1158" y="5410"/>
                  </a:lnTo>
                  <a:lnTo>
                    <a:pt x="1275" y="5483"/>
                  </a:lnTo>
                  <a:lnTo>
                    <a:pt x="1303" y="5421"/>
                  </a:lnTo>
                  <a:lnTo>
                    <a:pt x="1143" y="5356"/>
                  </a:lnTo>
                  <a:lnTo>
                    <a:pt x="989" y="5202"/>
                  </a:lnTo>
                  <a:lnTo>
                    <a:pt x="828" y="4970"/>
                  </a:lnTo>
                  <a:lnTo>
                    <a:pt x="701" y="4691"/>
                  </a:lnTo>
                  <a:lnTo>
                    <a:pt x="614" y="4336"/>
                  </a:lnTo>
                  <a:lnTo>
                    <a:pt x="529" y="3660"/>
                  </a:lnTo>
                  <a:lnTo>
                    <a:pt x="458" y="3264"/>
                  </a:lnTo>
                  <a:lnTo>
                    <a:pt x="360" y="2869"/>
                  </a:lnTo>
                  <a:lnTo>
                    <a:pt x="184" y="2246"/>
                  </a:lnTo>
                  <a:lnTo>
                    <a:pt x="90" y="1822"/>
                  </a:lnTo>
                  <a:lnTo>
                    <a:pt x="46" y="1497"/>
                  </a:lnTo>
                  <a:lnTo>
                    <a:pt x="56" y="1144"/>
                  </a:lnTo>
                  <a:lnTo>
                    <a:pt x="118" y="863"/>
                  </a:lnTo>
                  <a:lnTo>
                    <a:pt x="205" y="645"/>
                  </a:lnTo>
                  <a:lnTo>
                    <a:pt x="299" y="477"/>
                  </a:lnTo>
                  <a:lnTo>
                    <a:pt x="415" y="337"/>
                  </a:lnTo>
                  <a:lnTo>
                    <a:pt x="565" y="248"/>
                  </a:lnTo>
                  <a:lnTo>
                    <a:pt x="701" y="236"/>
                  </a:lnTo>
                  <a:lnTo>
                    <a:pt x="846" y="236"/>
                  </a:lnTo>
                  <a:lnTo>
                    <a:pt x="998" y="292"/>
                  </a:lnTo>
                  <a:lnTo>
                    <a:pt x="1143" y="435"/>
                  </a:lnTo>
                  <a:lnTo>
                    <a:pt x="1015" y="281"/>
                  </a:lnTo>
                  <a:lnTo>
                    <a:pt x="828" y="182"/>
                  </a:lnTo>
                  <a:lnTo>
                    <a:pt x="647" y="154"/>
                  </a:lnTo>
                  <a:lnTo>
                    <a:pt x="502" y="198"/>
                  </a:lnTo>
                  <a:lnTo>
                    <a:pt x="540" y="116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6"/>
            <p:cNvSpPr/>
            <p:nvPr/>
          </p:nvSpPr>
          <p:spPr>
            <a:xfrm>
              <a:off x="6713280" y="4782960"/>
              <a:ext cx="396720" cy="1011600"/>
            </a:xfrm>
            <a:custGeom>
              <a:avLst/>
              <a:gdLst/>
              <a:ahLst/>
              <a:rect l="l" t="t" r="r" b="b"/>
              <a:pathLst>
                <a:path w="1714" h="4126">
                  <a:moveTo>
                    <a:pt x="241" y="0"/>
                  </a:moveTo>
                  <a:lnTo>
                    <a:pt x="415" y="255"/>
                  </a:lnTo>
                  <a:lnTo>
                    <a:pt x="612" y="637"/>
                  </a:lnTo>
                  <a:lnTo>
                    <a:pt x="768" y="1088"/>
                  </a:lnTo>
                  <a:lnTo>
                    <a:pt x="914" y="1565"/>
                  </a:lnTo>
                  <a:lnTo>
                    <a:pt x="998" y="1950"/>
                  </a:lnTo>
                  <a:lnTo>
                    <a:pt x="1057" y="2314"/>
                  </a:lnTo>
                  <a:lnTo>
                    <a:pt x="1214" y="2144"/>
                  </a:lnTo>
                  <a:lnTo>
                    <a:pt x="1401" y="1897"/>
                  </a:lnTo>
                  <a:lnTo>
                    <a:pt x="1714" y="1324"/>
                  </a:lnTo>
                  <a:lnTo>
                    <a:pt x="1429" y="1872"/>
                  </a:lnTo>
                  <a:lnTo>
                    <a:pt x="1241" y="2160"/>
                  </a:lnTo>
                  <a:lnTo>
                    <a:pt x="1015" y="2468"/>
                  </a:lnTo>
                  <a:lnTo>
                    <a:pt x="701" y="2783"/>
                  </a:lnTo>
                  <a:lnTo>
                    <a:pt x="387" y="3008"/>
                  </a:lnTo>
                  <a:lnTo>
                    <a:pt x="188" y="3244"/>
                  </a:lnTo>
                  <a:lnTo>
                    <a:pt x="71" y="3476"/>
                  </a:lnTo>
                  <a:lnTo>
                    <a:pt x="29" y="3702"/>
                  </a:lnTo>
                  <a:lnTo>
                    <a:pt x="0" y="4126"/>
                  </a:lnTo>
                  <a:lnTo>
                    <a:pt x="0" y="3717"/>
                  </a:lnTo>
                  <a:lnTo>
                    <a:pt x="45" y="3450"/>
                  </a:lnTo>
                  <a:lnTo>
                    <a:pt x="188" y="3162"/>
                  </a:lnTo>
                  <a:lnTo>
                    <a:pt x="371" y="2952"/>
                  </a:lnTo>
                  <a:lnTo>
                    <a:pt x="584" y="2754"/>
                  </a:lnTo>
                  <a:lnTo>
                    <a:pt x="638" y="2624"/>
                  </a:lnTo>
                  <a:lnTo>
                    <a:pt x="685" y="2457"/>
                  </a:lnTo>
                  <a:lnTo>
                    <a:pt x="685" y="2258"/>
                  </a:lnTo>
                  <a:lnTo>
                    <a:pt x="685" y="1324"/>
                  </a:lnTo>
                  <a:lnTo>
                    <a:pt x="629" y="997"/>
                  </a:lnTo>
                  <a:lnTo>
                    <a:pt x="518" y="637"/>
                  </a:lnTo>
                  <a:lnTo>
                    <a:pt x="401" y="311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7"/>
            <p:cNvSpPr/>
            <p:nvPr/>
          </p:nvSpPr>
          <p:spPr>
            <a:xfrm>
              <a:off x="7766280" y="5170680"/>
              <a:ext cx="82440" cy="264600"/>
            </a:xfrm>
            <a:custGeom>
              <a:avLst/>
              <a:gdLst/>
              <a:ahLst/>
              <a:rect l="l" t="t" r="r" b="b"/>
              <a:pathLst>
                <a:path w="352" h="1084">
                  <a:moveTo>
                    <a:pt x="0" y="60"/>
                  </a:moveTo>
                  <a:lnTo>
                    <a:pt x="59" y="196"/>
                  </a:lnTo>
                  <a:lnTo>
                    <a:pt x="127" y="406"/>
                  </a:lnTo>
                  <a:lnTo>
                    <a:pt x="167" y="582"/>
                  </a:lnTo>
                  <a:lnTo>
                    <a:pt x="187" y="790"/>
                  </a:lnTo>
                  <a:lnTo>
                    <a:pt x="198" y="957"/>
                  </a:lnTo>
                  <a:lnTo>
                    <a:pt x="198" y="1084"/>
                  </a:lnTo>
                  <a:lnTo>
                    <a:pt x="352" y="1046"/>
                  </a:lnTo>
                  <a:lnTo>
                    <a:pt x="291" y="868"/>
                  </a:lnTo>
                  <a:lnTo>
                    <a:pt x="247" y="654"/>
                  </a:lnTo>
                  <a:lnTo>
                    <a:pt x="232" y="439"/>
                  </a:lnTo>
                  <a:lnTo>
                    <a:pt x="209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8"/>
            <p:cNvSpPr/>
            <p:nvPr/>
          </p:nvSpPr>
          <p:spPr>
            <a:xfrm>
              <a:off x="8035200" y="4719600"/>
              <a:ext cx="154800" cy="966240"/>
            </a:xfrm>
            <a:custGeom>
              <a:avLst/>
              <a:gdLst/>
              <a:ahLst/>
              <a:rect l="l" t="t" r="r" b="b"/>
              <a:pathLst>
                <a:path w="668" h="3937">
                  <a:moveTo>
                    <a:pt x="72" y="78"/>
                  </a:moveTo>
                  <a:lnTo>
                    <a:pt x="304" y="727"/>
                  </a:lnTo>
                  <a:lnTo>
                    <a:pt x="443" y="1196"/>
                  </a:lnTo>
                  <a:lnTo>
                    <a:pt x="559" y="1637"/>
                  </a:lnTo>
                  <a:lnTo>
                    <a:pt x="646" y="2155"/>
                  </a:lnTo>
                  <a:lnTo>
                    <a:pt x="668" y="2545"/>
                  </a:lnTo>
                  <a:lnTo>
                    <a:pt x="668" y="2816"/>
                  </a:lnTo>
                  <a:lnTo>
                    <a:pt x="625" y="3123"/>
                  </a:lnTo>
                  <a:lnTo>
                    <a:pt x="579" y="3300"/>
                  </a:lnTo>
                  <a:lnTo>
                    <a:pt x="552" y="3476"/>
                  </a:lnTo>
                  <a:lnTo>
                    <a:pt x="518" y="3679"/>
                  </a:lnTo>
                  <a:lnTo>
                    <a:pt x="454" y="3806"/>
                  </a:lnTo>
                  <a:lnTo>
                    <a:pt x="387" y="3871"/>
                  </a:lnTo>
                  <a:lnTo>
                    <a:pt x="255" y="3937"/>
                  </a:lnTo>
                  <a:lnTo>
                    <a:pt x="375" y="3848"/>
                  </a:lnTo>
                  <a:lnTo>
                    <a:pt x="443" y="3738"/>
                  </a:lnTo>
                  <a:lnTo>
                    <a:pt x="476" y="3634"/>
                  </a:lnTo>
                  <a:lnTo>
                    <a:pt x="492" y="3397"/>
                  </a:lnTo>
                  <a:lnTo>
                    <a:pt x="337" y="3585"/>
                  </a:lnTo>
                  <a:lnTo>
                    <a:pt x="454" y="3420"/>
                  </a:lnTo>
                  <a:lnTo>
                    <a:pt x="529" y="3202"/>
                  </a:lnTo>
                  <a:lnTo>
                    <a:pt x="579" y="2942"/>
                  </a:lnTo>
                  <a:lnTo>
                    <a:pt x="590" y="2605"/>
                  </a:lnTo>
                  <a:lnTo>
                    <a:pt x="559" y="2155"/>
                  </a:lnTo>
                  <a:lnTo>
                    <a:pt x="492" y="1720"/>
                  </a:lnTo>
                  <a:lnTo>
                    <a:pt x="387" y="1206"/>
                  </a:lnTo>
                  <a:lnTo>
                    <a:pt x="255" y="750"/>
                  </a:lnTo>
                  <a:lnTo>
                    <a:pt x="0" y="0"/>
                  </a:lnTo>
                  <a:lnTo>
                    <a:pt x="7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9"/>
            <p:cNvSpPr/>
            <p:nvPr/>
          </p:nvSpPr>
          <p:spPr>
            <a:xfrm>
              <a:off x="6727320" y="5402880"/>
              <a:ext cx="1265040" cy="847080"/>
            </a:xfrm>
            <a:custGeom>
              <a:avLst/>
              <a:gdLst/>
              <a:ahLst/>
              <a:rect l="l" t="t" r="r" b="b"/>
              <a:pathLst>
                <a:path w="5448" h="3451">
                  <a:moveTo>
                    <a:pt x="5448" y="0"/>
                  </a:moveTo>
                  <a:lnTo>
                    <a:pt x="5223" y="0"/>
                  </a:lnTo>
                  <a:lnTo>
                    <a:pt x="4935" y="30"/>
                  </a:lnTo>
                  <a:lnTo>
                    <a:pt x="4649" y="98"/>
                  </a:lnTo>
                  <a:lnTo>
                    <a:pt x="3757" y="435"/>
                  </a:lnTo>
                  <a:lnTo>
                    <a:pt x="3183" y="627"/>
                  </a:lnTo>
                  <a:lnTo>
                    <a:pt x="2680" y="777"/>
                  </a:lnTo>
                  <a:lnTo>
                    <a:pt x="2114" y="926"/>
                  </a:lnTo>
                  <a:lnTo>
                    <a:pt x="1919" y="997"/>
                  </a:lnTo>
                  <a:lnTo>
                    <a:pt x="1645" y="1123"/>
                  </a:lnTo>
                  <a:lnTo>
                    <a:pt x="900" y="1526"/>
                  </a:lnTo>
                  <a:lnTo>
                    <a:pt x="465" y="1823"/>
                  </a:lnTo>
                  <a:lnTo>
                    <a:pt x="23" y="2438"/>
                  </a:lnTo>
                  <a:lnTo>
                    <a:pt x="0" y="2869"/>
                  </a:lnTo>
                  <a:lnTo>
                    <a:pt x="187" y="3154"/>
                  </a:lnTo>
                  <a:lnTo>
                    <a:pt x="228" y="3177"/>
                  </a:lnTo>
                  <a:lnTo>
                    <a:pt x="277" y="3166"/>
                  </a:lnTo>
                  <a:lnTo>
                    <a:pt x="311" y="3143"/>
                  </a:lnTo>
                  <a:lnTo>
                    <a:pt x="327" y="3133"/>
                  </a:lnTo>
                  <a:lnTo>
                    <a:pt x="426" y="3342"/>
                  </a:lnTo>
                  <a:lnTo>
                    <a:pt x="498" y="3424"/>
                  </a:lnTo>
                  <a:lnTo>
                    <a:pt x="536" y="3451"/>
                  </a:lnTo>
                  <a:lnTo>
                    <a:pt x="576" y="3440"/>
                  </a:lnTo>
                  <a:lnTo>
                    <a:pt x="596" y="3391"/>
                  </a:lnTo>
                  <a:lnTo>
                    <a:pt x="615" y="3253"/>
                  </a:lnTo>
                  <a:lnTo>
                    <a:pt x="650" y="2974"/>
                  </a:lnTo>
                  <a:lnTo>
                    <a:pt x="708" y="2747"/>
                  </a:lnTo>
                  <a:lnTo>
                    <a:pt x="824" y="2588"/>
                  </a:lnTo>
                  <a:lnTo>
                    <a:pt x="960" y="2417"/>
                  </a:lnTo>
                  <a:lnTo>
                    <a:pt x="735" y="2648"/>
                  </a:lnTo>
                  <a:lnTo>
                    <a:pt x="636" y="2808"/>
                  </a:lnTo>
                  <a:lnTo>
                    <a:pt x="589" y="2978"/>
                  </a:lnTo>
                  <a:lnTo>
                    <a:pt x="536" y="3054"/>
                  </a:lnTo>
                  <a:lnTo>
                    <a:pt x="437" y="3068"/>
                  </a:lnTo>
                  <a:lnTo>
                    <a:pt x="348" y="3005"/>
                  </a:lnTo>
                  <a:lnTo>
                    <a:pt x="397" y="2501"/>
                  </a:lnTo>
                  <a:lnTo>
                    <a:pt x="636" y="2169"/>
                  </a:lnTo>
                  <a:lnTo>
                    <a:pt x="378" y="2487"/>
                  </a:lnTo>
                  <a:lnTo>
                    <a:pt x="228" y="3042"/>
                  </a:lnTo>
                  <a:lnTo>
                    <a:pt x="128" y="2974"/>
                  </a:lnTo>
                  <a:lnTo>
                    <a:pt x="49" y="2857"/>
                  </a:lnTo>
                  <a:lnTo>
                    <a:pt x="60" y="2476"/>
                  </a:lnTo>
                  <a:lnTo>
                    <a:pt x="465" y="1860"/>
                  </a:lnTo>
                  <a:lnTo>
                    <a:pt x="1177" y="1404"/>
                  </a:lnTo>
                  <a:lnTo>
                    <a:pt x="1755" y="1107"/>
                  </a:lnTo>
                  <a:lnTo>
                    <a:pt x="2085" y="959"/>
                  </a:lnTo>
                  <a:lnTo>
                    <a:pt x="2830" y="765"/>
                  </a:lnTo>
                  <a:lnTo>
                    <a:pt x="3401" y="603"/>
                  </a:lnTo>
                  <a:lnTo>
                    <a:pt x="3937" y="435"/>
                  </a:lnTo>
                  <a:lnTo>
                    <a:pt x="4413" y="259"/>
                  </a:lnTo>
                  <a:lnTo>
                    <a:pt x="4766" y="149"/>
                  </a:lnTo>
                  <a:lnTo>
                    <a:pt x="5113" y="49"/>
                  </a:lnTo>
                  <a:lnTo>
                    <a:pt x="54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0"/>
            <p:cNvSpPr/>
            <p:nvPr/>
          </p:nvSpPr>
          <p:spPr>
            <a:xfrm>
              <a:off x="6915240" y="5967360"/>
              <a:ext cx="263160" cy="234000"/>
            </a:xfrm>
            <a:custGeom>
              <a:avLst/>
              <a:gdLst/>
              <a:ahLst/>
              <a:rect l="l" t="t" r="r" b="b"/>
              <a:pathLst>
                <a:path w="1137" h="958">
                  <a:moveTo>
                    <a:pt x="116" y="61"/>
                  </a:moveTo>
                  <a:lnTo>
                    <a:pt x="150" y="132"/>
                  </a:lnTo>
                  <a:lnTo>
                    <a:pt x="36" y="661"/>
                  </a:lnTo>
                  <a:lnTo>
                    <a:pt x="63" y="728"/>
                  </a:lnTo>
                  <a:lnTo>
                    <a:pt x="123" y="759"/>
                  </a:lnTo>
                  <a:lnTo>
                    <a:pt x="199" y="747"/>
                  </a:lnTo>
                  <a:lnTo>
                    <a:pt x="259" y="735"/>
                  </a:lnTo>
                  <a:lnTo>
                    <a:pt x="308" y="683"/>
                  </a:lnTo>
                  <a:lnTo>
                    <a:pt x="386" y="281"/>
                  </a:lnTo>
                  <a:lnTo>
                    <a:pt x="386" y="650"/>
                  </a:lnTo>
                  <a:lnTo>
                    <a:pt x="435" y="698"/>
                  </a:lnTo>
                  <a:lnTo>
                    <a:pt x="514" y="683"/>
                  </a:lnTo>
                  <a:lnTo>
                    <a:pt x="585" y="661"/>
                  </a:lnTo>
                  <a:lnTo>
                    <a:pt x="636" y="590"/>
                  </a:lnTo>
                  <a:lnTo>
                    <a:pt x="704" y="331"/>
                  </a:lnTo>
                  <a:lnTo>
                    <a:pt x="791" y="232"/>
                  </a:lnTo>
                  <a:lnTo>
                    <a:pt x="971" y="132"/>
                  </a:lnTo>
                  <a:lnTo>
                    <a:pt x="1137" y="0"/>
                  </a:lnTo>
                  <a:lnTo>
                    <a:pt x="962" y="157"/>
                  </a:lnTo>
                  <a:lnTo>
                    <a:pt x="851" y="232"/>
                  </a:lnTo>
                  <a:lnTo>
                    <a:pt x="772" y="309"/>
                  </a:lnTo>
                  <a:lnTo>
                    <a:pt x="723" y="391"/>
                  </a:lnTo>
                  <a:lnTo>
                    <a:pt x="674" y="529"/>
                  </a:lnTo>
                  <a:lnTo>
                    <a:pt x="615" y="679"/>
                  </a:lnTo>
                  <a:lnTo>
                    <a:pt x="566" y="728"/>
                  </a:lnTo>
                  <a:lnTo>
                    <a:pt x="409" y="759"/>
                  </a:lnTo>
                  <a:lnTo>
                    <a:pt x="348" y="759"/>
                  </a:lnTo>
                  <a:lnTo>
                    <a:pt x="288" y="937"/>
                  </a:lnTo>
                  <a:lnTo>
                    <a:pt x="236" y="958"/>
                  </a:lnTo>
                  <a:lnTo>
                    <a:pt x="199" y="946"/>
                  </a:lnTo>
                  <a:lnTo>
                    <a:pt x="139" y="920"/>
                  </a:lnTo>
                  <a:lnTo>
                    <a:pt x="14" y="698"/>
                  </a:lnTo>
                  <a:lnTo>
                    <a:pt x="0" y="623"/>
                  </a:lnTo>
                  <a:lnTo>
                    <a:pt x="100" y="157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51"/>
            <p:cNvSpPr/>
            <p:nvPr/>
          </p:nvSpPr>
          <p:spPr>
            <a:xfrm>
              <a:off x="7203600" y="5694840"/>
              <a:ext cx="848160" cy="304920"/>
            </a:xfrm>
            <a:custGeom>
              <a:avLst/>
              <a:gdLst/>
              <a:ahLst/>
              <a:rect l="l" t="t" r="r" b="b"/>
              <a:pathLst>
                <a:path w="3652" h="1243">
                  <a:moveTo>
                    <a:pt x="3652" y="0"/>
                  </a:moveTo>
                  <a:lnTo>
                    <a:pt x="3168" y="84"/>
                  </a:lnTo>
                  <a:lnTo>
                    <a:pt x="2283" y="170"/>
                  </a:lnTo>
                  <a:lnTo>
                    <a:pt x="1396" y="297"/>
                  </a:lnTo>
                  <a:lnTo>
                    <a:pt x="726" y="447"/>
                  </a:lnTo>
                  <a:lnTo>
                    <a:pt x="438" y="540"/>
                  </a:lnTo>
                  <a:lnTo>
                    <a:pt x="278" y="627"/>
                  </a:lnTo>
                  <a:lnTo>
                    <a:pt x="199" y="714"/>
                  </a:lnTo>
                  <a:lnTo>
                    <a:pt x="90" y="913"/>
                  </a:lnTo>
                  <a:lnTo>
                    <a:pt x="0" y="1034"/>
                  </a:lnTo>
                  <a:lnTo>
                    <a:pt x="90" y="947"/>
                  </a:lnTo>
                  <a:lnTo>
                    <a:pt x="150" y="898"/>
                  </a:lnTo>
                  <a:lnTo>
                    <a:pt x="2219" y="1243"/>
                  </a:lnTo>
                  <a:lnTo>
                    <a:pt x="2320" y="1233"/>
                  </a:lnTo>
                  <a:lnTo>
                    <a:pt x="2320" y="1205"/>
                  </a:lnTo>
                  <a:lnTo>
                    <a:pt x="2219" y="1221"/>
                  </a:lnTo>
                  <a:lnTo>
                    <a:pt x="438" y="924"/>
                  </a:lnTo>
                  <a:lnTo>
                    <a:pt x="527" y="835"/>
                  </a:lnTo>
                  <a:lnTo>
                    <a:pt x="576" y="701"/>
                  </a:lnTo>
                  <a:lnTo>
                    <a:pt x="637" y="617"/>
                  </a:lnTo>
                  <a:lnTo>
                    <a:pt x="735" y="540"/>
                  </a:lnTo>
                  <a:lnTo>
                    <a:pt x="974" y="451"/>
                  </a:lnTo>
                  <a:lnTo>
                    <a:pt x="824" y="451"/>
                  </a:lnTo>
                  <a:lnTo>
                    <a:pt x="1098" y="384"/>
                  </a:lnTo>
                  <a:lnTo>
                    <a:pt x="1414" y="320"/>
                  </a:lnTo>
                  <a:lnTo>
                    <a:pt x="2037" y="248"/>
                  </a:lnTo>
                  <a:lnTo>
                    <a:pt x="2594" y="197"/>
                  </a:lnTo>
                  <a:lnTo>
                    <a:pt x="3047" y="137"/>
                  </a:lnTo>
                  <a:lnTo>
                    <a:pt x="3337" y="84"/>
                  </a:lnTo>
                  <a:lnTo>
                    <a:pt x="36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2"/>
            <p:cNvSpPr/>
            <p:nvPr/>
          </p:nvSpPr>
          <p:spPr>
            <a:xfrm>
              <a:off x="7395840" y="5678640"/>
              <a:ext cx="1077120" cy="320760"/>
            </a:xfrm>
            <a:custGeom>
              <a:avLst/>
              <a:gdLst/>
              <a:ahLst/>
              <a:rect l="l" t="t" r="r" b="b"/>
              <a:pathLst>
                <a:path w="4638" h="1307">
                  <a:moveTo>
                    <a:pt x="0" y="515"/>
                  </a:moveTo>
                  <a:lnTo>
                    <a:pt x="1459" y="740"/>
                  </a:lnTo>
                  <a:lnTo>
                    <a:pt x="1489" y="825"/>
                  </a:lnTo>
                  <a:lnTo>
                    <a:pt x="1506" y="972"/>
                  </a:lnTo>
                  <a:lnTo>
                    <a:pt x="1506" y="1115"/>
                  </a:lnTo>
                  <a:lnTo>
                    <a:pt x="1478" y="1236"/>
                  </a:lnTo>
                  <a:lnTo>
                    <a:pt x="1440" y="1292"/>
                  </a:lnTo>
                  <a:lnTo>
                    <a:pt x="1400" y="1307"/>
                  </a:lnTo>
                  <a:lnTo>
                    <a:pt x="4587" y="665"/>
                  </a:lnTo>
                  <a:lnTo>
                    <a:pt x="4615" y="560"/>
                  </a:lnTo>
                  <a:lnTo>
                    <a:pt x="4638" y="422"/>
                  </a:lnTo>
                  <a:lnTo>
                    <a:pt x="4627" y="297"/>
                  </a:lnTo>
                  <a:lnTo>
                    <a:pt x="4578" y="162"/>
                  </a:lnTo>
                  <a:lnTo>
                    <a:pt x="4542" y="148"/>
                  </a:lnTo>
                  <a:lnTo>
                    <a:pt x="4493" y="120"/>
                  </a:lnTo>
                  <a:lnTo>
                    <a:pt x="3072" y="0"/>
                  </a:lnTo>
                  <a:lnTo>
                    <a:pt x="3033" y="20"/>
                  </a:lnTo>
                  <a:lnTo>
                    <a:pt x="4477" y="141"/>
                  </a:lnTo>
                  <a:lnTo>
                    <a:pt x="4559" y="207"/>
                  </a:lnTo>
                  <a:lnTo>
                    <a:pt x="4587" y="301"/>
                  </a:lnTo>
                  <a:lnTo>
                    <a:pt x="4587" y="422"/>
                  </a:lnTo>
                  <a:lnTo>
                    <a:pt x="4559" y="567"/>
                  </a:lnTo>
                  <a:lnTo>
                    <a:pt x="4526" y="647"/>
                  </a:lnTo>
                  <a:lnTo>
                    <a:pt x="1506" y="1265"/>
                  </a:lnTo>
                  <a:lnTo>
                    <a:pt x="1550" y="1154"/>
                  </a:lnTo>
                  <a:lnTo>
                    <a:pt x="1555" y="1026"/>
                  </a:lnTo>
                  <a:lnTo>
                    <a:pt x="1550" y="899"/>
                  </a:lnTo>
                  <a:lnTo>
                    <a:pt x="1506" y="736"/>
                  </a:lnTo>
                  <a:lnTo>
                    <a:pt x="1489" y="703"/>
                  </a:lnTo>
                  <a:lnTo>
                    <a:pt x="54" y="499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3"/>
            <p:cNvSpPr/>
            <p:nvPr/>
          </p:nvSpPr>
          <p:spPr>
            <a:xfrm>
              <a:off x="7734600" y="5712480"/>
              <a:ext cx="707760" cy="147240"/>
            </a:xfrm>
            <a:custGeom>
              <a:avLst/>
              <a:gdLst/>
              <a:ahLst/>
              <a:rect l="l" t="t" r="r" b="b"/>
              <a:pathLst>
                <a:path w="3051" h="599">
                  <a:moveTo>
                    <a:pt x="42" y="599"/>
                  </a:moveTo>
                  <a:lnTo>
                    <a:pt x="3051" y="7"/>
                  </a:lnTo>
                  <a:lnTo>
                    <a:pt x="3034" y="0"/>
                  </a:lnTo>
                  <a:lnTo>
                    <a:pt x="0" y="573"/>
                  </a:lnTo>
                  <a:lnTo>
                    <a:pt x="42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4"/>
            <p:cNvSpPr/>
            <p:nvPr/>
          </p:nvSpPr>
          <p:spPr>
            <a:xfrm>
              <a:off x="7812360" y="5842080"/>
              <a:ext cx="23400" cy="134280"/>
            </a:xfrm>
            <a:custGeom>
              <a:avLst/>
              <a:gdLst/>
              <a:ahLst/>
              <a:rect l="l" t="t" r="r" b="b"/>
              <a:pathLst>
                <a:path w="100" h="550">
                  <a:moveTo>
                    <a:pt x="0" y="11"/>
                  </a:moveTo>
                  <a:lnTo>
                    <a:pt x="29" y="61"/>
                  </a:lnTo>
                  <a:lnTo>
                    <a:pt x="55" y="180"/>
                  </a:lnTo>
                  <a:lnTo>
                    <a:pt x="67" y="286"/>
                  </a:lnTo>
                  <a:lnTo>
                    <a:pt x="55" y="401"/>
                  </a:lnTo>
                  <a:lnTo>
                    <a:pt x="44" y="480"/>
                  </a:lnTo>
                  <a:lnTo>
                    <a:pt x="29" y="550"/>
                  </a:lnTo>
                  <a:lnTo>
                    <a:pt x="67" y="540"/>
                  </a:lnTo>
                  <a:lnTo>
                    <a:pt x="90" y="440"/>
                  </a:lnTo>
                  <a:lnTo>
                    <a:pt x="100" y="312"/>
                  </a:lnTo>
                  <a:lnTo>
                    <a:pt x="90" y="203"/>
                  </a:lnTo>
                  <a:lnTo>
                    <a:pt x="67" y="100"/>
                  </a:lnTo>
                  <a:lnTo>
                    <a:pt x="2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55"/>
            <p:cNvSpPr/>
            <p:nvPr/>
          </p:nvSpPr>
          <p:spPr>
            <a:xfrm>
              <a:off x="7851240" y="5834520"/>
              <a:ext cx="19440" cy="132480"/>
            </a:xfrm>
            <a:custGeom>
              <a:avLst/>
              <a:gdLst/>
              <a:ahLst/>
              <a:rect l="l" t="t" r="r" b="b"/>
              <a:pathLst>
                <a:path w="87" h="537">
                  <a:moveTo>
                    <a:pt x="0" y="0"/>
                  </a:moveTo>
                  <a:lnTo>
                    <a:pt x="38" y="102"/>
                  </a:lnTo>
                  <a:lnTo>
                    <a:pt x="61" y="212"/>
                  </a:lnTo>
                  <a:lnTo>
                    <a:pt x="61" y="334"/>
                  </a:lnTo>
                  <a:lnTo>
                    <a:pt x="50" y="428"/>
                  </a:lnTo>
                  <a:lnTo>
                    <a:pt x="31" y="537"/>
                  </a:lnTo>
                  <a:lnTo>
                    <a:pt x="61" y="526"/>
                  </a:lnTo>
                  <a:lnTo>
                    <a:pt x="76" y="406"/>
                  </a:lnTo>
                  <a:lnTo>
                    <a:pt x="87" y="301"/>
                  </a:lnTo>
                  <a:lnTo>
                    <a:pt x="87" y="212"/>
                  </a:lnTo>
                  <a:lnTo>
                    <a:pt x="71" y="9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56"/>
            <p:cNvSpPr/>
            <p:nvPr/>
          </p:nvSpPr>
          <p:spPr>
            <a:xfrm>
              <a:off x="8361360" y="5733000"/>
              <a:ext cx="76680" cy="104400"/>
            </a:xfrm>
            <a:custGeom>
              <a:avLst/>
              <a:gdLst/>
              <a:ahLst/>
              <a:rect l="l" t="t" r="r" b="b"/>
              <a:pathLst>
                <a:path w="331" h="424">
                  <a:moveTo>
                    <a:pt x="110" y="0"/>
                  </a:moveTo>
                  <a:lnTo>
                    <a:pt x="0" y="288"/>
                  </a:lnTo>
                  <a:lnTo>
                    <a:pt x="209" y="424"/>
                  </a:lnTo>
                  <a:lnTo>
                    <a:pt x="331" y="187"/>
                  </a:lnTo>
                  <a:lnTo>
                    <a:pt x="192" y="11"/>
                  </a:lnTo>
                  <a:lnTo>
                    <a:pt x="293" y="183"/>
                  </a:lnTo>
                  <a:lnTo>
                    <a:pt x="204" y="381"/>
                  </a:lnTo>
                  <a:lnTo>
                    <a:pt x="43" y="28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7"/>
            <p:cNvSpPr/>
            <p:nvPr/>
          </p:nvSpPr>
          <p:spPr>
            <a:xfrm>
              <a:off x="8319600" y="5739120"/>
              <a:ext cx="23400" cy="126360"/>
            </a:xfrm>
            <a:custGeom>
              <a:avLst/>
              <a:gdLst/>
              <a:ahLst/>
              <a:rect l="l" t="t" r="r" b="b"/>
              <a:pathLst>
                <a:path w="99" h="519">
                  <a:moveTo>
                    <a:pt x="31" y="0"/>
                  </a:moveTo>
                  <a:lnTo>
                    <a:pt x="67" y="51"/>
                  </a:lnTo>
                  <a:lnTo>
                    <a:pt x="87" y="138"/>
                  </a:lnTo>
                  <a:lnTo>
                    <a:pt x="99" y="253"/>
                  </a:lnTo>
                  <a:lnTo>
                    <a:pt x="80" y="408"/>
                  </a:lnTo>
                  <a:lnTo>
                    <a:pt x="67" y="519"/>
                  </a:lnTo>
                  <a:lnTo>
                    <a:pt x="31" y="519"/>
                  </a:lnTo>
                  <a:lnTo>
                    <a:pt x="50" y="358"/>
                  </a:lnTo>
                  <a:lnTo>
                    <a:pt x="67" y="253"/>
                  </a:lnTo>
                  <a:lnTo>
                    <a:pt x="50" y="138"/>
                  </a:lnTo>
                  <a:lnTo>
                    <a:pt x="20" y="51"/>
                  </a:lnTo>
                  <a:lnTo>
                    <a:pt x="0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58"/>
            <p:cNvSpPr/>
            <p:nvPr/>
          </p:nvSpPr>
          <p:spPr>
            <a:xfrm>
              <a:off x="8202600" y="5761080"/>
              <a:ext cx="16200" cy="135360"/>
            </a:xfrm>
            <a:custGeom>
              <a:avLst/>
              <a:gdLst/>
              <a:ahLst/>
              <a:rect l="l" t="t" r="r" b="b"/>
              <a:pathLst>
                <a:path w="72" h="551">
                  <a:moveTo>
                    <a:pt x="0" y="11"/>
                  </a:moveTo>
                  <a:lnTo>
                    <a:pt x="16" y="101"/>
                  </a:lnTo>
                  <a:lnTo>
                    <a:pt x="37" y="209"/>
                  </a:lnTo>
                  <a:lnTo>
                    <a:pt x="27" y="348"/>
                  </a:lnTo>
                  <a:lnTo>
                    <a:pt x="0" y="551"/>
                  </a:lnTo>
                  <a:lnTo>
                    <a:pt x="37" y="529"/>
                  </a:lnTo>
                  <a:lnTo>
                    <a:pt x="72" y="288"/>
                  </a:lnTo>
                  <a:lnTo>
                    <a:pt x="72" y="176"/>
                  </a:lnTo>
                  <a:lnTo>
                    <a:pt x="49" y="83"/>
                  </a:lnTo>
                  <a:lnTo>
                    <a:pt x="2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59"/>
            <p:cNvSpPr/>
            <p:nvPr/>
          </p:nvSpPr>
          <p:spPr>
            <a:xfrm>
              <a:off x="6324480" y="6296040"/>
              <a:ext cx="218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60"/>
            <p:cNvSpPr/>
            <p:nvPr/>
          </p:nvSpPr>
          <p:spPr>
            <a:xfrm>
              <a:off x="6324480" y="6130800"/>
              <a:ext cx="423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61"/>
            <p:cNvSpPr/>
            <p:nvPr/>
          </p:nvSpPr>
          <p:spPr>
            <a:xfrm>
              <a:off x="6874560" y="6130800"/>
              <a:ext cx="4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62"/>
            <p:cNvSpPr/>
            <p:nvPr/>
          </p:nvSpPr>
          <p:spPr>
            <a:xfrm>
              <a:off x="7062840" y="6130800"/>
              <a:ext cx="144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63"/>
            <p:cNvSpPr/>
            <p:nvPr/>
          </p:nvSpPr>
          <p:spPr>
            <a:xfrm>
              <a:off x="6324480" y="5783040"/>
              <a:ext cx="29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64"/>
            <p:cNvSpPr/>
            <p:nvPr/>
          </p:nvSpPr>
          <p:spPr>
            <a:xfrm>
              <a:off x="8464680" y="5783040"/>
              <a:ext cx="47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2"/>
          <p:cNvSpPr txBox="1"/>
          <p:nvPr/>
        </p:nvSpPr>
        <p:spPr>
          <a:xfrm>
            <a:off x="1447920" y="457200"/>
            <a:ext cx="678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at goes 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28954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3282120" y="33764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here,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right hand col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914400" y="1574640"/>
            <a:ext cx="216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 go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895480" y="51055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 to 4 sentenc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mm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wn there on the bottom of the last page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7"/>
          <p:cNvSpPr/>
          <p:nvPr/>
        </p:nvSpPr>
        <p:spPr>
          <a:xfrm>
            <a:off x="5257800" y="5881680"/>
            <a:ext cx="333360" cy="67140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3184560" y="1573200"/>
            <a:ext cx="49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forget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Class, Period, Date,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9"/>
          <p:cNvSpPr/>
          <p:nvPr/>
        </p:nvSpPr>
        <p:spPr>
          <a:xfrm>
            <a:off x="7086600" y="1295280"/>
            <a:ext cx="257040" cy="671760"/>
          </a:xfrm>
          <a:prstGeom prst="upArrow">
            <a:avLst>
              <a:gd name="adj1" fmla="val 50000"/>
              <a:gd name="adj2" fmla="val 65336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>
            <a:off x="190512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2"/>
          <p:cNvSpPr txBox="1"/>
          <p:nvPr/>
        </p:nvSpPr>
        <p:spPr>
          <a:xfrm>
            <a:off x="1219320" y="533520"/>
            <a:ext cx="741672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In the right sleeve of your packet: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965240" y="338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219320" y="19051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Cornell Notes Instruction 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4495680" y="480060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ession S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347920" cy="23619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2346480" cy="2438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424240" y="110664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2666880"/>
            <a:ext cx="65534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you learn             the skill of note                  ta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this skill contribute to your 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1600200"/>
            <a:ext cx="7594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Quickwrite Questions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2987640" cy="278604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1371600" y="45720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he Hidden Curriculum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026" descr="C:\My Download Files\notebook.jpg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4008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027"/>
          <p:cNvSpPr/>
          <p:nvPr/>
        </p:nvSpPr>
        <p:spPr>
          <a:xfrm>
            <a:off x="4189680" y="4572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hrop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WordArt 1028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inth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iology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2" name="Text Box 1029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C:\My Download Files\lecture.jpg"/>
          <p:cNvPicPr/>
          <p:nvPr/>
        </p:nvPicPr>
        <p:blipFill>
          <a:blip r:embed="rId1"/>
          <a:stretch/>
        </p:blipFill>
        <p:spPr>
          <a:xfrm>
            <a:off x="3581280" y="228600"/>
            <a:ext cx="5211720" cy="6400800"/>
          </a:xfrm>
          <a:prstGeom prst="rect">
            <a:avLst/>
          </a:prstGeom>
          <a:ln w="0">
            <a:noFill/>
          </a:ln>
        </p:spPr>
      </p:pic>
      <p:sp>
        <p:nvSpPr>
          <p:cNvPr id="444" name="WordArt 3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hysics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in Colleg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026" descr="C:\My Download Files\summary.jpg"/>
          <p:cNvPicPr/>
          <p:nvPr/>
        </p:nvPicPr>
        <p:blipFill>
          <a:blip r:embed="rId1"/>
          <a:stretch/>
        </p:blipFill>
        <p:spPr>
          <a:xfrm>
            <a:off x="2666880" y="228600"/>
            <a:ext cx="6195960" cy="6400800"/>
          </a:xfrm>
          <a:prstGeom prst="rect">
            <a:avLst/>
          </a:prstGeom>
          <a:ln w="0">
            <a:noFill/>
          </a:ln>
        </p:spPr>
      </p:pic>
      <p:sp>
        <p:nvSpPr>
          <p:cNvPr id="447" name="WordArt 1027"/>
          <p:cNvSpPr txBox="1"/>
          <p:nvPr/>
        </p:nvSpPr>
        <p:spPr>
          <a:xfrm>
            <a:off x="1066680" y="35812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ummary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/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agram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8" name="Text Box 1028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5" descr="D:\My Documents\LACOE\Graphics\APES Cornell notes.jpg"/>
          <p:cNvPicPr/>
          <p:nvPr/>
        </p:nvPicPr>
        <p:blipFill>
          <a:blip r:embed="rId1"/>
          <a:stretch/>
        </p:blipFill>
        <p:spPr>
          <a:xfrm>
            <a:off x="3249720" y="228600"/>
            <a:ext cx="5894280" cy="64008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3676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y reflect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eadings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in PowerPoint lectur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Leave room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 the lef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questions and diagra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ve plenty of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room within the outl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student note-tak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WordArt 6"/>
          <p:cNvSpPr txBox="1"/>
          <p:nvPr/>
        </p:nvSpPr>
        <p:spPr>
          <a:xfrm>
            <a:off x="1066680" y="45720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Computerized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4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students with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kelet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ized Cornell no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-cop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ir notes that night into their jour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utomatic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Kinestheti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 edit, look-up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mpts higher-level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bsentee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can target on what they need to kn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4"/>
          <p:cNvSpPr txBox="1"/>
          <p:nvPr/>
        </p:nvSpPr>
        <p:spPr>
          <a:xfrm>
            <a:off x="1066680" y="533520"/>
            <a:ext cx="7620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daptations for Journal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aphicFrame>
        <p:nvGraphicFramePr>
          <p:cNvPr id="454" name="Object 8"/>
          <p:cNvGraphicFramePr/>
          <p:nvPr/>
        </p:nvGraphicFramePr>
        <p:xfrm>
          <a:off x="7010280" y="3124080"/>
          <a:ext cx="184464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124080"/>
                    <a:ext cx="184464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4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3"/>
          <p:cNvSpPr txBox="1"/>
          <p:nvPr/>
        </p:nvSpPr>
        <p:spPr>
          <a:xfrm rot="16200000">
            <a:off x="-323640" y="3523680"/>
            <a:ext cx="3962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ing Rubric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57" name="Object 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697440" cy="6400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124080" y="1294920"/>
            <a:ext cx="5639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Arial"/>
              </a:rPr>
              <a:t>(Overview: quickly scan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(Establish a purpose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33"/>
                </a:solidFill>
                <a:latin typeface="Arial"/>
              </a:rPr>
              <a:t>(to answer question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(answers to questions with the book closed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007c"/>
                </a:solidFill>
                <a:latin typeface="Arial"/>
              </a:rPr>
              <a:t>(Take notes!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Arial"/>
              </a:rPr>
              <a:t>(at short interva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WordArt 3"/>
          <p:cNvSpPr txBox="1"/>
          <p:nvPr/>
        </p:nvSpPr>
        <p:spPr>
          <a:xfrm>
            <a:off x="1066680" y="53352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Q4R-Writing to Learn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60" name="Picture 5" descr="[SURVEY]"/>
          <p:cNvPicPr/>
          <p:nvPr/>
        </p:nvPicPr>
        <p:blipFill>
          <a:blip r:embed="rId1"/>
          <a:stretch/>
        </p:blipFill>
        <p:spPr>
          <a:xfrm>
            <a:off x="1219320" y="1303200"/>
            <a:ext cx="1904760" cy="746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[QUESTION]"/>
          <p:cNvPicPr/>
          <p:nvPr/>
        </p:nvPicPr>
        <p:blipFill>
          <a:blip r:embed="rId2"/>
          <a:stretch/>
        </p:blipFill>
        <p:spPr>
          <a:xfrm>
            <a:off x="1219320" y="2057400"/>
            <a:ext cx="198108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[READ]"/>
          <p:cNvPicPr/>
          <p:nvPr/>
        </p:nvPicPr>
        <p:blipFill>
          <a:blip r:embed="rId3"/>
          <a:stretch/>
        </p:blipFill>
        <p:spPr>
          <a:xfrm>
            <a:off x="1371600" y="297180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[RECITE]"/>
          <p:cNvPicPr/>
          <p:nvPr/>
        </p:nvPicPr>
        <p:blipFill>
          <a:blip r:embed="rId4"/>
          <a:stretch/>
        </p:blipFill>
        <p:spPr>
          <a:xfrm>
            <a:off x="1295280" y="3733920"/>
            <a:ext cx="1650960" cy="7063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[WRITE]"/>
          <p:cNvPicPr/>
          <p:nvPr/>
        </p:nvPicPr>
        <p:blipFill>
          <a:blip r:embed="rId5"/>
          <a:stretch/>
        </p:blipFill>
        <p:spPr>
          <a:xfrm>
            <a:off x="1371600" y="48006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[REVIEW]"/>
          <p:cNvPicPr/>
          <p:nvPr/>
        </p:nvPicPr>
        <p:blipFill>
          <a:blip r:embed="rId6"/>
          <a:stretch/>
        </p:blipFill>
        <p:spPr>
          <a:xfrm>
            <a:off x="1295280" y="5562720"/>
            <a:ext cx="1568520" cy="69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4" dur="1" fill="hold"/>
                                  <p:tgtEl>
                                    <p:spTgt spid="45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Learning Lo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135576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994680" y="1676520"/>
            <a:ext cx="775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writing technique to help foc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what you are learning in cla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in your learning log i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way to use writing a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of discovery and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rification of idea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7284960" y="4724280"/>
            <a:ext cx="1368360" cy="1717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Note Taking Tip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919440" y="1676520"/>
            <a:ext cx="788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peaker s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,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k who is considered to be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odern medicine,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n on the island of Co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0 B.C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 s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 (Gr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ed. B. Cos 460B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514600" y="1096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n Activ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000" spc="-1" strike="noStrike" u="sng">
                <a:solidFill>
                  <a:srgbClr val="000000"/>
                </a:solidFill>
                <a:uFillTx/>
                <a:latin typeface="Arial"/>
              </a:rPr>
              <a:t>Think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bout the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 how the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parts relate to the whole</a:t>
            </a: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 how the text relates to previou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questions about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new words</a:t>
            </a: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 terms, why emphasized points a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ine what you have                 learned from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vis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3" dur="1" fill="hold"/>
                                  <p:tgtEl>
                                    <p:spTgt spid="4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1600200"/>
            <a:ext cx="7010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itical thinking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member what is s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ood set of notes can help students work on assignments and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pare for tes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utside of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315200" y="1828800"/>
            <a:ext cx="1541520" cy="1752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066680" y="1828800"/>
            <a:ext cx="7620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tter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elements like chapter /subsection  headings, summary points, graphic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Know where to find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index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gloss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1371600" y="1096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ware of Textbook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9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2" dur="1" fill="hold"/>
                                  <p:tgtEl>
                                    <p:spTgt spid="4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1066680" y="1828800"/>
            <a:ext cx="769644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come familiar with the font, symbols, borders, graphics, colors, and layout tha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highlight 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te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 alert to the writer's goal: highlight ideas/ references /opinions that seem significant to their 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oint of view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990720" y="11574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cc0000"/>
                </a:solidFill>
                <a:latin typeface="Arial"/>
              </a:rPr>
              <a:t>Use the text style to identify importan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3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1" dur="1" fill="hold"/>
                                  <p:tgtEl>
                                    <p:spTgt spid="4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026"/>
          <p:cNvSpPr/>
          <p:nvPr/>
        </p:nvSpPr>
        <p:spPr>
          <a:xfrm>
            <a:off x="1066680" y="1828800"/>
            <a:ext cx="79250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headings, key terms, &amp; 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Take down only the important ideas: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brief, but clear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Summarize in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highlight for review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textbook review                             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develop                                         study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28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Take notes whil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030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7" name="WordArt 103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5" dur="1" fill="hold"/>
                                  <p:tgtEl>
                                    <p:spTgt spid="48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028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Review textbook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030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26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Fill in detai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better understa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Identify unclear informatio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/or questions - collaborate for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Delete unnecessary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Review note organization;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rewr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WordArt 103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4" dur="1" fill="hold"/>
                                  <p:tgtEl>
                                    <p:spTgt spid="49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1066680" y="1828800"/>
            <a:ext cx="76201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discussion topics/question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rganiz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your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important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respons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Develop questions to review l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referenc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other                              material as they come                                      to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8" descr="D:\My Documents\LACOE\Graphics\students collaborating.jpg"/>
          <p:cNvPicPr/>
          <p:nvPr/>
        </p:nvPicPr>
        <p:blipFill>
          <a:blip r:embed="rId1"/>
          <a:stretch/>
        </p:blipFill>
        <p:spPr>
          <a:xfrm>
            <a:off x="5867280" y="4952880"/>
            <a:ext cx="2925720" cy="1617840"/>
          </a:xfrm>
          <a:prstGeom prst="rect">
            <a:avLst/>
          </a:prstGeom>
          <a:ln w="0">
            <a:noFill/>
          </a:ln>
        </p:spPr>
      </p:pic>
      <p:sp>
        <p:nvSpPr>
          <p:cNvPr id="494" name="WordArt 9"/>
          <p:cNvSpPr txBox="1"/>
          <p:nvPr/>
        </p:nvSpPr>
        <p:spPr>
          <a:xfrm>
            <a:off x="1523880" y="380880"/>
            <a:ext cx="6705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scussion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3" dur="1" fill="hold"/>
                                  <p:tgtEl>
                                    <p:spTgt spid="49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Cover the right sid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your notes; review and answer study questions from the left using the right side as an answer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Quiz yourself out lo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ver the right side with blank                paper;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out answer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     the left column  study                          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Object 69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70"/>
          <p:cNvSpPr/>
          <p:nvPr/>
        </p:nvSpPr>
        <p:spPr>
          <a:xfrm>
            <a:off x="2360880" y="10666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ke use of th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7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7" dur="1" fill="hold"/>
                                  <p:tgtEl>
                                    <p:spTgt spid="4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summaries of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ost important material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the summary/reflection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a quiz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others using notes; exchange and corr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nticipated test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beyond those already in the                          left-hand column and write                          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3886200" y="1096920"/>
            <a:ext cx="13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ri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WordArt 8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5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026"/>
          <p:cNvSpPr/>
          <p:nvPr/>
        </p:nvSpPr>
        <p:spPr>
          <a:xfrm>
            <a:off x="1066680" y="1828800"/>
            <a:ext cx="762012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over note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frequently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keep information and questions                 still unanswered fresh in mind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c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formation from note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28"/>
          <p:cNvSpPr/>
          <p:nvPr/>
        </p:nvSpPr>
        <p:spPr>
          <a:xfrm>
            <a:off x="3657600" y="1096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Object 1029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WordArt 1030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1066680" y="1828800"/>
            <a:ext cx="76201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Exchange not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with others to flesh out information and understanding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notes in study groups to provid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common ground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material for reference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wr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notes if necessa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2743200" y="1096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udy 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Object 5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WordArt 6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4" dur="1" fill="hold"/>
                                  <p:tgtEl>
                                    <p:spTgt spid="5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0" y="22860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Paul Bul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Program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Anne Ma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 Scienc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_x001a_AVID  logo color small.jpg                                     00002A44_x000c_Macintosh HD                   B71C5AB1:"/>
          <p:cNvPicPr/>
          <p:nvPr/>
        </p:nvPicPr>
        <p:blipFill>
          <a:blip r:embed="rId1"/>
          <a:stretch/>
        </p:blipFill>
        <p:spPr>
          <a:xfrm>
            <a:off x="3581280" y="3886200"/>
            <a:ext cx="2293920" cy="2514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066680" y="160020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allow students to help each othe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blem so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help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ze and process da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s stud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c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                     getting them to process                         their notes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541520" cy="1752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0666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Writing is a great tool for lea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143000" y="533520"/>
            <a:ext cx="754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History of Cornell No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600200"/>
            <a:ext cx="769644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in 1949 at Cornell University by Walter Pa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in response to frustration over student  test sc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t to be easily used                               as a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est study gu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pted by most majo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aw schoo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the preferred note taking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6781680" y="3352680"/>
          <a:ext cx="192096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352680"/>
                    <a:ext cx="19209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6095880" y="228600"/>
            <a:ext cx="255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&amp;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31240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296360" y="7081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90720" y="1698480"/>
            <a:ext cx="212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192560" y="213372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6324480" y="586728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205740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586880" y="40845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2209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 flipH="1">
            <a:off x="6094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124080" y="4876920"/>
            <a:ext cx="586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o 4 senten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ttom of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ast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y’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147680" y="360360"/>
            <a:ext cx="64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8667720" y="360360"/>
            <a:ext cx="46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147680" y="671400"/>
            <a:ext cx="64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2984400" y="723960"/>
            <a:ext cx="50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8667720" y="671400"/>
            <a:ext cx="46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147680" y="725400"/>
            <a:ext cx="64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84400" y="725400"/>
            <a:ext cx="504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8667720" y="725400"/>
            <a:ext cx="46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147680" y="1255680"/>
            <a:ext cx="64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1154160" y="6397560"/>
            <a:ext cx="1830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2984400" y="1255680"/>
            <a:ext cx="5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2984400" y="639756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2989440" y="6397560"/>
            <a:ext cx="5678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8667720" y="1255680"/>
            <a:ext cx="46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1130400" y="640224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5"/>
          <p:cNvGrpSpPr/>
          <p:nvPr/>
        </p:nvGrpSpPr>
        <p:grpSpPr>
          <a:xfrm>
            <a:off x="1130040" y="152280"/>
            <a:ext cx="7805160" cy="6420240"/>
            <a:chOff x="1130040" y="152280"/>
            <a:chExt cx="7805160" cy="6420240"/>
          </a:xfrm>
        </p:grpSpPr>
        <p:pic>
          <p:nvPicPr>
            <p:cNvPr id="144" name="Picture 26" descr="C:\My Download Files\concept.jpg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600200" y="4572000"/>
              <a:ext cx="95868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7"/>
            <p:cNvSpPr/>
            <p:nvPr/>
          </p:nvSpPr>
          <p:spPr>
            <a:xfrm>
              <a:off x="1211040" y="36180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ubject: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8"/>
            <p:cNvSpPr/>
            <p:nvPr/>
          </p:nvSpPr>
          <p:spPr>
            <a:xfrm>
              <a:off x="2291040" y="361800"/>
              <a:ext cx="281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"/>
                </a:rPr>
                <a:t>Why take Cornell note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9"/>
            <p:cNvSpPr/>
            <p:nvPr/>
          </p:nvSpPr>
          <p:spPr>
            <a:xfrm>
              <a:off x="4910040" y="361800"/>
              <a:ext cx="388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ate: 11/20/0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0"/>
            <p:cNvSpPr/>
            <p:nvPr/>
          </p:nvSpPr>
          <p:spPr>
            <a:xfrm>
              <a:off x="8555760" y="152280"/>
              <a:ext cx="13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5"/>
            <p:cNvSpPr/>
            <p:nvPr/>
          </p:nvSpPr>
          <p:spPr>
            <a:xfrm>
              <a:off x="1154160" y="353880"/>
              <a:ext cx="7513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1154160" y="353880"/>
              <a:ext cx="751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0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1"/>
            <p:cNvSpPr/>
            <p:nvPr/>
          </p:nvSpPr>
          <p:spPr>
            <a:xfrm>
              <a:off x="1147680" y="360360"/>
              <a:ext cx="180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2"/>
            <p:cNvSpPr/>
            <p:nvPr/>
          </p:nvSpPr>
          <p:spPr>
            <a:xfrm>
              <a:off x="8667720" y="360360"/>
              <a:ext cx="144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3"/>
            <p:cNvSpPr/>
            <p:nvPr/>
          </p:nvSpPr>
          <p:spPr>
            <a:xfrm>
              <a:off x="1530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4"/>
            <p:cNvSpPr/>
            <p:nvPr/>
          </p:nvSpPr>
          <p:spPr>
            <a:xfrm>
              <a:off x="152064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"/>
            <p:cNvSpPr/>
            <p:nvPr/>
          </p:nvSpPr>
          <p:spPr>
            <a:xfrm>
              <a:off x="16794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6"/>
            <p:cNvSpPr/>
            <p:nvPr/>
          </p:nvSpPr>
          <p:spPr>
            <a:xfrm>
              <a:off x="16700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7"/>
            <p:cNvSpPr/>
            <p:nvPr/>
          </p:nvSpPr>
          <p:spPr>
            <a:xfrm>
              <a:off x="1841040" y="7365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8"/>
            <p:cNvSpPr/>
            <p:nvPr/>
          </p:nvSpPr>
          <p:spPr>
            <a:xfrm>
              <a:off x="1831680" y="72720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9"/>
            <p:cNvSpPr/>
            <p:nvPr/>
          </p:nvSpPr>
          <p:spPr>
            <a:xfrm>
              <a:off x="20160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0"/>
            <p:cNvSpPr/>
            <p:nvPr/>
          </p:nvSpPr>
          <p:spPr>
            <a:xfrm>
              <a:off x="20066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1"/>
            <p:cNvSpPr/>
            <p:nvPr/>
          </p:nvSpPr>
          <p:spPr>
            <a:xfrm>
              <a:off x="2178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2"/>
            <p:cNvSpPr/>
            <p:nvPr/>
          </p:nvSpPr>
          <p:spPr>
            <a:xfrm>
              <a:off x="2171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3"/>
            <p:cNvSpPr/>
            <p:nvPr/>
          </p:nvSpPr>
          <p:spPr>
            <a:xfrm>
              <a:off x="23284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4"/>
            <p:cNvSpPr/>
            <p:nvPr/>
          </p:nvSpPr>
          <p:spPr>
            <a:xfrm>
              <a:off x="23191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5"/>
            <p:cNvSpPr/>
            <p:nvPr/>
          </p:nvSpPr>
          <p:spPr>
            <a:xfrm>
              <a:off x="24778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6"/>
            <p:cNvSpPr/>
            <p:nvPr/>
          </p:nvSpPr>
          <p:spPr>
            <a:xfrm>
              <a:off x="2468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7"/>
            <p:cNvSpPr/>
            <p:nvPr/>
          </p:nvSpPr>
          <p:spPr>
            <a:xfrm>
              <a:off x="26269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58"/>
            <p:cNvSpPr/>
            <p:nvPr/>
          </p:nvSpPr>
          <p:spPr>
            <a:xfrm>
              <a:off x="262044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9"/>
            <p:cNvSpPr/>
            <p:nvPr/>
          </p:nvSpPr>
          <p:spPr>
            <a:xfrm>
              <a:off x="167616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0"/>
            <p:cNvSpPr/>
            <p:nvPr/>
          </p:nvSpPr>
          <p:spPr>
            <a:xfrm>
              <a:off x="166644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1"/>
            <p:cNvSpPr/>
            <p:nvPr/>
          </p:nvSpPr>
          <p:spPr>
            <a:xfrm>
              <a:off x="17460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2"/>
            <p:cNvSpPr/>
            <p:nvPr/>
          </p:nvSpPr>
          <p:spPr>
            <a:xfrm>
              <a:off x="173628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3"/>
            <p:cNvSpPr/>
            <p:nvPr/>
          </p:nvSpPr>
          <p:spPr>
            <a:xfrm>
              <a:off x="187776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4"/>
            <p:cNvSpPr/>
            <p:nvPr/>
          </p:nvSpPr>
          <p:spPr>
            <a:xfrm>
              <a:off x="18680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65"/>
            <p:cNvSpPr/>
            <p:nvPr/>
          </p:nvSpPr>
          <p:spPr>
            <a:xfrm>
              <a:off x="200628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6"/>
            <p:cNvSpPr/>
            <p:nvPr/>
          </p:nvSpPr>
          <p:spPr>
            <a:xfrm>
              <a:off x="19983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7"/>
            <p:cNvSpPr/>
            <p:nvPr/>
          </p:nvSpPr>
          <p:spPr>
            <a:xfrm>
              <a:off x="20808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8"/>
            <p:cNvSpPr/>
            <p:nvPr/>
          </p:nvSpPr>
          <p:spPr>
            <a:xfrm>
              <a:off x="20696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69"/>
            <p:cNvSpPr/>
            <p:nvPr/>
          </p:nvSpPr>
          <p:spPr>
            <a:xfrm>
              <a:off x="220788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0"/>
            <p:cNvSpPr/>
            <p:nvPr/>
          </p:nvSpPr>
          <p:spPr>
            <a:xfrm>
              <a:off x="219996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1"/>
            <p:cNvSpPr/>
            <p:nvPr/>
          </p:nvSpPr>
          <p:spPr>
            <a:xfrm>
              <a:off x="233964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72"/>
            <p:cNvSpPr/>
            <p:nvPr/>
          </p:nvSpPr>
          <p:spPr>
            <a:xfrm>
              <a:off x="232992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3"/>
            <p:cNvSpPr/>
            <p:nvPr/>
          </p:nvSpPr>
          <p:spPr>
            <a:xfrm>
              <a:off x="241092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4"/>
            <p:cNvSpPr/>
            <p:nvPr/>
          </p:nvSpPr>
          <p:spPr>
            <a:xfrm>
              <a:off x="24015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5"/>
            <p:cNvSpPr/>
            <p:nvPr/>
          </p:nvSpPr>
          <p:spPr>
            <a:xfrm>
              <a:off x="2480760" y="995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6"/>
            <p:cNvSpPr/>
            <p:nvPr/>
          </p:nvSpPr>
          <p:spPr>
            <a:xfrm>
              <a:off x="2471400" y="98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7"/>
            <p:cNvSpPr/>
            <p:nvPr/>
          </p:nvSpPr>
          <p:spPr>
            <a:xfrm>
              <a:off x="4879800" y="7365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8"/>
            <p:cNvSpPr/>
            <p:nvPr/>
          </p:nvSpPr>
          <p:spPr>
            <a:xfrm>
              <a:off x="4870440" y="72720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9"/>
            <p:cNvSpPr/>
            <p:nvPr/>
          </p:nvSpPr>
          <p:spPr>
            <a:xfrm>
              <a:off x="50688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0"/>
            <p:cNvSpPr/>
            <p:nvPr/>
          </p:nvSpPr>
          <p:spPr>
            <a:xfrm>
              <a:off x="50594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1"/>
            <p:cNvSpPr/>
            <p:nvPr/>
          </p:nvSpPr>
          <p:spPr>
            <a:xfrm>
              <a:off x="51940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82"/>
            <p:cNvSpPr/>
            <p:nvPr/>
          </p:nvSpPr>
          <p:spPr>
            <a:xfrm>
              <a:off x="5184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83"/>
            <p:cNvSpPr/>
            <p:nvPr/>
          </p:nvSpPr>
          <p:spPr>
            <a:xfrm>
              <a:off x="52560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84"/>
            <p:cNvSpPr/>
            <p:nvPr/>
          </p:nvSpPr>
          <p:spPr>
            <a:xfrm>
              <a:off x="5246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5"/>
            <p:cNvSpPr/>
            <p:nvPr/>
          </p:nvSpPr>
          <p:spPr>
            <a:xfrm>
              <a:off x="53938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6"/>
            <p:cNvSpPr/>
            <p:nvPr/>
          </p:nvSpPr>
          <p:spPr>
            <a:xfrm>
              <a:off x="538452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87"/>
            <p:cNvSpPr/>
            <p:nvPr/>
          </p:nvSpPr>
          <p:spPr>
            <a:xfrm>
              <a:off x="54558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8"/>
            <p:cNvSpPr/>
            <p:nvPr/>
          </p:nvSpPr>
          <p:spPr>
            <a:xfrm>
              <a:off x="54478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9"/>
            <p:cNvSpPr/>
            <p:nvPr/>
          </p:nvSpPr>
          <p:spPr>
            <a:xfrm>
              <a:off x="55195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90"/>
            <p:cNvSpPr/>
            <p:nvPr/>
          </p:nvSpPr>
          <p:spPr>
            <a:xfrm>
              <a:off x="55098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91"/>
            <p:cNvSpPr/>
            <p:nvPr/>
          </p:nvSpPr>
          <p:spPr>
            <a:xfrm>
              <a:off x="565776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2"/>
            <p:cNvSpPr/>
            <p:nvPr/>
          </p:nvSpPr>
          <p:spPr>
            <a:xfrm>
              <a:off x="564840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3"/>
            <p:cNvSpPr/>
            <p:nvPr/>
          </p:nvSpPr>
          <p:spPr>
            <a:xfrm>
              <a:off x="57816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4"/>
            <p:cNvSpPr/>
            <p:nvPr/>
          </p:nvSpPr>
          <p:spPr>
            <a:xfrm>
              <a:off x="57722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5"/>
            <p:cNvSpPr/>
            <p:nvPr/>
          </p:nvSpPr>
          <p:spPr>
            <a:xfrm>
              <a:off x="590724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6"/>
            <p:cNvSpPr/>
            <p:nvPr/>
          </p:nvSpPr>
          <p:spPr>
            <a:xfrm>
              <a:off x="589752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97"/>
            <p:cNvSpPr/>
            <p:nvPr/>
          </p:nvSpPr>
          <p:spPr>
            <a:xfrm>
              <a:off x="6030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8"/>
            <p:cNvSpPr/>
            <p:nvPr/>
          </p:nvSpPr>
          <p:spPr>
            <a:xfrm>
              <a:off x="602100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9"/>
            <p:cNvSpPr/>
            <p:nvPr/>
          </p:nvSpPr>
          <p:spPr>
            <a:xfrm>
              <a:off x="60944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00"/>
            <p:cNvSpPr/>
            <p:nvPr/>
          </p:nvSpPr>
          <p:spPr>
            <a:xfrm>
              <a:off x="608652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1"/>
            <p:cNvSpPr/>
            <p:nvPr/>
          </p:nvSpPr>
          <p:spPr>
            <a:xfrm>
              <a:off x="61704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2"/>
            <p:cNvSpPr/>
            <p:nvPr/>
          </p:nvSpPr>
          <p:spPr>
            <a:xfrm>
              <a:off x="61606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3"/>
            <p:cNvSpPr/>
            <p:nvPr/>
          </p:nvSpPr>
          <p:spPr>
            <a:xfrm>
              <a:off x="62323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4"/>
            <p:cNvSpPr/>
            <p:nvPr/>
          </p:nvSpPr>
          <p:spPr>
            <a:xfrm>
              <a:off x="62226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05"/>
            <p:cNvSpPr/>
            <p:nvPr/>
          </p:nvSpPr>
          <p:spPr>
            <a:xfrm>
              <a:off x="63702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06"/>
            <p:cNvSpPr/>
            <p:nvPr/>
          </p:nvSpPr>
          <p:spPr>
            <a:xfrm>
              <a:off x="636084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7"/>
            <p:cNvSpPr/>
            <p:nvPr/>
          </p:nvSpPr>
          <p:spPr>
            <a:xfrm>
              <a:off x="650664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8"/>
            <p:cNvSpPr/>
            <p:nvPr/>
          </p:nvSpPr>
          <p:spPr>
            <a:xfrm>
              <a:off x="6497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9"/>
            <p:cNvSpPr/>
            <p:nvPr/>
          </p:nvSpPr>
          <p:spPr>
            <a:xfrm>
              <a:off x="66452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10"/>
            <p:cNvSpPr/>
            <p:nvPr/>
          </p:nvSpPr>
          <p:spPr>
            <a:xfrm>
              <a:off x="663588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1"/>
            <p:cNvSpPr/>
            <p:nvPr/>
          </p:nvSpPr>
          <p:spPr>
            <a:xfrm>
              <a:off x="672156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2"/>
            <p:cNvSpPr/>
            <p:nvPr/>
          </p:nvSpPr>
          <p:spPr>
            <a:xfrm>
              <a:off x="671184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3"/>
            <p:cNvSpPr/>
            <p:nvPr/>
          </p:nvSpPr>
          <p:spPr>
            <a:xfrm>
              <a:off x="6795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4"/>
            <p:cNvSpPr/>
            <p:nvPr/>
          </p:nvSpPr>
          <p:spPr>
            <a:xfrm>
              <a:off x="6786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5"/>
            <p:cNvSpPr/>
            <p:nvPr/>
          </p:nvSpPr>
          <p:spPr>
            <a:xfrm>
              <a:off x="1147680" y="6714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16"/>
            <p:cNvSpPr/>
            <p:nvPr/>
          </p:nvSpPr>
          <p:spPr>
            <a:xfrm>
              <a:off x="1154160" y="671400"/>
              <a:ext cx="1830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7"/>
            <p:cNvSpPr/>
            <p:nvPr/>
          </p:nvSpPr>
          <p:spPr>
            <a:xfrm>
              <a:off x="1154160" y="67140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18"/>
            <p:cNvSpPr/>
            <p:nvPr/>
          </p:nvSpPr>
          <p:spPr>
            <a:xfrm>
              <a:off x="1154160" y="687240"/>
              <a:ext cx="18302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19"/>
            <p:cNvSpPr/>
            <p:nvPr/>
          </p:nvSpPr>
          <p:spPr>
            <a:xfrm>
              <a:off x="1154160" y="68724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20"/>
            <p:cNvSpPr/>
            <p:nvPr/>
          </p:nvSpPr>
          <p:spPr>
            <a:xfrm>
              <a:off x="2984400" y="723960"/>
              <a:ext cx="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1"/>
            <p:cNvSpPr/>
            <p:nvPr/>
          </p:nvSpPr>
          <p:spPr>
            <a:xfrm>
              <a:off x="2984400" y="671400"/>
              <a:ext cx="49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22"/>
            <p:cNvSpPr/>
            <p:nvPr/>
          </p:nvSpPr>
          <p:spPr>
            <a:xfrm>
              <a:off x="2984400" y="6714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23"/>
            <p:cNvSpPr/>
            <p:nvPr/>
          </p:nvSpPr>
          <p:spPr>
            <a:xfrm>
              <a:off x="2984400" y="687240"/>
              <a:ext cx="493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4"/>
            <p:cNvSpPr/>
            <p:nvPr/>
          </p:nvSpPr>
          <p:spPr>
            <a:xfrm>
              <a:off x="2984400" y="687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5"/>
            <p:cNvSpPr/>
            <p:nvPr/>
          </p:nvSpPr>
          <p:spPr>
            <a:xfrm>
              <a:off x="3033720" y="671400"/>
              <a:ext cx="5634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26"/>
            <p:cNvSpPr/>
            <p:nvPr/>
          </p:nvSpPr>
          <p:spPr>
            <a:xfrm>
              <a:off x="3033720" y="67140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7"/>
            <p:cNvSpPr/>
            <p:nvPr/>
          </p:nvSpPr>
          <p:spPr>
            <a:xfrm>
              <a:off x="3033720" y="687240"/>
              <a:ext cx="56340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8"/>
            <p:cNvSpPr/>
            <p:nvPr/>
          </p:nvSpPr>
          <p:spPr>
            <a:xfrm>
              <a:off x="3033720" y="68724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29"/>
            <p:cNvSpPr/>
            <p:nvPr/>
          </p:nvSpPr>
          <p:spPr>
            <a:xfrm>
              <a:off x="8667720" y="6714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30"/>
            <p:cNvSpPr/>
            <p:nvPr/>
          </p:nvSpPr>
          <p:spPr>
            <a:xfrm>
              <a:off x="114768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31"/>
            <p:cNvSpPr/>
            <p:nvPr/>
          </p:nvSpPr>
          <p:spPr>
            <a:xfrm>
              <a:off x="298440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32"/>
            <p:cNvSpPr/>
            <p:nvPr/>
          </p:nvSpPr>
          <p:spPr>
            <a:xfrm>
              <a:off x="8667720" y="725400"/>
              <a:ext cx="144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33"/>
            <p:cNvSpPr/>
            <p:nvPr/>
          </p:nvSpPr>
          <p:spPr>
            <a:xfrm>
              <a:off x="1211040" y="125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34"/>
            <p:cNvSpPr/>
            <p:nvPr/>
          </p:nvSpPr>
          <p:spPr>
            <a:xfrm>
              <a:off x="1211400" y="152712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ow ca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35"/>
            <p:cNvSpPr/>
            <p:nvPr/>
          </p:nvSpPr>
          <p:spPr>
            <a:xfrm>
              <a:off x="1211760" y="1800360"/>
              <a:ext cx="1609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rnell note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36"/>
            <p:cNvSpPr/>
            <p:nvPr/>
          </p:nvSpPr>
          <p:spPr>
            <a:xfrm>
              <a:off x="1211400" y="207180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elp m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37"/>
            <p:cNvSpPr/>
            <p:nvPr/>
          </p:nvSpPr>
          <p:spPr>
            <a:xfrm>
              <a:off x="1212120" y="234468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rganize my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38"/>
            <p:cNvSpPr/>
            <p:nvPr/>
          </p:nvSpPr>
          <p:spPr>
            <a:xfrm>
              <a:off x="1211760" y="2616120"/>
              <a:ext cx="765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idea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9"/>
            <p:cNvSpPr/>
            <p:nvPr/>
          </p:nvSpPr>
          <p:spPr>
            <a:xfrm>
              <a:off x="1923840" y="2616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0"/>
            <p:cNvSpPr/>
            <p:nvPr/>
          </p:nvSpPr>
          <p:spPr>
            <a:xfrm>
              <a:off x="1211040" y="28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41"/>
            <p:cNvSpPr/>
            <p:nvPr/>
          </p:nvSpPr>
          <p:spPr>
            <a:xfrm>
              <a:off x="1211400" y="3162240"/>
              <a:ext cx="1730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ich side fo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42"/>
            <p:cNvSpPr/>
            <p:nvPr/>
          </p:nvSpPr>
          <p:spPr>
            <a:xfrm>
              <a:off x="1212480" y="343368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iagram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3"/>
            <p:cNvSpPr/>
            <p:nvPr/>
          </p:nvSpPr>
          <p:spPr>
            <a:xfrm>
              <a:off x="2352240" y="3433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44"/>
            <p:cNvSpPr/>
            <p:nvPr/>
          </p:nvSpPr>
          <p:spPr>
            <a:xfrm>
              <a:off x="1211040" y="37069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5"/>
            <p:cNvSpPr/>
            <p:nvPr/>
          </p:nvSpPr>
          <p:spPr>
            <a:xfrm>
              <a:off x="1211400" y="397656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y us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46"/>
            <p:cNvSpPr/>
            <p:nvPr/>
          </p:nvSpPr>
          <p:spPr>
            <a:xfrm>
              <a:off x="1212840" y="424980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cept map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7"/>
            <p:cNvSpPr/>
            <p:nvPr/>
          </p:nvSpPr>
          <p:spPr>
            <a:xfrm>
              <a:off x="2862000" y="4249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48"/>
            <p:cNvSpPr/>
            <p:nvPr/>
          </p:nvSpPr>
          <p:spPr>
            <a:xfrm>
              <a:off x="1211040" y="45212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49"/>
            <p:cNvSpPr/>
            <p:nvPr/>
          </p:nvSpPr>
          <p:spPr>
            <a:xfrm>
              <a:off x="1211040" y="4794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50"/>
            <p:cNvSpPr/>
            <p:nvPr/>
          </p:nvSpPr>
          <p:spPr>
            <a:xfrm>
              <a:off x="1211040" y="5065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51"/>
            <p:cNvSpPr/>
            <p:nvPr/>
          </p:nvSpPr>
          <p:spPr>
            <a:xfrm>
              <a:off x="1211040" y="5338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2"/>
            <p:cNvSpPr/>
            <p:nvPr/>
          </p:nvSpPr>
          <p:spPr>
            <a:xfrm>
              <a:off x="1212120" y="5610240"/>
              <a:ext cx="1515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at are th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53"/>
            <p:cNvSpPr/>
            <p:nvPr/>
          </p:nvSpPr>
          <p:spPr>
            <a:xfrm>
              <a:off x="1212480" y="5883120"/>
              <a:ext cx="17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enefits to me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54"/>
            <p:cNvSpPr/>
            <p:nvPr/>
          </p:nvSpPr>
          <p:spPr>
            <a:xfrm>
              <a:off x="2876040" y="5883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55"/>
            <p:cNvSpPr/>
            <p:nvPr/>
          </p:nvSpPr>
          <p:spPr>
            <a:xfrm>
              <a:off x="3048120" y="12556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56"/>
            <p:cNvSpPr/>
            <p:nvPr/>
          </p:nvSpPr>
          <p:spPr>
            <a:xfrm>
              <a:off x="3434040" y="1255680"/>
              <a:ext cx="53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 used to provide an outline of chapter or 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57"/>
            <p:cNvSpPr/>
            <p:nvPr/>
          </p:nvSpPr>
          <p:spPr>
            <a:xfrm>
              <a:off x="8427960" y="125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58"/>
            <p:cNvSpPr/>
            <p:nvPr/>
          </p:nvSpPr>
          <p:spPr>
            <a:xfrm>
              <a:off x="3052440" y="1500120"/>
              <a:ext cx="385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detail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59"/>
            <p:cNvSpPr/>
            <p:nvPr/>
          </p:nvSpPr>
          <p:spPr>
            <a:xfrm>
              <a:off x="6657840" y="1500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0"/>
            <p:cNvSpPr/>
            <p:nvPr/>
          </p:nvSpPr>
          <p:spPr>
            <a:xfrm>
              <a:off x="3052440" y="1746360"/>
              <a:ext cx="343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as detailed as necessary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61"/>
            <p:cNvSpPr/>
            <p:nvPr/>
          </p:nvSpPr>
          <p:spPr>
            <a:xfrm>
              <a:off x="6264360" y="1746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62"/>
            <p:cNvSpPr/>
            <p:nvPr/>
          </p:nvSpPr>
          <p:spPr>
            <a:xfrm>
              <a:off x="3048840" y="198900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quent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63"/>
            <p:cNvSpPr/>
            <p:nvPr/>
          </p:nvSpPr>
          <p:spPr>
            <a:xfrm>
              <a:off x="4071600" y="198900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64"/>
            <p:cNvSpPr/>
            <p:nvPr/>
          </p:nvSpPr>
          <p:spPr>
            <a:xfrm>
              <a:off x="4211280" y="1989000"/>
              <a:ext cx="465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 notes as they are given by instructor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65"/>
            <p:cNvSpPr/>
            <p:nvPr/>
          </p:nvSpPr>
          <p:spPr>
            <a:xfrm>
              <a:off x="3051000" y="2233440"/>
              <a:ext cx="2689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xt in an orderly fash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66"/>
            <p:cNvSpPr/>
            <p:nvPr/>
          </p:nvSpPr>
          <p:spPr>
            <a:xfrm>
              <a:off x="5567400" y="2233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7"/>
            <p:cNvSpPr/>
            <p:nvPr/>
          </p:nvSpPr>
          <p:spPr>
            <a:xfrm>
              <a:off x="3053880" y="2479680"/>
              <a:ext cx="534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write a summary of what you learned to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68"/>
            <p:cNvSpPr/>
            <p:nvPr/>
          </p:nvSpPr>
          <p:spPr>
            <a:xfrm>
              <a:off x="3053160" y="2724120"/>
              <a:ext cx="545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larify and reinforce learning and to assist retent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69"/>
            <p:cNvSpPr/>
            <p:nvPr/>
          </p:nvSpPr>
          <p:spPr>
            <a:xfrm>
              <a:off x="8155080" y="2724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70"/>
            <p:cNvSpPr/>
            <p:nvPr/>
          </p:nvSpPr>
          <p:spPr>
            <a:xfrm>
              <a:off x="3049200" y="2970360"/>
              <a:ext cx="281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study tool: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71"/>
            <p:cNvSpPr/>
            <p:nvPr/>
          </p:nvSpPr>
          <p:spPr>
            <a:xfrm>
              <a:off x="5678640" y="2970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72"/>
            <p:cNvSpPr/>
            <p:nvPr/>
          </p:nvSpPr>
          <p:spPr>
            <a:xfrm>
              <a:off x="3056400" y="3214800"/>
              <a:ext cx="587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 Define terms or explain concepts listed on left sid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3"/>
            <p:cNvSpPr/>
            <p:nvPr/>
          </p:nvSpPr>
          <p:spPr>
            <a:xfrm>
              <a:off x="8561520" y="32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74"/>
            <p:cNvSpPr/>
            <p:nvPr/>
          </p:nvSpPr>
          <p:spPr>
            <a:xfrm>
              <a:off x="3053880" y="3459240"/>
              <a:ext cx="518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 Identify the concept or term on the right sid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75"/>
            <p:cNvSpPr/>
            <p:nvPr/>
          </p:nvSpPr>
          <p:spPr>
            <a:xfrm>
              <a:off x="7907400" y="3459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76"/>
            <p:cNvSpPr/>
            <p:nvPr/>
          </p:nvSpPr>
          <p:spPr>
            <a:xfrm>
              <a:off x="3049560" y="3705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77"/>
            <p:cNvSpPr/>
            <p:nvPr/>
          </p:nvSpPr>
          <p:spPr>
            <a:xfrm>
              <a:off x="3049200" y="3946680"/>
              <a:ext cx="570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to provide a "big picture" of the chapter 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78"/>
            <p:cNvSpPr/>
            <p:nvPr/>
          </p:nvSpPr>
          <p:spPr>
            <a:xfrm>
              <a:off x="3050280" y="4194000"/>
              <a:ext cx="82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79"/>
            <p:cNvSpPr/>
            <p:nvPr/>
          </p:nvSpPr>
          <p:spPr>
            <a:xfrm>
              <a:off x="3824280" y="41940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80"/>
            <p:cNvSpPr/>
            <p:nvPr/>
          </p:nvSpPr>
          <p:spPr>
            <a:xfrm>
              <a:off x="3048120" y="4419720"/>
              <a:ext cx="414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sub-topic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81"/>
            <p:cNvSpPr/>
            <p:nvPr/>
          </p:nvSpPr>
          <p:spPr>
            <a:xfrm>
              <a:off x="7040520" y="443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82"/>
            <p:cNvSpPr/>
            <p:nvPr/>
          </p:nvSpPr>
          <p:spPr>
            <a:xfrm>
              <a:off x="3051720" y="4683240"/>
              <a:ext cx="4815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mited in how much detail you can represent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83"/>
            <p:cNvSpPr/>
            <p:nvPr/>
          </p:nvSpPr>
          <p:spPr>
            <a:xfrm>
              <a:off x="7564320" y="4683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84"/>
            <p:cNvSpPr/>
            <p:nvPr/>
          </p:nvSpPr>
          <p:spPr>
            <a:xfrm>
              <a:off x="3049200" y="492912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multaneou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85"/>
            <p:cNvSpPr/>
            <p:nvPr/>
          </p:nvSpPr>
          <p:spPr>
            <a:xfrm>
              <a:off x="4431960" y="49291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86"/>
            <p:cNvSpPr/>
            <p:nvPr/>
          </p:nvSpPr>
          <p:spPr>
            <a:xfrm>
              <a:off x="4501080" y="4929120"/>
              <a:ext cx="419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ou can use this method for instructor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7"/>
            <p:cNvSpPr/>
            <p:nvPr/>
          </p:nvSpPr>
          <p:spPr>
            <a:xfrm>
              <a:off x="3049200" y="5173560"/>
              <a:ext cx="38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ho jump around from topic to topic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8"/>
            <p:cNvSpPr/>
            <p:nvPr/>
          </p:nvSpPr>
          <p:spPr>
            <a:xfrm>
              <a:off x="6688080" y="5173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89"/>
            <p:cNvSpPr/>
            <p:nvPr/>
          </p:nvSpPr>
          <p:spPr>
            <a:xfrm>
              <a:off x="3051000" y="5419800"/>
              <a:ext cx="50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you can add questions to the left s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90"/>
            <p:cNvSpPr/>
            <p:nvPr/>
          </p:nvSpPr>
          <p:spPr>
            <a:xfrm>
              <a:off x="7816680" y="5419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91"/>
            <p:cNvSpPr/>
            <p:nvPr/>
          </p:nvSpPr>
          <p:spPr>
            <a:xfrm>
              <a:off x="3049560" y="5664240"/>
              <a:ext cx="292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a study too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92"/>
            <p:cNvSpPr/>
            <p:nvPr/>
          </p:nvSpPr>
          <p:spPr>
            <a:xfrm>
              <a:off x="5779800" y="566424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93"/>
            <p:cNvSpPr/>
            <p:nvPr/>
          </p:nvSpPr>
          <p:spPr>
            <a:xfrm>
              <a:off x="5919120" y="5664240"/>
              <a:ext cx="249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 get a quick overview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94"/>
            <p:cNvSpPr/>
            <p:nvPr/>
          </p:nvSpPr>
          <p:spPr>
            <a:xfrm>
              <a:off x="3049560" y="5908680"/>
              <a:ext cx="581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nd to determine whether you need more information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95"/>
            <p:cNvSpPr/>
            <p:nvPr/>
          </p:nvSpPr>
          <p:spPr>
            <a:xfrm>
              <a:off x="3049920" y="6153120"/>
              <a:ext cx="522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eed to concentrate your study on specific topic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96"/>
            <p:cNvSpPr/>
            <p:nvPr/>
          </p:nvSpPr>
          <p:spPr>
            <a:xfrm>
              <a:off x="7938360" y="6175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7"/>
            <p:cNvSpPr/>
            <p:nvPr/>
          </p:nvSpPr>
          <p:spPr>
            <a:xfrm>
              <a:off x="114768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98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99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00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01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02"/>
            <p:cNvSpPr/>
            <p:nvPr/>
          </p:nvSpPr>
          <p:spPr>
            <a:xfrm>
              <a:off x="1154160" y="639756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03"/>
            <p:cNvSpPr/>
            <p:nvPr/>
          </p:nvSpPr>
          <p:spPr>
            <a:xfrm>
              <a:off x="298440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04"/>
            <p:cNvSpPr/>
            <p:nvPr/>
          </p:nvSpPr>
          <p:spPr>
            <a:xfrm>
              <a:off x="2984400" y="6397560"/>
              <a:ext cx="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05"/>
            <p:cNvSpPr/>
            <p:nvPr/>
          </p:nvSpPr>
          <p:spPr>
            <a:xfrm>
              <a:off x="298440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06"/>
            <p:cNvSpPr/>
            <p:nvPr/>
          </p:nvSpPr>
          <p:spPr>
            <a:xfrm>
              <a:off x="2989440" y="6397560"/>
              <a:ext cx="567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07"/>
            <p:cNvSpPr/>
            <p:nvPr/>
          </p:nvSpPr>
          <p:spPr>
            <a:xfrm>
              <a:off x="8667720" y="1255680"/>
              <a:ext cx="144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08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09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10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11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12"/>
            <p:cNvSpPr/>
            <p:nvPr/>
          </p:nvSpPr>
          <p:spPr>
            <a:xfrm>
              <a:off x="1130040" y="6419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2"/>
          <p:cNvGraphicFramePr/>
          <p:nvPr/>
        </p:nvGraphicFramePr>
        <p:xfrm>
          <a:off x="1066680" y="473040"/>
          <a:ext cx="7813800" cy="29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73040"/>
                    <a:ext cx="781380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3"/>
          <p:cNvSpPr/>
          <p:nvPr/>
        </p:nvSpPr>
        <p:spPr>
          <a:xfrm>
            <a:off x="1371600" y="3657600"/>
            <a:ext cx="6858000" cy="2653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is added at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nd of ALL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e p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ubject (no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ad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shoul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swer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ated in the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Object 1030" descr=""/>
          <p:cNvPicPr/>
          <p:nvPr/>
        </p:nvPicPr>
        <p:blipFill>
          <a:blip r:embed="rId1"/>
          <a:stretch/>
        </p:blipFill>
        <p:spPr>
          <a:xfrm>
            <a:off x="1752480" y="-28440"/>
            <a:ext cx="7391520" cy="6886440"/>
          </a:xfrm>
          <a:prstGeom prst="rect">
            <a:avLst/>
          </a:prstGeom>
          <a:ln w="0">
            <a:noFill/>
          </a:ln>
        </p:spPr>
      </p:pic>
      <p:sp>
        <p:nvSpPr>
          <p:cNvPr id="335" name="WordArt 1028"/>
          <p:cNvSpPr txBox="1"/>
          <p:nvPr/>
        </p:nvSpPr>
        <p:spPr>
          <a:xfrm>
            <a:off x="1066680" y="22860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conomic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8:06:01Z</dcterms:created>
  <dc:creator>CIS</dc:creator>
  <dc:description/>
  <dc:language>en-US</dc:language>
  <cp:lastModifiedBy>JAntinora</cp:lastModifiedBy>
  <cp:lastPrinted>2001-08-14T21:30:16Z</cp:lastPrinted>
  <dcterms:modified xsi:type="dcterms:W3CDTF">2012-09-07T02:11:17Z</dcterms:modified>
  <cp:revision>145</cp:revision>
  <dc:subject/>
  <dc:title>PowerPoint Presentation</dc:title>
</cp:coreProperties>
</file>