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66C-BBF3-4853-A15F-1F50EB73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161-6A80-4B03-AAAB-504E3202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96E-5A0A-4593-9036-4CE5B8B2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1DC-F6E9-4AB4-837F-DFD4D522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54F-1588-44CF-B8A0-6BECCEFE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FC0-42B0-4A0F-AC01-E54661E2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CC9-ED7A-4135-A480-1C7CC43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E47-4941-463B-BD25-9A4136F7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428-180C-4E7F-A1BD-DEC141C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158-2EDB-4985-A9BE-E145B35F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996-477C-4C5F-A46E-EF628F8B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749-6242-4026-AC8B-EC3FEEEF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830B-FEF9-4592-BD07-174901146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6" descr="C:\My Download Files\sequesntial.jpg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27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8" name="Line 1028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9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0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32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4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5" name="Freeform 6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/>
              <a:ahLst/>
              <a:rect l="l" t="t" r="r" b="b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/>
              <a:ahLst/>
              <a:rect l="l" t="t" r="r" b="b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/>
              <a:ahLst/>
              <a:rect l="l" t="t" r="r" b="b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/>
              <a:ahLst/>
              <a:rect l="l" t="t" r="r" b="b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/>
              <a:ahLst/>
              <a:rect l="l" t="t" r="r" b="b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/>
              <a:ahLst/>
              <a:rect l="l" t="t" r="r" b="b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/>
              <a:ahLst/>
              <a:rect l="l" t="t" r="r" b="b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/>
              <a:ahLst/>
              <a:rect l="l" t="t" r="r" b="b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/>
              <a:ahLst/>
              <a:rect l="l" t="t" r="r" b="b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/>
              <a:ahLst/>
              <a:rect l="l" t="t" r="r" b="b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/>
              <a:ahLst/>
              <a:rect l="l" t="t" r="r" b="b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/>
              <a:ahLst/>
              <a:rect l="l" t="t" r="r" b="b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/>
              <a:ahLst/>
              <a:rect l="l" t="t" r="r" b="b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/>
              <a:ahLst/>
              <a:rect l="l" t="t" r="r" b="b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/>
              <a:ahLst/>
              <a:rect l="l" t="t" r="r" b="b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/>
              <a:ahLst/>
              <a:rect l="l" t="t" r="r" b="b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/>
              <a:ahLst/>
              <a:rect l="l" t="t" r="r" b="b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/>
              <a:ahLst/>
              <a:rect l="l" t="t" r="r" b="b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/>
              <a:ahLst/>
              <a:rect l="l" t="t" r="r" b="b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/>
              <a:ahLst/>
              <a:rect l="l" t="t" r="r" b="b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/>
              <a:ahLst/>
              <a:rect l="l" t="t" r="r" b="b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/>
              <a:ahLst/>
              <a:rect l="l" t="t" r="r" b="b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/>
              <a:ahLst/>
              <a:rect l="l" t="t" r="r" b="b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1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/>
              <a:ahLst/>
              <a:rect l="l" t="t" r="r" b="b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/>
              <a:ahLst/>
              <a:rect l="l" t="t" r="r" b="b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/>
              <a:ahLst/>
              <a:rect l="l" t="t" r="r" b="b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/>
              <a:ahLst/>
              <a:rect l="l" t="t" r="r" b="b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6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/>
              <a:ahLst/>
              <a:rect l="l" t="t" r="r" b="b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7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/>
              <a:ahLst/>
              <a:rect l="l" t="t" r="r" b="b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/>
              <a:ahLst/>
              <a:rect l="l" t="t" r="r" b="b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/>
              <a:ahLst/>
              <a:rect l="l" t="t" r="r" b="b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/>
              <a:ahLst/>
              <a:rect l="l" t="t" r="r" b="b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/>
              <a:ahLst/>
              <a:rect l="l" t="t" r="r" b="b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/>
              <a:ahLst/>
              <a:rect l="l" t="t" r="r" b="b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/>
              <a:ahLst/>
              <a:rect l="l" t="t" r="r" b="b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4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/>
              <a:ahLst/>
              <a:rect l="l" t="t" r="r" b="b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/>
              <a:ahLst/>
              <a:rect l="l" t="t" r="r" b="b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6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/>
              <a:ahLst/>
              <a:rect l="l" t="t" r="r" b="b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/>
              <a:ahLst/>
              <a:rect l="l" t="t" r="r" b="b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8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/>
              <a:ahLst/>
              <a:rect l="l" t="t" r="r" b="b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9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/>
              <a:ahLst/>
              <a:rect l="l" t="t" r="r" b="b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0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/>
              <a:ahLst/>
              <a:rect l="l" t="t" r="r" b="b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1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/>
              <a:ahLst/>
              <a:rect l="l" t="t" r="r" b="b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2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/>
              <a:ahLst/>
              <a:rect l="l" t="t" r="r" b="b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3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/>
              <a:ahLst/>
              <a:rect l="l" t="t" r="r" b="b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4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/>
              <a:ahLst/>
              <a:rect l="l" t="t" r="r" b="b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/>
              <a:ahLst/>
              <a:rect l="l" t="t" r="r" b="b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6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/>
              <a:ahLst/>
              <a:rect l="l" t="t" r="r" b="b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7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/>
              <a:ahLst/>
              <a:rect l="l" t="t" r="r" b="b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8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/>
              <a:ahLst/>
              <a:rect l="l" t="t" r="r" b="b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26" descr="C:\My Download Files\notebook.jpg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027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1028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My Download Files\lecture.jpg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26" descr="C:\My Download Files\summary.jpg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1027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8" name="Text Box 1028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D:\My Documents\LACOE\Graphics\APES Cornell notes.jpg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aphicFrame>
        <p:nvGraphicFramePr>
          <p:cNvPr id="454" name="Object 8"/>
          <p:cNvGraphicFramePr/>
          <p:nvPr/>
        </p:nvGraphicFramePr>
        <p:xfrm>
          <a:off x="7010280" y="3124080"/>
          <a:ext cx="18446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8446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60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3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026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26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D:\My Documents\LACOE\Graphics\students collaborating.jp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4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6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26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8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02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WordArt 1030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5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_x001a_AVID  logo color small.jpg                                     00002A44_x000c_Macintosh HD                   B71C5AB1: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781680" y="3352680"/>
          <a:ext cx="19209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352680"/>
                    <a:ext cx="1920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4" name="Picture 26" descr="C:\My Download Files\concept.jpg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Object 1030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28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JAntinora</cp:lastModifiedBy>
  <cp:lastPrinted>2001-08-14T21:30:16Z</cp:lastPrinted>
  <dcterms:modified xsi:type="dcterms:W3CDTF">2012-09-07T02:11:17Z</dcterms:modified>
  <cp:revision>145</cp:revision>
  <dc:subject/>
  <dc:title>PowerPoint Presentation</dc:title>
</cp:coreProperties>
</file>