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19.jpeg" ContentType="image/jpeg"/>
  <Override PartName="/ppt/media/image23.png" ContentType="image/png"/>
  <Override PartName="/ppt/media/image6.wmf" ContentType="image/x-wmf"/>
  <Override PartName="/ppt/media/image11.wmf" ContentType="image/x-wmf"/>
  <Override PartName="/ppt/media/image26.png" ContentType="image/png"/>
  <Override PartName="/ppt/media/image17.jpeg" ContentType="image/jpeg"/>
  <Override PartName="/ppt/media/image8.wmf" ContentType="image/x-wmf"/>
  <Override PartName="/ppt/media/image13.wmf" ContentType="image/x-wmf"/>
  <Override PartName="/ppt/media/image10.jpeg" ContentType="image/jpeg"/>
  <Override PartName="/ppt/media/image9.wmf" ContentType="image/x-wmf"/>
  <Override PartName="/ppt/media/image27.png" ContentType="image/png"/>
  <Override PartName="/ppt/media/image12.wmf" ContentType="image/x-wmf"/>
  <Override PartName="/ppt/media/image30.jpeg" ContentType="image/jpeg"/>
  <Override PartName="/ppt/media/image32.jpeg" ContentType="image/jpeg"/>
  <Override PartName="/ppt/media/image31.wmf" ContentType="image/x-wmf"/>
  <Override PartName="/ppt/media/image28.png" ContentType="image/png"/>
  <Override PartName="/ppt/media/image7.jpeg" ContentType="image/jpeg"/>
  <Override PartName="/ppt/media/image5.wmf" ContentType="image/x-wmf"/>
  <Override PartName="/ppt/media/image4.wmf" ContentType="image/x-wmf"/>
  <Override PartName="/ppt/media/image29.jpeg" ContentType="image/jpeg"/>
  <Override PartName="/ppt/media/image3.wmf" ContentType="image/x-wmf"/>
  <Override PartName="/ppt/media/image2.jpeg" ContentType="image/jpeg"/>
  <Override PartName="/ppt/media/image1.png" ContentType="image/png"/>
  <Override PartName="/ppt/media/image24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8.jpeg" ContentType="image/jpeg"/>
  <Override PartName="/ppt/media/image21.wmf" ContentType="image/x-wmf"/>
  <Override PartName="/ppt/media/image20.jpeg" ContentType="image/jpe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A67C-A42A-42D1-8A80-082C6D148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E563-79D7-40EE-8B6A-21547AB2D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21E7-6B17-4538-B310-DC50E6792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DA04-313E-4A5D-939F-A03C71539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3620-88B2-4928-9822-23D11E21A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8966-4F4B-4F9D-9DE9-99C381F78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091F-1EC4-4E80-808E-B33E8FF12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2307-8582-403E-8E06-C1762C71A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CA3F-4338-414C-9F58-5608C78FF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BA4E-0F6F-4B21-BE4E-AB514906A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C8DB-0C4B-4AD4-8A3F-E0C3BE196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61BE-2B69-4074-BAD3-796D83273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1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2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3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3BB6A-A60C-4771-9087-EB78C52A64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822240" y="3621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9" name="WordArt 4"/>
          <p:cNvSpPr txBox="1"/>
          <p:nvPr/>
        </p:nvSpPr>
        <p:spPr>
          <a:xfrm>
            <a:off x="1219320" y="685800"/>
            <a:ext cx="6553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9080">
                  <a:solidFill>
                    <a:srgbClr val="b62b00"/>
                  </a:solidFill>
                  <a:miter/>
                </a:ln>
                <a:solidFill>
                  <a:srgbClr val="9c7862"/>
                </a:solidFill>
                <a:latin typeface="Brush Script MT"/>
              </a:rPr>
              <a:t>Cornell</a:t>
            </a:r>
            <a:endParaRPr b="0" lang="en-US" sz="9600" spc="1" strike="noStrike">
              <a:ln w="19080">
                <a:solidFill>
                  <a:srgbClr val="b62b00"/>
                </a:solidFill>
                <a:miter/>
              </a:ln>
              <a:solidFill>
                <a:srgbClr val="9c7862"/>
              </a:solidFill>
              <a:latin typeface="Brush Script MT"/>
              <a:ea typeface="Brush Script MT"/>
            </a:endParaRPr>
          </a:p>
        </p:txBody>
      </p:sp>
      <p:sp>
        <p:nvSpPr>
          <p:cNvPr id="90" name="WordArt 5"/>
          <p:cNvSpPr txBox="1"/>
          <p:nvPr/>
        </p:nvSpPr>
        <p:spPr>
          <a:xfrm>
            <a:off x="1066680" y="3962520"/>
            <a:ext cx="472464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9080">
                  <a:solidFill>
                    <a:srgbClr val="b62b00"/>
                  </a:solidFill>
                  <a:miter/>
                </a:ln>
                <a:solidFill>
                  <a:srgbClr val="9c7862"/>
                </a:solidFill>
                <a:latin typeface="Brush Script MT"/>
              </a:rPr>
              <a:t>Notes</a:t>
            </a:r>
            <a:endParaRPr b="0" lang="en-US" sz="9600" spc="1" strike="noStrike">
              <a:ln w="19080">
                <a:solidFill>
                  <a:srgbClr val="b62b00"/>
                </a:solidFill>
                <a:miter/>
              </a:ln>
              <a:solidFill>
                <a:srgbClr val="9c7862"/>
              </a:solidFill>
              <a:latin typeface="Brush Script MT"/>
              <a:ea typeface="Brush Script MT"/>
            </a:endParaRPr>
          </a:p>
        </p:txBody>
      </p:sp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5943600" y="2666880"/>
            <a:ext cx="2766960" cy="34704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1026" descr="C:\My Download Files\sequesntial.jpg"/>
          <p:cNvPicPr/>
          <p:nvPr/>
        </p:nvPicPr>
        <p:blipFill>
          <a:blip r:embed="rId1"/>
          <a:stretch/>
        </p:blipFill>
        <p:spPr>
          <a:xfrm>
            <a:off x="3581280" y="2590920"/>
            <a:ext cx="5257800" cy="3598920"/>
          </a:xfrm>
          <a:prstGeom prst="rect">
            <a:avLst/>
          </a:prstGeom>
          <a:ln w="0">
            <a:noFill/>
          </a:ln>
        </p:spPr>
      </p:pic>
      <p:sp>
        <p:nvSpPr>
          <p:cNvPr id="337" name="WordArt 1027"/>
          <p:cNvSpPr txBox="1"/>
          <p:nvPr/>
        </p:nvSpPr>
        <p:spPr>
          <a:xfrm>
            <a:off x="1523880" y="457200"/>
            <a:ext cx="708660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Example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sp>
        <p:nvSpPr>
          <p:cNvPr id="338" name="Line 1028"/>
          <p:cNvSpPr/>
          <p:nvPr/>
        </p:nvSpPr>
        <p:spPr>
          <a:xfrm>
            <a:off x="3429000" y="13716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029"/>
          <p:cNvSpPr/>
          <p:nvPr/>
        </p:nvSpPr>
        <p:spPr>
          <a:xfrm>
            <a:off x="4549680" y="1444680"/>
            <a:ext cx="3477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(Diagram copi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during lecture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030"/>
          <p:cNvSpPr/>
          <p:nvPr/>
        </p:nvSpPr>
        <p:spPr>
          <a:xfrm>
            <a:off x="1050840" y="1477800"/>
            <a:ext cx="245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(Questions about it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032"/>
          <p:cNvSpPr/>
          <p:nvPr/>
        </p:nvSpPr>
        <p:spPr>
          <a:xfrm>
            <a:off x="1143000" y="2438280"/>
            <a:ext cx="2301840" cy="40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8120" indent="-16812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ow do the ticks find the cattl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y don’t the ticks usually kill their host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ow could tick infestations in cattle impact human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0" dur="1" fill="hold"/>
                                  <p:tgtEl>
                                    <p:spTgt spid="34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  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43" name="WordArt 3"/>
          <p:cNvSpPr txBox="1"/>
          <p:nvPr/>
        </p:nvSpPr>
        <p:spPr>
          <a:xfrm>
            <a:off x="1295280" y="533520"/>
            <a:ext cx="6782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Practice Ti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pic>
        <p:nvPicPr>
          <p:cNvPr id="344" name="Picture 4" descr=""/>
          <p:cNvPicPr/>
          <p:nvPr/>
        </p:nvPicPr>
        <p:blipFill>
          <a:blip r:embed="rId1"/>
          <a:stretch/>
        </p:blipFill>
        <p:spPr>
          <a:xfrm>
            <a:off x="5334120" y="1676520"/>
            <a:ext cx="3492360" cy="396216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5"/>
          <p:cNvSpPr/>
          <p:nvPr/>
        </p:nvSpPr>
        <p:spPr>
          <a:xfrm>
            <a:off x="1066680" y="2027160"/>
            <a:ext cx="47246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Let’s get out a sheet of Cornell note paper and get ready to practice the skil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WordArt 2"/>
          <p:cNvSpPr txBox="1"/>
          <p:nvPr/>
        </p:nvSpPr>
        <p:spPr>
          <a:xfrm>
            <a:off x="1371600" y="457200"/>
            <a:ext cx="708660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Assignment &amp; Instruction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1066680" y="1600200"/>
            <a:ext cx="769644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the large,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right hand                  colum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 take notes like                       you normally woul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ou may use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any styl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of note-taking you wish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96720">
              <a:lnSpc>
                <a:spcPct val="100000"/>
              </a:lnSpc>
              <a:buClr>
                <a:srgbClr val="a32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utline forma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96720">
              <a:lnSpc>
                <a:spcPct val="100000"/>
              </a:lnSpc>
              <a:buClr>
                <a:srgbClr val="a32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rrative forma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96720">
              <a:lnSpc>
                <a:spcPct val="100000"/>
              </a:lnSpc>
              <a:buClr>
                <a:srgbClr val="a32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ymbol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96720">
              <a:lnSpc>
                <a:spcPct val="100000"/>
              </a:lnSpc>
              <a:buClr>
                <a:srgbClr val="a32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hort hand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4" descr=""/>
          <p:cNvPicPr/>
          <p:nvPr/>
        </p:nvPicPr>
        <p:blipFill>
          <a:blip r:embed="rId1"/>
          <a:stretch/>
        </p:blipFill>
        <p:spPr>
          <a:xfrm>
            <a:off x="6781680" y="1523880"/>
            <a:ext cx="1702080" cy="18259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2"/>
          <p:cNvSpPr/>
          <p:nvPr/>
        </p:nvSpPr>
        <p:spPr>
          <a:xfrm>
            <a:off x="1066680" y="1600200"/>
            <a:ext cx="7086600" cy="46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10000"/>
                </a:solidFill>
                <a:latin typeface="Arial"/>
              </a:rPr>
              <a:t>Compare</a:t>
            </a:r>
            <a:r>
              <a:rPr b="1" lang="en-US" sz="3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notes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 with a partner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Talk about what you               wrote and why. Look                  for </a:t>
            </a: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gaps &amp; missed info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Both partners should feel free to </a:t>
            </a: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add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 to their notes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3" descr=""/>
          <p:cNvPicPr/>
          <p:nvPr/>
        </p:nvPicPr>
        <p:blipFill>
          <a:blip r:embed="rId1"/>
          <a:stretch/>
        </p:blipFill>
        <p:spPr>
          <a:xfrm>
            <a:off x="6248520" y="1828800"/>
            <a:ext cx="2406600" cy="4419720"/>
          </a:xfrm>
          <a:prstGeom prst="rect">
            <a:avLst/>
          </a:prstGeom>
          <a:ln w="0">
            <a:noFill/>
          </a:ln>
        </p:spPr>
      </p:pic>
      <p:sp>
        <p:nvSpPr>
          <p:cNvPr id="351" name="WordArt 4"/>
          <p:cNvSpPr txBox="1"/>
          <p:nvPr/>
        </p:nvSpPr>
        <p:spPr>
          <a:xfrm>
            <a:off x="1371600" y="457200"/>
            <a:ext cx="708660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Assignment &amp; Instruction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9" dur="1" fill="hold"/>
                                  <p:tgtEl>
                                    <p:spTgt spid="34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2"/>
          <p:cNvSpPr/>
          <p:nvPr/>
        </p:nvSpPr>
        <p:spPr>
          <a:xfrm>
            <a:off x="1066680" y="1600200"/>
            <a:ext cx="7620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3"/>
          <p:cNvSpPr/>
          <p:nvPr/>
        </p:nvSpPr>
        <p:spPr>
          <a:xfrm>
            <a:off x="1066680" y="1600200"/>
            <a:ext cx="6226200" cy="45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ith your partner(s),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create question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in the left hand colum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se questions should elicit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critical thinking skill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96720">
              <a:lnSpc>
                <a:spcPct val="100000"/>
              </a:lnSpc>
              <a:buClr>
                <a:srgbClr val="a32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vels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3</a:t>
            </a:r>
            <a:r>
              <a:rPr b="1" lang="en-US" sz="3200" spc="-1" strike="noStrike">
                <a:solidFill>
                  <a:srgbClr val="a32c0b"/>
                </a:solidFill>
                <a:latin typeface="Arial"/>
                <a:ea typeface="ＭＳ Ｐゴシック"/>
              </a:rPr>
              <a:t> </a:t>
            </a:r>
            <a:r>
              <a:rPr b="1" lang="en-US" sz="3200" spc="-1" strike="noStrike">
                <a:solidFill>
                  <a:srgbClr val="010000"/>
                </a:solidFill>
                <a:latin typeface="Arial"/>
                <a:ea typeface="ＭＳ Ｐゴシック"/>
              </a:rPr>
              <a:t>through</a:t>
            </a:r>
            <a:r>
              <a:rPr b="1" lang="en-US" sz="3200" spc="-1" strike="noStrike">
                <a:solidFill>
                  <a:srgbClr val="a32c0b"/>
                </a:solidFill>
                <a:latin typeface="Arial"/>
                <a:ea typeface="ＭＳ Ｐゴシック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in Bloom’s Taxonom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WordArt 4"/>
          <p:cNvSpPr txBox="1"/>
          <p:nvPr/>
        </p:nvSpPr>
        <p:spPr>
          <a:xfrm>
            <a:off x="1371600" y="457200"/>
            <a:ext cx="708660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Assignment &amp; Instruction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pic>
        <p:nvPicPr>
          <p:cNvPr id="355" name="Picture 5" descr=""/>
          <p:cNvPicPr/>
          <p:nvPr/>
        </p:nvPicPr>
        <p:blipFill>
          <a:blip r:embed="rId1"/>
          <a:stretch/>
        </p:blipFill>
        <p:spPr>
          <a:xfrm>
            <a:off x="7086600" y="2286000"/>
            <a:ext cx="1638360" cy="39625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5" dur="1" fill="hold"/>
                                  <p:tgtEl>
                                    <p:spTgt spid="35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  <p:animClr clrSpc="rgb">
                                <p:cBhvr>
                                  <p:cTn id="206" dur="1" fill="hold"/>
                                  <p:tgtEl>
                                    <p:spTgt spid="35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2"/>
          <p:cNvSpPr/>
          <p:nvPr/>
        </p:nvSpPr>
        <p:spPr>
          <a:xfrm>
            <a:off x="1066680" y="1371600"/>
            <a:ext cx="7696440" cy="51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c7862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a32c0b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KNOWLEDGE: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recalling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c7862"/>
                </a:solidFill>
                <a:latin typeface="Arial"/>
              </a:rPr>
              <a:t>2.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COMPREHENSION: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understanding mea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c7862"/>
                </a:solidFill>
                <a:latin typeface="Arial"/>
              </a:rPr>
              <a:t>3.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PPLICATION: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using learning in new situ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c7862"/>
                </a:solidFill>
                <a:latin typeface="Arial"/>
              </a:rPr>
              <a:t>4.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NALYSIS: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ability to see parts &amp; relationship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c7862"/>
                </a:solidFill>
                <a:latin typeface="Arial"/>
              </a:rPr>
              <a:t>5.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SYNTHESIS: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Use parts to create a new who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c7862"/>
                </a:solidFill>
                <a:latin typeface="Arial"/>
              </a:rPr>
              <a:t>6.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EVALUATION: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judgment based on criter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WordArt 3"/>
          <p:cNvSpPr txBox="1"/>
          <p:nvPr/>
        </p:nvSpPr>
        <p:spPr>
          <a:xfrm>
            <a:off x="1295280" y="457200"/>
            <a:ext cx="746784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Brief Review of Bloom's Taxonomy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6" dur="1" fill="hold"/>
                                  <p:tgtEl>
                                    <p:spTgt spid="35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2"/>
          <p:cNvSpPr/>
          <p:nvPr/>
        </p:nvSpPr>
        <p:spPr>
          <a:xfrm>
            <a:off x="1066680" y="160020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Your questions should reflec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3" descr=""/>
          <p:cNvPicPr/>
          <p:nvPr/>
        </p:nvPicPr>
        <p:blipFill>
          <a:blip r:embed="rId1"/>
          <a:stretch/>
        </p:blipFill>
        <p:spPr>
          <a:xfrm>
            <a:off x="7086600" y="2286000"/>
            <a:ext cx="1638360" cy="396252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4"/>
          <p:cNvSpPr/>
          <p:nvPr/>
        </p:nvSpPr>
        <p:spPr>
          <a:xfrm>
            <a:off x="1066680" y="2438280"/>
            <a:ext cx="6477120" cy="34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o you don’t understand or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want to discus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with your teacher/tuto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o you think would go good on an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essay tes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Gap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n your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WordArt 5"/>
          <p:cNvSpPr txBox="1"/>
          <p:nvPr/>
        </p:nvSpPr>
        <p:spPr>
          <a:xfrm>
            <a:off x="1371600" y="457200"/>
            <a:ext cx="708660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Assignment &amp; Instruction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5" dur="1" fill="hold"/>
                                  <p:tgtEl>
                                    <p:spTgt spid="36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2"/>
          <p:cNvSpPr/>
          <p:nvPr/>
        </p:nvSpPr>
        <p:spPr>
          <a:xfrm>
            <a:off x="1066680" y="1600200"/>
            <a:ext cx="7467840" cy="42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n your own, in the space provided at the bottom of the page, complete a 3 or 4   sentence summary of                        what you wrote in                              your not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Arial"/>
              </a:rPr>
              <a:t>(the summary…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WordArt 4"/>
          <p:cNvSpPr txBox="1"/>
          <p:nvPr/>
        </p:nvSpPr>
        <p:spPr>
          <a:xfrm>
            <a:off x="1371600" y="457200"/>
            <a:ext cx="708660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Assignment &amp; Instruction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grpSp>
        <p:nvGrpSpPr>
          <p:cNvPr id="364" name="Group 65"/>
          <p:cNvGrpSpPr/>
          <p:nvPr/>
        </p:nvGrpSpPr>
        <p:grpSpPr>
          <a:xfrm>
            <a:off x="6324480" y="3352680"/>
            <a:ext cx="2187720" cy="2944440"/>
            <a:chOff x="6324480" y="3352680"/>
            <a:chExt cx="2187720" cy="2944440"/>
          </a:xfrm>
        </p:grpSpPr>
        <p:sp>
          <p:nvSpPr>
            <p:cNvPr id="365" name="Freeform 6"/>
            <p:cNvSpPr/>
            <p:nvPr/>
          </p:nvSpPr>
          <p:spPr>
            <a:xfrm>
              <a:off x="6552720" y="4283640"/>
              <a:ext cx="1379160" cy="1430280"/>
            </a:xfrm>
            <a:custGeom>
              <a:avLst/>
              <a:gdLst/>
              <a:ahLst/>
              <a:rect l="l" t="t" r="r" b="b"/>
              <a:pathLst>
                <a:path w="5940" h="5830">
                  <a:moveTo>
                    <a:pt x="0" y="1575"/>
                  </a:moveTo>
                  <a:lnTo>
                    <a:pt x="124" y="1457"/>
                  </a:lnTo>
                  <a:lnTo>
                    <a:pt x="300" y="1337"/>
                  </a:lnTo>
                  <a:lnTo>
                    <a:pt x="462" y="1201"/>
                  </a:lnTo>
                  <a:lnTo>
                    <a:pt x="878" y="864"/>
                  </a:lnTo>
                  <a:lnTo>
                    <a:pt x="1838" y="0"/>
                  </a:lnTo>
                  <a:lnTo>
                    <a:pt x="5509" y="728"/>
                  </a:lnTo>
                  <a:lnTo>
                    <a:pt x="5940" y="4648"/>
                  </a:lnTo>
                  <a:lnTo>
                    <a:pt x="4357" y="5458"/>
                  </a:lnTo>
                  <a:lnTo>
                    <a:pt x="1478" y="5830"/>
                  </a:lnTo>
                  <a:lnTo>
                    <a:pt x="0" y="1575"/>
                  </a:lnTo>
                  <a:close/>
                </a:path>
              </a:pathLst>
            </a:custGeom>
            <a:solidFill>
              <a:srgbClr val="ffea00"/>
            </a:solidFill>
            <a:ln w="0">
              <a:solidFill>
                <a:srgbClr val="ffea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7"/>
            <p:cNvSpPr/>
            <p:nvPr/>
          </p:nvSpPr>
          <p:spPr>
            <a:xfrm>
              <a:off x="7312320" y="5680080"/>
              <a:ext cx="1154520" cy="315360"/>
            </a:xfrm>
            <a:custGeom>
              <a:avLst/>
              <a:gdLst/>
              <a:ahLst/>
              <a:rect l="l" t="t" r="r" b="b"/>
              <a:pathLst>
                <a:path w="4979" h="1283">
                  <a:moveTo>
                    <a:pt x="1815" y="1283"/>
                  </a:moveTo>
                  <a:lnTo>
                    <a:pt x="4925" y="638"/>
                  </a:lnTo>
                  <a:lnTo>
                    <a:pt x="4957" y="480"/>
                  </a:lnTo>
                  <a:lnTo>
                    <a:pt x="4979" y="352"/>
                  </a:lnTo>
                  <a:lnTo>
                    <a:pt x="4957" y="225"/>
                  </a:lnTo>
                  <a:lnTo>
                    <a:pt x="4901" y="153"/>
                  </a:lnTo>
                  <a:lnTo>
                    <a:pt x="4836" y="120"/>
                  </a:lnTo>
                  <a:lnTo>
                    <a:pt x="3337" y="0"/>
                  </a:lnTo>
                  <a:lnTo>
                    <a:pt x="0" y="469"/>
                  </a:lnTo>
                  <a:lnTo>
                    <a:pt x="1815" y="1283"/>
                  </a:lnTo>
                  <a:close/>
                </a:path>
              </a:pathLst>
            </a:custGeom>
            <a:solidFill>
              <a:srgbClr val="70230c"/>
            </a:solidFill>
            <a:ln w="0">
              <a:solidFill>
                <a:srgbClr val="70230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8"/>
            <p:cNvSpPr/>
            <p:nvPr/>
          </p:nvSpPr>
          <p:spPr>
            <a:xfrm>
              <a:off x="7290000" y="5803920"/>
              <a:ext cx="461160" cy="191160"/>
            </a:xfrm>
            <a:custGeom>
              <a:avLst/>
              <a:gdLst/>
              <a:ahLst/>
              <a:rect l="l" t="t" r="r" b="b"/>
              <a:pathLst>
                <a:path w="1986" h="781">
                  <a:moveTo>
                    <a:pt x="0" y="477"/>
                  </a:moveTo>
                  <a:lnTo>
                    <a:pt x="1885" y="781"/>
                  </a:lnTo>
                  <a:lnTo>
                    <a:pt x="1930" y="774"/>
                  </a:lnTo>
                  <a:lnTo>
                    <a:pt x="1972" y="647"/>
                  </a:lnTo>
                  <a:lnTo>
                    <a:pt x="1986" y="533"/>
                  </a:lnTo>
                  <a:lnTo>
                    <a:pt x="1972" y="402"/>
                  </a:lnTo>
                  <a:lnTo>
                    <a:pt x="1941" y="290"/>
                  </a:lnTo>
                  <a:lnTo>
                    <a:pt x="1911" y="219"/>
                  </a:lnTo>
                  <a:lnTo>
                    <a:pt x="479" y="0"/>
                  </a:lnTo>
                  <a:lnTo>
                    <a:pt x="236" y="116"/>
                  </a:lnTo>
                  <a:lnTo>
                    <a:pt x="66" y="304"/>
                  </a:lnTo>
                  <a:lnTo>
                    <a:pt x="0" y="47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9"/>
            <p:cNvSpPr/>
            <p:nvPr/>
          </p:nvSpPr>
          <p:spPr>
            <a:xfrm>
              <a:off x="8205120" y="5740560"/>
              <a:ext cx="132120" cy="151560"/>
            </a:xfrm>
            <a:custGeom>
              <a:avLst/>
              <a:gdLst/>
              <a:ahLst/>
              <a:rect l="l" t="t" r="r" b="b"/>
              <a:pathLst>
                <a:path w="567" h="615">
                  <a:moveTo>
                    <a:pt x="0" y="108"/>
                  </a:moveTo>
                  <a:lnTo>
                    <a:pt x="31" y="202"/>
                  </a:lnTo>
                  <a:lnTo>
                    <a:pt x="42" y="325"/>
                  </a:lnTo>
                  <a:lnTo>
                    <a:pt x="31" y="434"/>
                  </a:lnTo>
                  <a:lnTo>
                    <a:pt x="5" y="615"/>
                  </a:lnTo>
                  <a:lnTo>
                    <a:pt x="534" y="506"/>
                  </a:lnTo>
                  <a:lnTo>
                    <a:pt x="558" y="374"/>
                  </a:lnTo>
                  <a:lnTo>
                    <a:pt x="567" y="246"/>
                  </a:lnTo>
                  <a:lnTo>
                    <a:pt x="558" y="126"/>
                  </a:lnTo>
                  <a:lnTo>
                    <a:pt x="522" y="44"/>
                  </a:lnTo>
                  <a:lnTo>
                    <a:pt x="499" y="0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ffea00"/>
            </a:solidFill>
            <a:ln w="0">
              <a:solidFill>
                <a:srgbClr val="ffea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0"/>
            <p:cNvSpPr/>
            <p:nvPr/>
          </p:nvSpPr>
          <p:spPr>
            <a:xfrm>
              <a:off x="8362800" y="5734440"/>
              <a:ext cx="69480" cy="95760"/>
            </a:xfrm>
            <a:custGeom>
              <a:avLst/>
              <a:gdLst/>
              <a:ahLst/>
              <a:rect l="l" t="t" r="r" b="b"/>
              <a:pathLst>
                <a:path w="296" h="390">
                  <a:moveTo>
                    <a:pt x="131" y="0"/>
                  </a:moveTo>
                  <a:lnTo>
                    <a:pt x="0" y="281"/>
                  </a:lnTo>
                  <a:lnTo>
                    <a:pt x="197" y="390"/>
                  </a:lnTo>
                  <a:lnTo>
                    <a:pt x="296" y="17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fea00"/>
            </a:solidFill>
            <a:ln w="0">
              <a:solidFill>
                <a:srgbClr val="ffea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11"/>
            <p:cNvSpPr/>
            <p:nvPr/>
          </p:nvSpPr>
          <p:spPr>
            <a:xfrm>
              <a:off x="7817760" y="5837760"/>
              <a:ext cx="50040" cy="136800"/>
            </a:xfrm>
            <a:custGeom>
              <a:avLst/>
              <a:gdLst/>
              <a:ahLst/>
              <a:rect l="l" t="t" r="r" b="b"/>
              <a:pathLst>
                <a:path w="221" h="558">
                  <a:moveTo>
                    <a:pt x="0" y="23"/>
                  </a:moveTo>
                  <a:lnTo>
                    <a:pt x="45" y="154"/>
                  </a:lnTo>
                  <a:lnTo>
                    <a:pt x="68" y="319"/>
                  </a:lnTo>
                  <a:lnTo>
                    <a:pt x="68" y="419"/>
                  </a:lnTo>
                  <a:lnTo>
                    <a:pt x="33" y="558"/>
                  </a:lnTo>
                  <a:lnTo>
                    <a:pt x="176" y="528"/>
                  </a:lnTo>
                  <a:lnTo>
                    <a:pt x="199" y="409"/>
                  </a:lnTo>
                  <a:lnTo>
                    <a:pt x="221" y="299"/>
                  </a:lnTo>
                  <a:lnTo>
                    <a:pt x="211" y="178"/>
                  </a:lnTo>
                  <a:lnTo>
                    <a:pt x="199" y="100"/>
                  </a:lnTo>
                  <a:lnTo>
                    <a:pt x="165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ea00"/>
            </a:solidFill>
            <a:ln w="0">
              <a:solidFill>
                <a:srgbClr val="ffea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2"/>
            <p:cNvSpPr/>
            <p:nvPr/>
          </p:nvSpPr>
          <p:spPr>
            <a:xfrm>
              <a:off x="6467760" y="4458960"/>
              <a:ext cx="1715040" cy="1712880"/>
            </a:xfrm>
            <a:custGeom>
              <a:avLst/>
              <a:gdLst/>
              <a:ahLst/>
              <a:rect l="l" t="t" r="r" b="b"/>
              <a:pathLst>
                <a:path w="7382" h="6981">
                  <a:moveTo>
                    <a:pt x="419" y="888"/>
                  </a:moveTo>
                  <a:lnTo>
                    <a:pt x="254" y="1109"/>
                  </a:lnTo>
                  <a:lnTo>
                    <a:pt x="105" y="1367"/>
                  </a:lnTo>
                  <a:lnTo>
                    <a:pt x="56" y="1653"/>
                  </a:lnTo>
                  <a:lnTo>
                    <a:pt x="0" y="1961"/>
                  </a:lnTo>
                  <a:lnTo>
                    <a:pt x="38" y="2411"/>
                  </a:lnTo>
                  <a:lnTo>
                    <a:pt x="183" y="3045"/>
                  </a:lnTo>
                  <a:lnTo>
                    <a:pt x="307" y="3552"/>
                  </a:lnTo>
                  <a:lnTo>
                    <a:pt x="457" y="4025"/>
                  </a:lnTo>
                  <a:lnTo>
                    <a:pt x="567" y="4933"/>
                  </a:lnTo>
                  <a:lnTo>
                    <a:pt x="693" y="5397"/>
                  </a:lnTo>
                  <a:lnTo>
                    <a:pt x="823" y="5655"/>
                  </a:lnTo>
                  <a:lnTo>
                    <a:pt x="970" y="5891"/>
                  </a:lnTo>
                  <a:lnTo>
                    <a:pt x="1131" y="6034"/>
                  </a:lnTo>
                  <a:lnTo>
                    <a:pt x="1262" y="6106"/>
                  </a:lnTo>
                  <a:lnTo>
                    <a:pt x="1169" y="6286"/>
                  </a:lnTo>
                  <a:lnTo>
                    <a:pt x="1154" y="6721"/>
                  </a:lnTo>
                  <a:lnTo>
                    <a:pt x="1334" y="6942"/>
                  </a:lnTo>
                  <a:lnTo>
                    <a:pt x="1517" y="6958"/>
                  </a:lnTo>
                  <a:lnTo>
                    <a:pt x="1665" y="6981"/>
                  </a:lnTo>
                  <a:lnTo>
                    <a:pt x="1792" y="6595"/>
                  </a:lnTo>
                  <a:lnTo>
                    <a:pt x="1979" y="6380"/>
                  </a:lnTo>
                  <a:lnTo>
                    <a:pt x="2028" y="6305"/>
                  </a:lnTo>
                  <a:lnTo>
                    <a:pt x="1959" y="6740"/>
                  </a:lnTo>
                  <a:lnTo>
                    <a:pt x="1959" y="6848"/>
                  </a:lnTo>
                  <a:lnTo>
                    <a:pt x="2028" y="6920"/>
                  </a:lnTo>
                  <a:lnTo>
                    <a:pt x="2201" y="6920"/>
                  </a:lnTo>
                  <a:lnTo>
                    <a:pt x="2470" y="6826"/>
                  </a:lnTo>
                  <a:lnTo>
                    <a:pt x="2526" y="6777"/>
                  </a:lnTo>
                  <a:lnTo>
                    <a:pt x="2602" y="6630"/>
                  </a:lnTo>
                  <a:lnTo>
                    <a:pt x="2651" y="6436"/>
                  </a:lnTo>
                  <a:lnTo>
                    <a:pt x="2763" y="6342"/>
                  </a:lnTo>
                  <a:lnTo>
                    <a:pt x="2890" y="6270"/>
                  </a:lnTo>
                  <a:lnTo>
                    <a:pt x="3021" y="6162"/>
                  </a:lnTo>
                  <a:lnTo>
                    <a:pt x="3187" y="6017"/>
                  </a:lnTo>
                  <a:lnTo>
                    <a:pt x="3296" y="5874"/>
                  </a:lnTo>
                  <a:lnTo>
                    <a:pt x="3446" y="5655"/>
                  </a:lnTo>
                  <a:lnTo>
                    <a:pt x="3847" y="5488"/>
                  </a:lnTo>
                  <a:lnTo>
                    <a:pt x="4378" y="5367"/>
                  </a:lnTo>
                  <a:lnTo>
                    <a:pt x="5050" y="5258"/>
                  </a:lnTo>
                  <a:lnTo>
                    <a:pt x="5879" y="5186"/>
                  </a:lnTo>
                  <a:lnTo>
                    <a:pt x="6390" y="5109"/>
                  </a:lnTo>
                  <a:lnTo>
                    <a:pt x="6722" y="5060"/>
                  </a:lnTo>
                  <a:lnTo>
                    <a:pt x="6996" y="4999"/>
                  </a:lnTo>
                  <a:lnTo>
                    <a:pt x="7104" y="4910"/>
                  </a:lnTo>
                  <a:lnTo>
                    <a:pt x="7177" y="4840"/>
                  </a:lnTo>
                  <a:lnTo>
                    <a:pt x="7235" y="4692"/>
                  </a:lnTo>
                  <a:lnTo>
                    <a:pt x="7256" y="4459"/>
                  </a:lnTo>
                  <a:lnTo>
                    <a:pt x="7327" y="4168"/>
                  </a:lnTo>
                  <a:lnTo>
                    <a:pt x="7382" y="3810"/>
                  </a:lnTo>
                  <a:lnTo>
                    <a:pt x="7349" y="3426"/>
                  </a:lnTo>
                  <a:lnTo>
                    <a:pt x="7289" y="2920"/>
                  </a:lnTo>
                  <a:lnTo>
                    <a:pt x="7177" y="2356"/>
                  </a:lnTo>
                  <a:lnTo>
                    <a:pt x="7036" y="1849"/>
                  </a:lnTo>
                  <a:lnTo>
                    <a:pt x="6760" y="1074"/>
                  </a:lnTo>
                  <a:lnTo>
                    <a:pt x="5718" y="2411"/>
                  </a:lnTo>
                  <a:lnTo>
                    <a:pt x="5769" y="3192"/>
                  </a:lnTo>
                  <a:lnTo>
                    <a:pt x="5823" y="3679"/>
                  </a:lnTo>
                  <a:lnTo>
                    <a:pt x="5860" y="3937"/>
                  </a:lnTo>
                  <a:lnTo>
                    <a:pt x="5451" y="4096"/>
                  </a:lnTo>
                  <a:lnTo>
                    <a:pt x="4874" y="4294"/>
                  </a:lnTo>
                  <a:lnTo>
                    <a:pt x="4341" y="4475"/>
                  </a:lnTo>
                  <a:lnTo>
                    <a:pt x="3992" y="4587"/>
                  </a:lnTo>
                  <a:lnTo>
                    <a:pt x="3535" y="4692"/>
                  </a:lnTo>
                  <a:lnTo>
                    <a:pt x="3149" y="4800"/>
                  </a:lnTo>
                  <a:lnTo>
                    <a:pt x="3021" y="4856"/>
                  </a:lnTo>
                  <a:lnTo>
                    <a:pt x="3227" y="4332"/>
                  </a:lnTo>
                  <a:lnTo>
                    <a:pt x="3463" y="3607"/>
                  </a:lnTo>
                  <a:lnTo>
                    <a:pt x="3700" y="2933"/>
                  </a:lnTo>
                  <a:lnTo>
                    <a:pt x="3828" y="2467"/>
                  </a:lnTo>
                  <a:lnTo>
                    <a:pt x="3936" y="2284"/>
                  </a:lnTo>
                  <a:lnTo>
                    <a:pt x="4070" y="2216"/>
                  </a:lnTo>
                  <a:lnTo>
                    <a:pt x="4196" y="2104"/>
                  </a:lnTo>
                  <a:lnTo>
                    <a:pt x="4292" y="1977"/>
                  </a:lnTo>
                  <a:lnTo>
                    <a:pt x="4341" y="1818"/>
                  </a:lnTo>
                  <a:lnTo>
                    <a:pt x="4412" y="1580"/>
                  </a:lnTo>
                  <a:lnTo>
                    <a:pt x="4488" y="1343"/>
                  </a:lnTo>
                  <a:lnTo>
                    <a:pt x="4742" y="1169"/>
                  </a:lnTo>
                  <a:lnTo>
                    <a:pt x="4781" y="1091"/>
                  </a:lnTo>
                  <a:lnTo>
                    <a:pt x="4821" y="861"/>
                  </a:lnTo>
                  <a:lnTo>
                    <a:pt x="4765" y="693"/>
                  </a:lnTo>
                  <a:lnTo>
                    <a:pt x="4671" y="475"/>
                  </a:lnTo>
                  <a:lnTo>
                    <a:pt x="4362" y="475"/>
                  </a:lnTo>
                  <a:lnTo>
                    <a:pt x="4119" y="491"/>
                  </a:lnTo>
                  <a:lnTo>
                    <a:pt x="4322" y="309"/>
                  </a:lnTo>
                  <a:lnTo>
                    <a:pt x="4582" y="277"/>
                  </a:lnTo>
                  <a:lnTo>
                    <a:pt x="4781" y="309"/>
                  </a:lnTo>
                  <a:lnTo>
                    <a:pt x="4908" y="277"/>
                  </a:lnTo>
                  <a:lnTo>
                    <a:pt x="4983" y="223"/>
                  </a:lnTo>
                  <a:lnTo>
                    <a:pt x="4633" y="0"/>
                  </a:lnTo>
                  <a:lnTo>
                    <a:pt x="4142" y="0"/>
                  </a:lnTo>
                  <a:lnTo>
                    <a:pt x="3974" y="183"/>
                  </a:lnTo>
                  <a:lnTo>
                    <a:pt x="3678" y="457"/>
                  </a:lnTo>
                  <a:lnTo>
                    <a:pt x="3589" y="491"/>
                  </a:lnTo>
                  <a:lnTo>
                    <a:pt x="3479" y="641"/>
                  </a:lnTo>
                  <a:lnTo>
                    <a:pt x="3367" y="1169"/>
                  </a:lnTo>
                  <a:lnTo>
                    <a:pt x="3258" y="1669"/>
                  </a:lnTo>
                  <a:lnTo>
                    <a:pt x="3133" y="2032"/>
                  </a:lnTo>
                  <a:lnTo>
                    <a:pt x="3021" y="2216"/>
                  </a:lnTo>
                  <a:lnTo>
                    <a:pt x="2747" y="2689"/>
                  </a:lnTo>
                  <a:lnTo>
                    <a:pt x="2421" y="3304"/>
                  </a:lnTo>
                  <a:lnTo>
                    <a:pt x="2158" y="3646"/>
                  </a:lnTo>
                  <a:lnTo>
                    <a:pt x="2028" y="3754"/>
                  </a:lnTo>
                  <a:lnTo>
                    <a:pt x="1864" y="2775"/>
                  </a:lnTo>
                  <a:lnTo>
                    <a:pt x="1738" y="2268"/>
                  </a:lnTo>
                  <a:lnTo>
                    <a:pt x="1533" y="1778"/>
                  </a:lnTo>
                  <a:lnTo>
                    <a:pt x="1334" y="1379"/>
                  </a:lnTo>
                  <a:lnTo>
                    <a:pt x="1131" y="1109"/>
                  </a:lnTo>
                  <a:lnTo>
                    <a:pt x="1004" y="964"/>
                  </a:lnTo>
                  <a:lnTo>
                    <a:pt x="823" y="888"/>
                  </a:lnTo>
                  <a:lnTo>
                    <a:pt x="663" y="875"/>
                  </a:lnTo>
                  <a:lnTo>
                    <a:pt x="419" y="888"/>
                  </a:lnTo>
                  <a:close/>
                </a:path>
              </a:pathLst>
            </a:custGeom>
            <a:solidFill>
              <a:srgbClr val="ffc98e"/>
            </a:solidFill>
            <a:ln w="0">
              <a:solidFill>
                <a:srgbClr val="ffc98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3"/>
            <p:cNvSpPr/>
            <p:nvPr/>
          </p:nvSpPr>
          <p:spPr>
            <a:xfrm>
              <a:off x="7007040" y="3367080"/>
              <a:ext cx="742320" cy="676080"/>
            </a:xfrm>
            <a:custGeom>
              <a:avLst/>
              <a:gdLst/>
              <a:ahLst/>
              <a:rect l="l" t="t" r="r" b="b"/>
              <a:pathLst>
                <a:path w="3198" h="2754">
                  <a:moveTo>
                    <a:pt x="0" y="2754"/>
                  </a:moveTo>
                  <a:lnTo>
                    <a:pt x="149" y="2274"/>
                  </a:lnTo>
                  <a:lnTo>
                    <a:pt x="100" y="2184"/>
                  </a:lnTo>
                  <a:lnTo>
                    <a:pt x="458" y="1280"/>
                  </a:lnTo>
                  <a:lnTo>
                    <a:pt x="812" y="781"/>
                  </a:lnTo>
                  <a:lnTo>
                    <a:pt x="1022" y="514"/>
                  </a:lnTo>
                  <a:lnTo>
                    <a:pt x="1175" y="386"/>
                  </a:lnTo>
                  <a:lnTo>
                    <a:pt x="1374" y="243"/>
                  </a:lnTo>
                  <a:lnTo>
                    <a:pt x="1671" y="87"/>
                  </a:lnTo>
                  <a:lnTo>
                    <a:pt x="2254" y="0"/>
                  </a:lnTo>
                  <a:lnTo>
                    <a:pt x="2575" y="83"/>
                  </a:lnTo>
                  <a:lnTo>
                    <a:pt x="2741" y="16"/>
                  </a:lnTo>
                  <a:lnTo>
                    <a:pt x="2994" y="16"/>
                  </a:lnTo>
                  <a:lnTo>
                    <a:pt x="3198" y="110"/>
                  </a:lnTo>
                  <a:lnTo>
                    <a:pt x="2917" y="672"/>
                  </a:lnTo>
                  <a:lnTo>
                    <a:pt x="0" y="2754"/>
                  </a:lnTo>
                  <a:close/>
                </a:path>
              </a:pathLst>
            </a:custGeom>
            <a:solidFill>
              <a:srgbClr val="00235b"/>
            </a:solidFill>
            <a:ln w="0">
              <a:solidFill>
                <a:srgbClr val="0023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4"/>
            <p:cNvSpPr/>
            <p:nvPr/>
          </p:nvSpPr>
          <p:spPr>
            <a:xfrm>
              <a:off x="7252200" y="3446640"/>
              <a:ext cx="91800" cy="85320"/>
            </a:xfrm>
            <a:custGeom>
              <a:avLst/>
              <a:gdLst/>
              <a:ahLst/>
              <a:rect l="l" t="t" r="r" b="b"/>
              <a:pathLst>
                <a:path w="393" h="349">
                  <a:moveTo>
                    <a:pt x="205" y="7"/>
                  </a:moveTo>
                  <a:lnTo>
                    <a:pt x="112" y="143"/>
                  </a:lnTo>
                  <a:lnTo>
                    <a:pt x="178" y="179"/>
                  </a:lnTo>
                  <a:lnTo>
                    <a:pt x="0" y="349"/>
                  </a:lnTo>
                  <a:lnTo>
                    <a:pt x="178" y="320"/>
                  </a:lnTo>
                  <a:lnTo>
                    <a:pt x="393" y="112"/>
                  </a:lnTo>
                  <a:lnTo>
                    <a:pt x="254" y="154"/>
                  </a:lnTo>
                  <a:lnTo>
                    <a:pt x="288" y="0"/>
                  </a:lnTo>
                  <a:lnTo>
                    <a:pt x="205" y="7"/>
                  </a:lnTo>
                  <a:close/>
                </a:path>
              </a:pathLst>
            </a:custGeom>
            <a:solidFill>
              <a:srgbClr val="00eaff"/>
            </a:solidFill>
            <a:ln w="0">
              <a:solidFill>
                <a:srgbClr val="00ea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15"/>
            <p:cNvSpPr/>
            <p:nvPr/>
          </p:nvSpPr>
          <p:spPr>
            <a:xfrm>
              <a:off x="7078320" y="3801960"/>
              <a:ext cx="70920" cy="115920"/>
            </a:xfrm>
            <a:custGeom>
              <a:avLst/>
              <a:gdLst/>
              <a:ahLst/>
              <a:rect l="l" t="t" r="r" b="b"/>
              <a:pathLst>
                <a:path w="307" h="473">
                  <a:moveTo>
                    <a:pt x="307" y="0"/>
                  </a:moveTo>
                  <a:lnTo>
                    <a:pt x="108" y="206"/>
                  </a:lnTo>
                  <a:lnTo>
                    <a:pt x="136" y="260"/>
                  </a:lnTo>
                  <a:lnTo>
                    <a:pt x="0" y="473"/>
                  </a:lnTo>
                  <a:lnTo>
                    <a:pt x="2" y="286"/>
                  </a:lnTo>
                  <a:lnTo>
                    <a:pt x="68" y="210"/>
                  </a:lnTo>
                  <a:lnTo>
                    <a:pt x="42" y="161"/>
                  </a:lnTo>
                  <a:lnTo>
                    <a:pt x="162" y="56"/>
                  </a:lnTo>
                  <a:lnTo>
                    <a:pt x="307" y="0"/>
                  </a:lnTo>
                  <a:close/>
                </a:path>
              </a:pathLst>
            </a:custGeom>
            <a:solidFill>
              <a:srgbClr val="00eaff"/>
            </a:solidFill>
            <a:ln w="0">
              <a:solidFill>
                <a:srgbClr val="00ea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16"/>
            <p:cNvSpPr/>
            <p:nvPr/>
          </p:nvSpPr>
          <p:spPr>
            <a:xfrm>
              <a:off x="7605000" y="3387960"/>
              <a:ext cx="30600" cy="65880"/>
            </a:xfrm>
            <a:custGeom>
              <a:avLst/>
              <a:gdLst/>
              <a:ahLst/>
              <a:rect l="l" t="t" r="r" b="b"/>
              <a:pathLst>
                <a:path w="134" h="266">
                  <a:moveTo>
                    <a:pt x="105" y="0"/>
                  </a:moveTo>
                  <a:lnTo>
                    <a:pt x="94" y="109"/>
                  </a:lnTo>
                  <a:lnTo>
                    <a:pt x="134" y="177"/>
                  </a:lnTo>
                  <a:lnTo>
                    <a:pt x="56" y="266"/>
                  </a:lnTo>
                  <a:lnTo>
                    <a:pt x="38" y="205"/>
                  </a:lnTo>
                  <a:lnTo>
                    <a:pt x="68" y="143"/>
                  </a:lnTo>
                  <a:lnTo>
                    <a:pt x="0" y="9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eaff"/>
            </a:solidFill>
            <a:ln w="0">
              <a:solidFill>
                <a:srgbClr val="00ea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17"/>
            <p:cNvSpPr/>
            <p:nvPr/>
          </p:nvSpPr>
          <p:spPr>
            <a:xfrm>
              <a:off x="7588080" y="3454200"/>
              <a:ext cx="64080" cy="36720"/>
            </a:xfrm>
            <a:custGeom>
              <a:avLst/>
              <a:gdLst/>
              <a:ahLst/>
              <a:rect l="l" t="t" r="r" b="b"/>
              <a:pathLst>
                <a:path w="274" h="149">
                  <a:moveTo>
                    <a:pt x="139" y="0"/>
                  </a:moveTo>
                  <a:lnTo>
                    <a:pt x="0" y="87"/>
                  </a:lnTo>
                  <a:lnTo>
                    <a:pt x="127" y="149"/>
                  </a:lnTo>
                  <a:lnTo>
                    <a:pt x="274" y="60"/>
                  </a:lnTo>
                  <a:lnTo>
                    <a:pt x="176" y="33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00eaff"/>
            </a:solidFill>
            <a:ln w="0">
              <a:solidFill>
                <a:srgbClr val="00ea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18"/>
            <p:cNvSpPr/>
            <p:nvPr/>
          </p:nvSpPr>
          <p:spPr>
            <a:xfrm>
              <a:off x="7149240" y="3511440"/>
              <a:ext cx="727200" cy="960120"/>
            </a:xfrm>
            <a:custGeom>
              <a:avLst/>
              <a:gdLst/>
              <a:ahLst/>
              <a:rect l="l" t="t" r="r" b="b"/>
              <a:pathLst>
                <a:path w="3132" h="3913">
                  <a:moveTo>
                    <a:pt x="1648" y="0"/>
                  </a:moveTo>
                  <a:lnTo>
                    <a:pt x="1219" y="583"/>
                  </a:lnTo>
                  <a:lnTo>
                    <a:pt x="789" y="1018"/>
                  </a:lnTo>
                  <a:lnTo>
                    <a:pt x="373" y="1309"/>
                  </a:lnTo>
                  <a:lnTo>
                    <a:pt x="210" y="1540"/>
                  </a:lnTo>
                  <a:lnTo>
                    <a:pt x="132" y="2074"/>
                  </a:lnTo>
                  <a:lnTo>
                    <a:pt x="0" y="3523"/>
                  </a:lnTo>
                  <a:lnTo>
                    <a:pt x="65" y="3628"/>
                  </a:lnTo>
                  <a:lnTo>
                    <a:pt x="181" y="3710"/>
                  </a:lnTo>
                  <a:lnTo>
                    <a:pt x="458" y="3833"/>
                  </a:lnTo>
                  <a:lnTo>
                    <a:pt x="733" y="3857"/>
                  </a:lnTo>
                  <a:lnTo>
                    <a:pt x="942" y="3846"/>
                  </a:lnTo>
                  <a:lnTo>
                    <a:pt x="1107" y="3864"/>
                  </a:lnTo>
                  <a:lnTo>
                    <a:pt x="1250" y="3913"/>
                  </a:lnTo>
                  <a:lnTo>
                    <a:pt x="1411" y="3902"/>
                  </a:lnTo>
                  <a:lnTo>
                    <a:pt x="1580" y="3857"/>
                  </a:lnTo>
                  <a:lnTo>
                    <a:pt x="1742" y="3782"/>
                  </a:lnTo>
                  <a:lnTo>
                    <a:pt x="2255" y="3594"/>
                  </a:lnTo>
                  <a:lnTo>
                    <a:pt x="2706" y="3148"/>
                  </a:lnTo>
                  <a:lnTo>
                    <a:pt x="3034" y="2394"/>
                  </a:lnTo>
                  <a:lnTo>
                    <a:pt x="3132" y="1442"/>
                  </a:lnTo>
                  <a:lnTo>
                    <a:pt x="2079" y="71"/>
                  </a:lnTo>
                  <a:lnTo>
                    <a:pt x="1648" y="0"/>
                  </a:lnTo>
                  <a:close/>
                </a:path>
              </a:pathLst>
            </a:custGeom>
            <a:solidFill>
              <a:srgbClr val="ffc98e"/>
            </a:solidFill>
            <a:ln w="0">
              <a:solidFill>
                <a:srgbClr val="ffc98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19"/>
            <p:cNvSpPr/>
            <p:nvPr/>
          </p:nvSpPr>
          <p:spPr>
            <a:xfrm>
              <a:off x="7254000" y="4096440"/>
              <a:ext cx="173880" cy="400320"/>
            </a:xfrm>
            <a:custGeom>
              <a:avLst/>
              <a:gdLst/>
              <a:ahLst/>
              <a:rect l="l" t="t" r="r" b="b"/>
              <a:pathLst>
                <a:path w="745" h="1631">
                  <a:moveTo>
                    <a:pt x="17" y="11"/>
                  </a:moveTo>
                  <a:lnTo>
                    <a:pt x="0" y="44"/>
                  </a:lnTo>
                  <a:lnTo>
                    <a:pt x="606" y="1631"/>
                  </a:lnTo>
                  <a:lnTo>
                    <a:pt x="745" y="1512"/>
                  </a:lnTo>
                  <a:lnTo>
                    <a:pt x="142" y="28"/>
                  </a:lnTo>
                  <a:lnTo>
                    <a:pt x="115" y="0"/>
                  </a:lnTo>
                  <a:lnTo>
                    <a:pt x="66" y="0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00eaff"/>
            </a:solidFill>
            <a:ln w="0">
              <a:solidFill>
                <a:srgbClr val="00ea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20"/>
            <p:cNvSpPr/>
            <p:nvPr/>
          </p:nvSpPr>
          <p:spPr>
            <a:xfrm>
              <a:off x="7482240" y="4208400"/>
              <a:ext cx="143280" cy="85320"/>
            </a:xfrm>
            <a:custGeom>
              <a:avLst/>
              <a:gdLst/>
              <a:ahLst/>
              <a:rect l="l" t="t" r="r" b="b"/>
              <a:pathLst>
                <a:path w="618" h="348">
                  <a:moveTo>
                    <a:pt x="0" y="29"/>
                  </a:moveTo>
                  <a:lnTo>
                    <a:pt x="47" y="105"/>
                  </a:lnTo>
                  <a:lnTo>
                    <a:pt x="175" y="236"/>
                  </a:lnTo>
                  <a:lnTo>
                    <a:pt x="257" y="290"/>
                  </a:lnTo>
                  <a:lnTo>
                    <a:pt x="370" y="336"/>
                  </a:lnTo>
                  <a:lnTo>
                    <a:pt x="475" y="348"/>
                  </a:lnTo>
                  <a:lnTo>
                    <a:pt x="554" y="319"/>
                  </a:lnTo>
                  <a:lnTo>
                    <a:pt x="592" y="287"/>
                  </a:lnTo>
                  <a:lnTo>
                    <a:pt x="618" y="236"/>
                  </a:lnTo>
                  <a:lnTo>
                    <a:pt x="613" y="181"/>
                  </a:lnTo>
                  <a:lnTo>
                    <a:pt x="18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21"/>
            <p:cNvSpPr/>
            <p:nvPr/>
          </p:nvSpPr>
          <p:spPr>
            <a:xfrm>
              <a:off x="7455960" y="3847680"/>
              <a:ext cx="112680" cy="55440"/>
            </a:xfrm>
            <a:custGeom>
              <a:avLst/>
              <a:gdLst/>
              <a:ahLst/>
              <a:rect l="l" t="t" r="r" b="b"/>
              <a:pathLst>
                <a:path w="490" h="225">
                  <a:moveTo>
                    <a:pt x="49" y="22"/>
                  </a:moveTo>
                  <a:lnTo>
                    <a:pt x="291" y="0"/>
                  </a:lnTo>
                  <a:lnTo>
                    <a:pt x="396" y="18"/>
                  </a:lnTo>
                  <a:lnTo>
                    <a:pt x="445" y="60"/>
                  </a:lnTo>
                  <a:lnTo>
                    <a:pt x="473" y="109"/>
                  </a:lnTo>
                  <a:lnTo>
                    <a:pt x="490" y="176"/>
                  </a:lnTo>
                  <a:lnTo>
                    <a:pt x="490" y="219"/>
                  </a:lnTo>
                  <a:lnTo>
                    <a:pt x="408" y="225"/>
                  </a:lnTo>
                  <a:lnTo>
                    <a:pt x="298" y="217"/>
                  </a:lnTo>
                  <a:lnTo>
                    <a:pt x="153" y="170"/>
                  </a:lnTo>
                  <a:lnTo>
                    <a:pt x="70" y="109"/>
                  </a:lnTo>
                  <a:lnTo>
                    <a:pt x="0" y="37"/>
                  </a:lnTo>
                  <a:lnTo>
                    <a:pt x="49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22"/>
            <p:cNvSpPr/>
            <p:nvPr/>
          </p:nvSpPr>
          <p:spPr>
            <a:xfrm>
              <a:off x="7728840" y="3924000"/>
              <a:ext cx="87480" cy="57240"/>
            </a:xfrm>
            <a:custGeom>
              <a:avLst/>
              <a:gdLst/>
              <a:ahLst/>
              <a:rect l="l" t="t" r="r" b="b"/>
              <a:pathLst>
                <a:path w="375" h="236">
                  <a:moveTo>
                    <a:pt x="0" y="78"/>
                  </a:moveTo>
                  <a:lnTo>
                    <a:pt x="110" y="176"/>
                  </a:lnTo>
                  <a:lnTo>
                    <a:pt x="165" y="216"/>
                  </a:lnTo>
                  <a:lnTo>
                    <a:pt x="297" y="236"/>
                  </a:lnTo>
                  <a:lnTo>
                    <a:pt x="375" y="220"/>
                  </a:lnTo>
                  <a:lnTo>
                    <a:pt x="363" y="167"/>
                  </a:lnTo>
                  <a:lnTo>
                    <a:pt x="319" y="71"/>
                  </a:lnTo>
                  <a:lnTo>
                    <a:pt x="248" y="22"/>
                  </a:lnTo>
                  <a:lnTo>
                    <a:pt x="187" y="0"/>
                  </a:lnTo>
                  <a:lnTo>
                    <a:pt x="143" y="0"/>
                  </a:lnTo>
                  <a:lnTo>
                    <a:pt x="56" y="29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23"/>
            <p:cNvSpPr/>
            <p:nvPr/>
          </p:nvSpPr>
          <p:spPr>
            <a:xfrm>
              <a:off x="7490520" y="4174560"/>
              <a:ext cx="150120" cy="79200"/>
            </a:xfrm>
            <a:custGeom>
              <a:avLst/>
              <a:gdLst/>
              <a:ahLst/>
              <a:rect l="l" t="t" r="r" b="b"/>
              <a:pathLst>
                <a:path w="645" h="326">
                  <a:moveTo>
                    <a:pt x="0" y="40"/>
                  </a:moveTo>
                  <a:lnTo>
                    <a:pt x="23" y="128"/>
                  </a:lnTo>
                  <a:lnTo>
                    <a:pt x="67" y="194"/>
                  </a:lnTo>
                  <a:lnTo>
                    <a:pt x="156" y="222"/>
                  </a:lnTo>
                  <a:lnTo>
                    <a:pt x="259" y="248"/>
                  </a:lnTo>
                  <a:lnTo>
                    <a:pt x="341" y="277"/>
                  </a:lnTo>
                  <a:lnTo>
                    <a:pt x="420" y="320"/>
                  </a:lnTo>
                  <a:lnTo>
                    <a:pt x="496" y="326"/>
                  </a:lnTo>
                  <a:lnTo>
                    <a:pt x="585" y="297"/>
                  </a:lnTo>
                  <a:lnTo>
                    <a:pt x="645" y="248"/>
                  </a:lnTo>
                  <a:lnTo>
                    <a:pt x="559" y="117"/>
                  </a:lnTo>
                  <a:lnTo>
                    <a:pt x="480" y="84"/>
                  </a:lnTo>
                  <a:lnTo>
                    <a:pt x="447" y="79"/>
                  </a:lnTo>
                  <a:lnTo>
                    <a:pt x="369" y="23"/>
                  </a:lnTo>
                  <a:lnTo>
                    <a:pt x="221" y="0"/>
                  </a:lnTo>
                  <a:lnTo>
                    <a:pt x="83" y="12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24"/>
            <p:cNvSpPr/>
            <p:nvPr/>
          </p:nvSpPr>
          <p:spPr>
            <a:xfrm>
              <a:off x="7440120" y="3843000"/>
              <a:ext cx="135000" cy="66240"/>
            </a:xfrm>
            <a:custGeom>
              <a:avLst/>
              <a:gdLst/>
              <a:ahLst/>
              <a:rect l="l" t="t" r="r" b="b"/>
              <a:pathLst>
                <a:path w="585" h="269">
                  <a:moveTo>
                    <a:pt x="585" y="265"/>
                  </a:moveTo>
                  <a:lnTo>
                    <a:pt x="562" y="178"/>
                  </a:lnTo>
                  <a:lnTo>
                    <a:pt x="551" y="131"/>
                  </a:lnTo>
                  <a:lnTo>
                    <a:pt x="525" y="82"/>
                  </a:lnTo>
                  <a:lnTo>
                    <a:pt x="487" y="44"/>
                  </a:lnTo>
                  <a:lnTo>
                    <a:pt x="449" y="22"/>
                  </a:lnTo>
                  <a:lnTo>
                    <a:pt x="386" y="7"/>
                  </a:lnTo>
                  <a:lnTo>
                    <a:pt x="326" y="0"/>
                  </a:lnTo>
                  <a:lnTo>
                    <a:pt x="221" y="10"/>
                  </a:lnTo>
                  <a:lnTo>
                    <a:pt x="120" y="22"/>
                  </a:lnTo>
                  <a:lnTo>
                    <a:pt x="49" y="22"/>
                  </a:lnTo>
                  <a:lnTo>
                    <a:pt x="0" y="22"/>
                  </a:lnTo>
                  <a:lnTo>
                    <a:pt x="23" y="71"/>
                  </a:lnTo>
                  <a:lnTo>
                    <a:pt x="56" y="127"/>
                  </a:lnTo>
                  <a:lnTo>
                    <a:pt x="89" y="155"/>
                  </a:lnTo>
                  <a:lnTo>
                    <a:pt x="138" y="178"/>
                  </a:lnTo>
                  <a:lnTo>
                    <a:pt x="216" y="198"/>
                  </a:lnTo>
                  <a:lnTo>
                    <a:pt x="281" y="220"/>
                  </a:lnTo>
                  <a:lnTo>
                    <a:pt x="356" y="239"/>
                  </a:lnTo>
                  <a:lnTo>
                    <a:pt x="405" y="241"/>
                  </a:lnTo>
                  <a:lnTo>
                    <a:pt x="288" y="204"/>
                  </a:lnTo>
                  <a:lnTo>
                    <a:pt x="232" y="171"/>
                  </a:lnTo>
                  <a:lnTo>
                    <a:pt x="199" y="138"/>
                  </a:lnTo>
                  <a:lnTo>
                    <a:pt x="168" y="100"/>
                  </a:lnTo>
                  <a:lnTo>
                    <a:pt x="157" y="78"/>
                  </a:lnTo>
                  <a:lnTo>
                    <a:pt x="150" y="44"/>
                  </a:lnTo>
                  <a:lnTo>
                    <a:pt x="304" y="33"/>
                  </a:lnTo>
                  <a:lnTo>
                    <a:pt x="377" y="33"/>
                  </a:lnTo>
                  <a:lnTo>
                    <a:pt x="449" y="49"/>
                  </a:lnTo>
                  <a:lnTo>
                    <a:pt x="487" y="82"/>
                  </a:lnTo>
                  <a:lnTo>
                    <a:pt x="513" y="115"/>
                  </a:lnTo>
                  <a:lnTo>
                    <a:pt x="529" y="160"/>
                  </a:lnTo>
                  <a:lnTo>
                    <a:pt x="536" y="198"/>
                  </a:lnTo>
                  <a:lnTo>
                    <a:pt x="529" y="216"/>
                  </a:lnTo>
                  <a:lnTo>
                    <a:pt x="502" y="241"/>
                  </a:lnTo>
                  <a:lnTo>
                    <a:pt x="449" y="254"/>
                  </a:lnTo>
                  <a:lnTo>
                    <a:pt x="569" y="269"/>
                  </a:lnTo>
                  <a:lnTo>
                    <a:pt x="585" y="26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25"/>
            <p:cNvSpPr/>
            <p:nvPr/>
          </p:nvSpPr>
          <p:spPr>
            <a:xfrm>
              <a:off x="7491960" y="3847680"/>
              <a:ext cx="47160" cy="43920"/>
            </a:xfrm>
            <a:custGeom>
              <a:avLst/>
              <a:gdLst/>
              <a:ahLst/>
              <a:rect l="l" t="t" r="r" b="b"/>
              <a:pathLst>
                <a:path w="203" h="176">
                  <a:moveTo>
                    <a:pt x="76" y="67"/>
                  </a:moveTo>
                  <a:lnTo>
                    <a:pt x="60" y="60"/>
                  </a:lnTo>
                  <a:lnTo>
                    <a:pt x="49" y="60"/>
                  </a:lnTo>
                  <a:lnTo>
                    <a:pt x="37" y="67"/>
                  </a:lnTo>
                  <a:lnTo>
                    <a:pt x="37" y="78"/>
                  </a:lnTo>
                  <a:lnTo>
                    <a:pt x="37" y="89"/>
                  </a:lnTo>
                  <a:lnTo>
                    <a:pt x="49" y="98"/>
                  </a:lnTo>
                  <a:lnTo>
                    <a:pt x="60" y="98"/>
                  </a:lnTo>
                  <a:lnTo>
                    <a:pt x="76" y="93"/>
                  </a:lnTo>
                  <a:lnTo>
                    <a:pt x="86" y="89"/>
                  </a:lnTo>
                  <a:lnTo>
                    <a:pt x="102" y="109"/>
                  </a:lnTo>
                  <a:lnTo>
                    <a:pt x="128" y="121"/>
                  </a:lnTo>
                  <a:lnTo>
                    <a:pt x="149" y="116"/>
                  </a:lnTo>
                  <a:lnTo>
                    <a:pt x="158" y="89"/>
                  </a:lnTo>
                  <a:lnTo>
                    <a:pt x="158" y="60"/>
                  </a:lnTo>
                  <a:lnTo>
                    <a:pt x="149" y="44"/>
                  </a:lnTo>
                  <a:lnTo>
                    <a:pt x="198" y="44"/>
                  </a:lnTo>
                  <a:lnTo>
                    <a:pt x="203" y="67"/>
                  </a:lnTo>
                  <a:lnTo>
                    <a:pt x="198" y="109"/>
                  </a:lnTo>
                  <a:lnTo>
                    <a:pt x="177" y="138"/>
                  </a:lnTo>
                  <a:lnTo>
                    <a:pt x="149" y="165"/>
                  </a:lnTo>
                  <a:lnTo>
                    <a:pt x="121" y="176"/>
                  </a:lnTo>
                  <a:lnTo>
                    <a:pt x="86" y="176"/>
                  </a:lnTo>
                  <a:lnTo>
                    <a:pt x="37" y="156"/>
                  </a:lnTo>
                  <a:lnTo>
                    <a:pt x="16" y="128"/>
                  </a:lnTo>
                  <a:lnTo>
                    <a:pt x="0" y="89"/>
                  </a:lnTo>
                  <a:lnTo>
                    <a:pt x="0" y="49"/>
                  </a:lnTo>
                  <a:lnTo>
                    <a:pt x="11" y="22"/>
                  </a:lnTo>
                  <a:lnTo>
                    <a:pt x="32" y="0"/>
                  </a:lnTo>
                  <a:lnTo>
                    <a:pt x="98" y="0"/>
                  </a:lnTo>
                  <a:lnTo>
                    <a:pt x="102" y="33"/>
                  </a:lnTo>
                  <a:lnTo>
                    <a:pt x="102" y="67"/>
                  </a:lnTo>
                  <a:lnTo>
                    <a:pt x="83" y="78"/>
                  </a:lnTo>
                  <a:lnTo>
                    <a:pt x="76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26"/>
            <p:cNvSpPr/>
            <p:nvPr/>
          </p:nvSpPr>
          <p:spPr>
            <a:xfrm>
              <a:off x="7507440" y="3847680"/>
              <a:ext cx="32040" cy="27720"/>
            </a:xfrm>
            <a:custGeom>
              <a:avLst/>
              <a:gdLst/>
              <a:ahLst/>
              <a:rect l="l" t="t" r="r" b="b"/>
              <a:pathLst>
                <a:path w="133" h="109">
                  <a:moveTo>
                    <a:pt x="0" y="44"/>
                  </a:moveTo>
                  <a:lnTo>
                    <a:pt x="18" y="67"/>
                  </a:lnTo>
                  <a:lnTo>
                    <a:pt x="18" y="89"/>
                  </a:lnTo>
                  <a:lnTo>
                    <a:pt x="33" y="109"/>
                  </a:lnTo>
                  <a:lnTo>
                    <a:pt x="37" y="84"/>
                  </a:lnTo>
                  <a:lnTo>
                    <a:pt x="37" y="67"/>
                  </a:lnTo>
                  <a:lnTo>
                    <a:pt x="56" y="49"/>
                  </a:lnTo>
                  <a:lnTo>
                    <a:pt x="84" y="49"/>
                  </a:lnTo>
                  <a:lnTo>
                    <a:pt x="105" y="60"/>
                  </a:lnTo>
                  <a:lnTo>
                    <a:pt x="133" y="49"/>
                  </a:lnTo>
                  <a:lnTo>
                    <a:pt x="133" y="33"/>
                  </a:lnTo>
                  <a:lnTo>
                    <a:pt x="115" y="11"/>
                  </a:lnTo>
                  <a:lnTo>
                    <a:pt x="84" y="0"/>
                  </a:lnTo>
                  <a:lnTo>
                    <a:pt x="26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27"/>
            <p:cNvSpPr/>
            <p:nvPr/>
          </p:nvSpPr>
          <p:spPr>
            <a:xfrm>
              <a:off x="7714800" y="3921120"/>
              <a:ext cx="121320" cy="74880"/>
            </a:xfrm>
            <a:custGeom>
              <a:avLst/>
              <a:gdLst/>
              <a:ahLst/>
              <a:rect l="l" t="t" r="r" b="b"/>
              <a:pathLst>
                <a:path w="525" h="306">
                  <a:moveTo>
                    <a:pt x="18" y="89"/>
                  </a:moveTo>
                  <a:lnTo>
                    <a:pt x="63" y="46"/>
                  </a:lnTo>
                  <a:lnTo>
                    <a:pt x="119" y="18"/>
                  </a:lnTo>
                  <a:lnTo>
                    <a:pt x="173" y="0"/>
                  </a:lnTo>
                  <a:lnTo>
                    <a:pt x="239" y="0"/>
                  </a:lnTo>
                  <a:lnTo>
                    <a:pt x="311" y="11"/>
                  </a:lnTo>
                  <a:lnTo>
                    <a:pt x="393" y="60"/>
                  </a:lnTo>
                  <a:lnTo>
                    <a:pt x="442" y="116"/>
                  </a:lnTo>
                  <a:lnTo>
                    <a:pt x="469" y="166"/>
                  </a:lnTo>
                  <a:lnTo>
                    <a:pt x="491" y="231"/>
                  </a:lnTo>
                  <a:lnTo>
                    <a:pt x="525" y="299"/>
                  </a:lnTo>
                  <a:lnTo>
                    <a:pt x="491" y="306"/>
                  </a:lnTo>
                  <a:lnTo>
                    <a:pt x="442" y="306"/>
                  </a:lnTo>
                  <a:lnTo>
                    <a:pt x="389" y="299"/>
                  </a:lnTo>
                  <a:lnTo>
                    <a:pt x="316" y="269"/>
                  </a:lnTo>
                  <a:lnTo>
                    <a:pt x="250" y="243"/>
                  </a:lnTo>
                  <a:lnTo>
                    <a:pt x="206" y="215"/>
                  </a:lnTo>
                  <a:lnTo>
                    <a:pt x="266" y="227"/>
                  </a:lnTo>
                  <a:lnTo>
                    <a:pt x="333" y="227"/>
                  </a:lnTo>
                  <a:lnTo>
                    <a:pt x="370" y="215"/>
                  </a:lnTo>
                  <a:lnTo>
                    <a:pt x="400" y="194"/>
                  </a:lnTo>
                  <a:lnTo>
                    <a:pt x="415" y="180"/>
                  </a:lnTo>
                  <a:lnTo>
                    <a:pt x="415" y="166"/>
                  </a:lnTo>
                  <a:lnTo>
                    <a:pt x="389" y="120"/>
                  </a:lnTo>
                  <a:lnTo>
                    <a:pt x="333" y="67"/>
                  </a:lnTo>
                  <a:lnTo>
                    <a:pt x="281" y="40"/>
                  </a:lnTo>
                  <a:lnTo>
                    <a:pt x="262" y="40"/>
                  </a:lnTo>
                  <a:lnTo>
                    <a:pt x="222" y="33"/>
                  </a:lnTo>
                  <a:lnTo>
                    <a:pt x="178" y="33"/>
                  </a:lnTo>
                  <a:lnTo>
                    <a:pt x="161" y="51"/>
                  </a:lnTo>
                  <a:lnTo>
                    <a:pt x="157" y="77"/>
                  </a:lnTo>
                  <a:lnTo>
                    <a:pt x="157" y="100"/>
                  </a:lnTo>
                  <a:lnTo>
                    <a:pt x="129" y="100"/>
                  </a:lnTo>
                  <a:lnTo>
                    <a:pt x="129" y="89"/>
                  </a:lnTo>
                  <a:lnTo>
                    <a:pt x="129" y="77"/>
                  </a:lnTo>
                  <a:lnTo>
                    <a:pt x="129" y="67"/>
                  </a:lnTo>
                  <a:lnTo>
                    <a:pt x="112" y="60"/>
                  </a:lnTo>
                  <a:lnTo>
                    <a:pt x="94" y="70"/>
                  </a:lnTo>
                  <a:lnTo>
                    <a:pt x="89" y="82"/>
                  </a:lnTo>
                  <a:lnTo>
                    <a:pt x="101" y="96"/>
                  </a:lnTo>
                  <a:lnTo>
                    <a:pt x="112" y="100"/>
                  </a:lnTo>
                  <a:lnTo>
                    <a:pt x="157" y="116"/>
                  </a:lnTo>
                  <a:lnTo>
                    <a:pt x="173" y="156"/>
                  </a:lnTo>
                  <a:lnTo>
                    <a:pt x="178" y="205"/>
                  </a:lnTo>
                  <a:lnTo>
                    <a:pt x="112" y="166"/>
                  </a:lnTo>
                  <a:lnTo>
                    <a:pt x="63" y="145"/>
                  </a:lnTo>
                  <a:lnTo>
                    <a:pt x="0" y="116"/>
                  </a:lnTo>
                  <a:lnTo>
                    <a:pt x="18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28"/>
            <p:cNvSpPr/>
            <p:nvPr/>
          </p:nvSpPr>
          <p:spPr>
            <a:xfrm>
              <a:off x="7737480" y="3924000"/>
              <a:ext cx="38520" cy="38160"/>
            </a:xfrm>
            <a:custGeom>
              <a:avLst/>
              <a:gdLst/>
              <a:ahLst/>
              <a:rect l="l" t="t" r="r" b="b"/>
              <a:pathLst>
                <a:path w="168" h="155">
                  <a:moveTo>
                    <a:pt x="168" y="22"/>
                  </a:moveTo>
                  <a:lnTo>
                    <a:pt x="168" y="49"/>
                  </a:lnTo>
                  <a:lnTo>
                    <a:pt x="156" y="89"/>
                  </a:lnTo>
                  <a:lnTo>
                    <a:pt x="128" y="134"/>
                  </a:lnTo>
                  <a:lnTo>
                    <a:pt x="100" y="145"/>
                  </a:lnTo>
                  <a:lnTo>
                    <a:pt x="74" y="155"/>
                  </a:lnTo>
                  <a:lnTo>
                    <a:pt x="0" y="105"/>
                  </a:lnTo>
                  <a:lnTo>
                    <a:pt x="35" y="89"/>
                  </a:lnTo>
                  <a:lnTo>
                    <a:pt x="56" y="71"/>
                  </a:lnTo>
                  <a:lnTo>
                    <a:pt x="63" y="78"/>
                  </a:lnTo>
                  <a:lnTo>
                    <a:pt x="74" y="85"/>
                  </a:lnTo>
                  <a:lnTo>
                    <a:pt x="89" y="89"/>
                  </a:lnTo>
                  <a:lnTo>
                    <a:pt x="123" y="78"/>
                  </a:lnTo>
                  <a:lnTo>
                    <a:pt x="128" y="49"/>
                  </a:lnTo>
                  <a:lnTo>
                    <a:pt x="123" y="35"/>
                  </a:lnTo>
                  <a:lnTo>
                    <a:pt x="89" y="22"/>
                  </a:lnTo>
                  <a:lnTo>
                    <a:pt x="89" y="7"/>
                  </a:lnTo>
                  <a:lnTo>
                    <a:pt x="138" y="0"/>
                  </a:lnTo>
                  <a:lnTo>
                    <a:pt x="16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29"/>
            <p:cNvSpPr/>
            <p:nvPr/>
          </p:nvSpPr>
          <p:spPr>
            <a:xfrm>
              <a:off x="7412400" y="3755880"/>
              <a:ext cx="203400" cy="69120"/>
            </a:xfrm>
            <a:custGeom>
              <a:avLst/>
              <a:gdLst/>
              <a:ahLst/>
              <a:rect l="l" t="t" r="r" b="b"/>
              <a:pathLst>
                <a:path w="875" h="279">
                  <a:moveTo>
                    <a:pt x="859" y="279"/>
                  </a:moveTo>
                  <a:lnTo>
                    <a:pt x="826" y="279"/>
                  </a:lnTo>
                  <a:lnTo>
                    <a:pt x="777" y="279"/>
                  </a:lnTo>
                  <a:lnTo>
                    <a:pt x="676" y="218"/>
                  </a:lnTo>
                  <a:lnTo>
                    <a:pt x="470" y="132"/>
                  </a:lnTo>
                  <a:lnTo>
                    <a:pt x="379" y="87"/>
                  </a:lnTo>
                  <a:lnTo>
                    <a:pt x="308" y="43"/>
                  </a:lnTo>
                  <a:lnTo>
                    <a:pt x="246" y="43"/>
                  </a:lnTo>
                  <a:lnTo>
                    <a:pt x="159" y="49"/>
                  </a:lnTo>
                  <a:lnTo>
                    <a:pt x="0" y="87"/>
                  </a:lnTo>
                  <a:lnTo>
                    <a:pt x="170" y="24"/>
                  </a:lnTo>
                  <a:lnTo>
                    <a:pt x="259" y="5"/>
                  </a:lnTo>
                  <a:lnTo>
                    <a:pt x="335" y="0"/>
                  </a:lnTo>
                  <a:lnTo>
                    <a:pt x="384" y="16"/>
                  </a:lnTo>
                  <a:lnTo>
                    <a:pt x="491" y="43"/>
                  </a:lnTo>
                  <a:lnTo>
                    <a:pt x="665" y="120"/>
                  </a:lnTo>
                  <a:lnTo>
                    <a:pt x="782" y="164"/>
                  </a:lnTo>
                  <a:lnTo>
                    <a:pt x="842" y="204"/>
                  </a:lnTo>
                  <a:lnTo>
                    <a:pt x="871" y="223"/>
                  </a:lnTo>
                  <a:lnTo>
                    <a:pt x="875" y="253"/>
                  </a:lnTo>
                  <a:lnTo>
                    <a:pt x="875" y="270"/>
                  </a:lnTo>
                  <a:lnTo>
                    <a:pt x="859" y="27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30"/>
            <p:cNvSpPr/>
            <p:nvPr/>
          </p:nvSpPr>
          <p:spPr>
            <a:xfrm>
              <a:off x="7749720" y="3848760"/>
              <a:ext cx="114120" cy="42480"/>
            </a:xfrm>
            <a:custGeom>
              <a:avLst/>
              <a:gdLst/>
              <a:ahLst/>
              <a:rect l="l" t="t" r="r" b="b"/>
              <a:pathLst>
                <a:path w="491" h="169">
                  <a:moveTo>
                    <a:pt x="0" y="71"/>
                  </a:moveTo>
                  <a:lnTo>
                    <a:pt x="0" y="37"/>
                  </a:lnTo>
                  <a:lnTo>
                    <a:pt x="23" y="15"/>
                  </a:lnTo>
                  <a:lnTo>
                    <a:pt x="67" y="0"/>
                  </a:lnTo>
                  <a:lnTo>
                    <a:pt x="143" y="4"/>
                  </a:lnTo>
                  <a:lnTo>
                    <a:pt x="259" y="20"/>
                  </a:lnTo>
                  <a:lnTo>
                    <a:pt x="424" y="77"/>
                  </a:lnTo>
                  <a:lnTo>
                    <a:pt x="475" y="126"/>
                  </a:lnTo>
                  <a:lnTo>
                    <a:pt x="491" y="169"/>
                  </a:lnTo>
                  <a:lnTo>
                    <a:pt x="442" y="138"/>
                  </a:lnTo>
                  <a:lnTo>
                    <a:pt x="337" y="138"/>
                  </a:lnTo>
                  <a:lnTo>
                    <a:pt x="203" y="102"/>
                  </a:lnTo>
                  <a:lnTo>
                    <a:pt x="33" y="82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31"/>
            <p:cNvSpPr/>
            <p:nvPr/>
          </p:nvSpPr>
          <p:spPr>
            <a:xfrm>
              <a:off x="7670160" y="3899160"/>
              <a:ext cx="48600" cy="63360"/>
            </a:xfrm>
            <a:custGeom>
              <a:avLst/>
              <a:gdLst/>
              <a:ahLst/>
              <a:rect l="l" t="t" r="r" b="b"/>
              <a:pathLst>
                <a:path w="210" h="253">
                  <a:moveTo>
                    <a:pt x="161" y="9"/>
                  </a:moveTo>
                  <a:lnTo>
                    <a:pt x="117" y="37"/>
                  </a:lnTo>
                  <a:lnTo>
                    <a:pt x="72" y="82"/>
                  </a:lnTo>
                  <a:lnTo>
                    <a:pt x="34" y="133"/>
                  </a:lnTo>
                  <a:lnTo>
                    <a:pt x="12" y="187"/>
                  </a:lnTo>
                  <a:lnTo>
                    <a:pt x="0" y="253"/>
                  </a:lnTo>
                  <a:lnTo>
                    <a:pt x="34" y="176"/>
                  </a:lnTo>
                  <a:lnTo>
                    <a:pt x="72" y="98"/>
                  </a:lnTo>
                  <a:lnTo>
                    <a:pt x="124" y="56"/>
                  </a:lnTo>
                  <a:lnTo>
                    <a:pt x="210" y="0"/>
                  </a:lnTo>
                  <a:lnTo>
                    <a:pt x="16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32"/>
            <p:cNvSpPr/>
            <p:nvPr/>
          </p:nvSpPr>
          <p:spPr>
            <a:xfrm>
              <a:off x="7650720" y="3981600"/>
              <a:ext cx="43200" cy="147240"/>
            </a:xfrm>
            <a:custGeom>
              <a:avLst/>
              <a:gdLst/>
              <a:ahLst/>
              <a:rect l="l" t="t" r="r" b="b"/>
              <a:pathLst>
                <a:path w="188" h="600">
                  <a:moveTo>
                    <a:pt x="76" y="0"/>
                  </a:moveTo>
                  <a:lnTo>
                    <a:pt x="72" y="127"/>
                  </a:lnTo>
                  <a:lnTo>
                    <a:pt x="76" y="205"/>
                  </a:lnTo>
                  <a:lnTo>
                    <a:pt x="92" y="270"/>
                  </a:lnTo>
                  <a:lnTo>
                    <a:pt x="115" y="331"/>
                  </a:lnTo>
                  <a:lnTo>
                    <a:pt x="143" y="380"/>
                  </a:lnTo>
                  <a:lnTo>
                    <a:pt x="181" y="426"/>
                  </a:lnTo>
                  <a:lnTo>
                    <a:pt x="188" y="469"/>
                  </a:lnTo>
                  <a:lnTo>
                    <a:pt x="176" y="518"/>
                  </a:lnTo>
                  <a:lnTo>
                    <a:pt x="152" y="558"/>
                  </a:lnTo>
                  <a:lnTo>
                    <a:pt x="121" y="585"/>
                  </a:lnTo>
                  <a:lnTo>
                    <a:pt x="99" y="595"/>
                  </a:lnTo>
                  <a:lnTo>
                    <a:pt x="76" y="600"/>
                  </a:lnTo>
                  <a:lnTo>
                    <a:pt x="49" y="600"/>
                  </a:lnTo>
                  <a:lnTo>
                    <a:pt x="16" y="600"/>
                  </a:lnTo>
                  <a:lnTo>
                    <a:pt x="0" y="595"/>
                  </a:lnTo>
                  <a:lnTo>
                    <a:pt x="54" y="595"/>
                  </a:lnTo>
                  <a:lnTo>
                    <a:pt x="92" y="585"/>
                  </a:lnTo>
                  <a:lnTo>
                    <a:pt x="143" y="546"/>
                  </a:lnTo>
                  <a:lnTo>
                    <a:pt x="164" y="497"/>
                  </a:lnTo>
                  <a:lnTo>
                    <a:pt x="164" y="469"/>
                  </a:lnTo>
                  <a:lnTo>
                    <a:pt x="164" y="426"/>
                  </a:lnTo>
                  <a:lnTo>
                    <a:pt x="143" y="391"/>
                  </a:lnTo>
                  <a:lnTo>
                    <a:pt x="103" y="359"/>
                  </a:lnTo>
                  <a:lnTo>
                    <a:pt x="76" y="359"/>
                  </a:lnTo>
                  <a:lnTo>
                    <a:pt x="72" y="386"/>
                  </a:lnTo>
                  <a:lnTo>
                    <a:pt x="54" y="415"/>
                  </a:lnTo>
                  <a:lnTo>
                    <a:pt x="61" y="380"/>
                  </a:lnTo>
                  <a:lnTo>
                    <a:pt x="61" y="326"/>
                  </a:lnTo>
                  <a:lnTo>
                    <a:pt x="49" y="244"/>
                  </a:lnTo>
                  <a:lnTo>
                    <a:pt x="54" y="139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33"/>
            <p:cNvSpPr/>
            <p:nvPr/>
          </p:nvSpPr>
          <p:spPr>
            <a:xfrm>
              <a:off x="7625880" y="4093560"/>
              <a:ext cx="41400" cy="20520"/>
            </a:xfrm>
            <a:custGeom>
              <a:avLst/>
              <a:gdLst/>
              <a:ahLst/>
              <a:rect l="l" t="t" r="r" b="b"/>
              <a:pathLst>
                <a:path w="179" h="83">
                  <a:moveTo>
                    <a:pt x="134" y="0"/>
                  </a:moveTo>
                  <a:lnTo>
                    <a:pt x="89" y="33"/>
                  </a:lnTo>
                  <a:lnTo>
                    <a:pt x="0" y="68"/>
                  </a:lnTo>
                  <a:lnTo>
                    <a:pt x="56" y="56"/>
                  </a:lnTo>
                  <a:lnTo>
                    <a:pt x="123" y="83"/>
                  </a:lnTo>
                  <a:lnTo>
                    <a:pt x="145" y="83"/>
                  </a:lnTo>
                  <a:lnTo>
                    <a:pt x="168" y="79"/>
                  </a:lnTo>
                  <a:lnTo>
                    <a:pt x="179" y="79"/>
                  </a:lnTo>
                  <a:lnTo>
                    <a:pt x="179" y="56"/>
                  </a:lnTo>
                  <a:lnTo>
                    <a:pt x="168" y="33"/>
                  </a:lnTo>
                  <a:lnTo>
                    <a:pt x="156" y="23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34"/>
            <p:cNvSpPr/>
            <p:nvPr/>
          </p:nvSpPr>
          <p:spPr>
            <a:xfrm>
              <a:off x="7567200" y="4074480"/>
              <a:ext cx="45720" cy="18720"/>
            </a:xfrm>
            <a:custGeom>
              <a:avLst/>
              <a:gdLst/>
              <a:ahLst/>
              <a:rect l="l" t="t" r="r" b="b"/>
              <a:pathLst>
                <a:path w="194" h="77">
                  <a:moveTo>
                    <a:pt x="177" y="6"/>
                  </a:moveTo>
                  <a:lnTo>
                    <a:pt x="96" y="0"/>
                  </a:lnTo>
                  <a:lnTo>
                    <a:pt x="46" y="6"/>
                  </a:lnTo>
                  <a:lnTo>
                    <a:pt x="18" y="6"/>
                  </a:lnTo>
                  <a:lnTo>
                    <a:pt x="0" y="21"/>
                  </a:lnTo>
                  <a:lnTo>
                    <a:pt x="0" y="35"/>
                  </a:lnTo>
                  <a:lnTo>
                    <a:pt x="0" y="51"/>
                  </a:lnTo>
                  <a:lnTo>
                    <a:pt x="67" y="77"/>
                  </a:lnTo>
                  <a:lnTo>
                    <a:pt x="90" y="58"/>
                  </a:lnTo>
                  <a:lnTo>
                    <a:pt x="117" y="40"/>
                  </a:lnTo>
                  <a:lnTo>
                    <a:pt x="161" y="35"/>
                  </a:lnTo>
                  <a:lnTo>
                    <a:pt x="177" y="35"/>
                  </a:lnTo>
                  <a:lnTo>
                    <a:pt x="173" y="46"/>
                  </a:lnTo>
                  <a:lnTo>
                    <a:pt x="166" y="51"/>
                  </a:lnTo>
                  <a:lnTo>
                    <a:pt x="184" y="46"/>
                  </a:lnTo>
                  <a:lnTo>
                    <a:pt x="194" y="35"/>
                  </a:lnTo>
                  <a:lnTo>
                    <a:pt x="194" y="11"/>
                  </a:lnTo>
                  <a:lnTo>
                    <a:pt x="17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35"/>
            <p:cNvSpPr/>
            <p:nvPr/>
          </p:nvSpPr>
          <p:spPr>
            <a:xfrm>
              <a:off x="7465680" y="4164120"/>
              <a:ext cx="191880" cy="82440"/>
            </a:xfrm>
            <a:custGeom>
              <a:avLst/>
              <a:gdLst/>
              <a:ahLst/>
              <a:rect l="l" t="t" r="r" b="b"/>
              <a:pathLst>
                <a:path w="825" h="335">
                  <a:moveTo>
                    <a:pt x="0" y="77"/>
                  </a:moveTo>
                  <a:lnTo>
                    <a:pt x="104" y="49"/>
                  </a:lnTo>
                  <a:lnTo>
                    <a:pt x="207" y="16"/>
                  </a:lnTo>
                  <a:lnTo>
                    <a:pt x="303" y="5"/>
                  </a:lnTo>
                  <a:lnTo>
                    <a:pt x="386" y="0"/>
                  </a:lnTo>
                  <a:lnTo>
                    <a:pt x="469" y="5"/>
                  </a:lnTo>
                  <a:lnTo>
                    <a:pt x="518" y="21"/>
                  </a:lnTo>
                  <a:lnTo>
                    <a:pt x="535" y="49"/>
                  </a:lnTo>
                  <a:lnTo>
                    <a:pt x="574" y="98"/>
                  </a:lnTo>
                  <a:lnTo>
                    <a:pt x="677" y="98"/>
                  </a:lnTo>
                  <a:lnTo>
                    <a:pt x="724" y="110"/>
                  </a:lnTo>
                  <a:lnTo>
                    <a:pt x="754" y="147"/>
                  </a:lnTo>
                  <a:lnTo>
                    <a:pt x="787" y="203"/>
                  </a:lnTo>
                  <a:lnTo>
                    <a:pt x="810" y="264"/>
                  </a:lnTo>
                  <a:lnTo>
                    <a:pt x="825" y="335"/>
                  </a:lnTo>
                  <a:lnTo>
                    <a:pt x="766" y="319"/>
                  </a:lnTo>
                  <a:lnTo>
                    <a:pt x="717" y="279"/>
                  </a:lnTo>
                  <a:lnTo>
                    <a:pt x="687" y="252"/>
                  </a:lnTo>
                  <a:lnTo>
                    <a:pt x="677" y="219"/>
                  </a:lnTo>
                  <a:lnTo>
                    <a:pt x="638" y="181"/>
                  </a:lnTo>
                  <a:lnTo>
                    <a:pt x="600" y="163"/>
                  </a:lnTo>
                  <a:lnTo>
                    <a:pt x="551" y="159"/>
                  </a:lnTo>
                  <a:lnTo>
                    <a:pt x="513" y="159"/>
                  </a:lnTo>
                  <a:lnTo>
                    <a:pt x="429" y="103"/>
                  </a:lnTo>
                  <a:lnTo>
                    <a:pt x="364" y="82"/>
                  </a:lnTo>
                  <a:lnTo>
                    <a:pt x="314" y="77"/>
                  </a:lnTo>
                  <a:lnTo>
                    <a:pt x="265" y="77"/>
                  </a:lnTo>
                  <a:lnTo>
                    <a:pt x="199" y="77"/>
                  </a:lnTo>
                  <a:lnTo>
                    <a:pt x="136" y="87"/>
                  </a:lnTo>
                  <a:lnTo>
                    <a:pt x="69" y="98"/>
                  </a:lnTo>
                  <a:lnTo>
                    <a:pt x="20" y="91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36"/>
            <p:cNvSpPr/>
            <p:nvPr/>
          </p:nvSpPr>
          <p:spPr>
            <a:xfrm>
              <a:off x="7466760" y="4183200"/>
              <a:ext cx="183600" cy="113400"/>
            </a:xfrm>
            <a:custGeom>
              <a:avLst/>
              <a:gdLst/>
              <a:ahLst/>
              <a:rect l="l" t="t" r="r" b="b"/>
              <a:pathLst>
                <a:path w="789" h="461">
                  <a:moveTo>
                    <a:pt x="122" y="10"/>
                  </a:moveTo>
                  <a:lnTo>
                    <a:pt x="127" y="66"/>
                  </a:lnTo>
                  <a:lnTo>
                    <a:pt x="143" y="93"/>
                  </a:lnTo>
                  <a:lnTo>
                    <a:pt x="160" y="126"/>
                  </a:lnTo>
                  <a:lnTo>
                    <a:pt x="187" y="142"/>
                  </a:lnTo>
                  <a:lnTo>
                    <a:pt x="220" y="153"/>
                  </a:lnTo>
                  <a:lnTo>
                    <a:pt x="260" y="164"/>
                  </a:lnTo>
                  <a:lnTo>
                    <a:pt x="332" y="182"/>
                  </a:lnTo>
                  <a:lnTo>
                    <a:pt x="419" y="209"/>
                  </a:lnTo>
                  <a:lnTo>
                    <a:pt x="473" y="242"/>
                  </a:lnTo>
                  <a:lnTo>
                    <a:pt x="520" y="262"/>
                  </a:lnTo>
                  <a:lnTo>
                    <a:pt x="557" y="269"/>
                  </a:lnTo>
                  <a:lnTo>
                    <a:pt x="600" y="269"/>
                  </a:lnTo>
                  <a:lnTo>
                    <a:pt x="628" y="262"/>
                  </a:lnTo>
                  <a:lnTo>
                    <a:pt x="656" y="253"/>
                  </a:lnTo>
                  <a:lnTo>
                    <a:pt x="707" y="220"/>
                  </a:lnTo>
                  <a:lnTo>
                    <a:pt x="719" y="197"/>
                  </a:lnTo>
                  <a:lnTo>
                    <a:pt x="789" y="242"/>
                  </a:lnTo>
                  <a:lnTo>
                    <a:pt x="749" y="285"/>
                  </a:lnTo>
                  <a:lnTo>
                    <a:pt x="707" y="374"/>
                  </a:lnTo>
                  <a:lnTo>
                    <a:pt x="677" y="412"/>
                  </a:lnTo>
                  <a:lnTo>
                    <a:pt x="633" y="440"/>
                  </a:lnTo>
                  <a:lnTo>
                    <a:pt x="600" y="452"/>
                  </a:lnTo>
                  <a:lnTo>
                    <a:pt x="551" y="461"/>
                  </a:lnTo>
                  <a:lnTo>
                    <a:pt x="497" y="452"/>
                  </a:lnTo>
                  <a:lnTo>
                    <a:pt x="396" y="430"/>
                  </a:lnTo>
                  <a:lnTo>
                    <a:pt x="332" y="407"/>
                  </a:lnTo>
                  <a:lnTo>
                    <a:pt x="281" y="381"/>
                  </a:lnTo>
                  <a:lnTo>
                    <a:pt x="242" y="340"/>
                  </a:lnTo>
                  <a:lnTo>
                    <a:pt x="309" y="345"/>
                  </a:lnTo>
                  <a:lnTo>
                    <a:pt x="359" y="351"/>
                  </a:lnTo>
                  <a:lnTo>
                    <a:pt x="419" y="374"/>
                  </a:lnTo>
                  <a:lnTo>
                    <a:pt x="473" y="400"/>
                  </a:lnTo>
                  <a:lnTo>
                    <a:pt x="513" y="412"/>
                  </a:lnTo>
                  <a:lnTo>
                    <a:pt x="557" y="412"/>
                  </a:lnTo>
                  <a:lnTo>
                    <a:pt x="591" y="407"/>
                  </a:lnTo>
                  <a:lnTo>
                    <a:pt x="628" y="384"/>
                  </a:lnTo>
                  <a:lnTo>
                    <a:pt x="651" y="363"/>
                  </a:lnTo>
                  <a:lnTo>
                    <a:pt x="672" y="321"/>
                  </a:lnTo>
                  <a:lnTo>
                    <a:pt x="672" y="291"/>
                  </a:lnTo>
                  <a:lnTo>
                    <a:pt x="640" y="307"/>
                  </a:lnTo>
                  <a:lnTo>
                    <a:pt x="595" y="307"/>
                  </a:lnTo>
                  <a:lnTo>
                    <a:pt x="530" y="307"/>
                  </a:lnTo>
                  <a:lnTo>
                    <a:pt x="483" y="285"/>
                  </a:lnTo>
                  <a:lnTo>
                    <a:pt x="441" y="258"/>
                  </a:lnTo>
                  <a:lnTo>
                    <a:pt x="381" y="236"/>
                  </a:lnTo>
                  <a:lnTo>
                    <a:pt x="309" y="220"/>
                  </a:lnTo>
                  <a:lnTo>
                    <a:pt x="225" y="202"/>
                  </a:lnTo>
                  <a:lnTo>
                    <a:pt x="160" y="187"/>
                  </a:lnTo>
                  <a:lnTo>
                    <a:pt x="122" y="175"/>
                  </a:lnTo>
                  <a:lnTo>
                    <a:pt x="82" y="153"/>
                  </a:lnTo>
                  <a:lnTo>
                    <a:pt x="131" y="231"/>
                  </a:lnTo>
                  <a:lnTo>
                    <a:pt x="77" y="175"/>
                  </a:lnTo>
                  <a:lnTo>
                    <a:pt x="51" y="133"/>
                  </a:lnTo>
                  <a:lnTo>
                    <a:pt x="28" y="75"/>
                  </a:lnTo>
                  <a:lnTo>
                    <a:pt x="15" y="21"/>
                  </a:lnTo>
                  <a:lnTo>
                    <a:pt x="0" y="0"/>
                  </a:lnTo>
                  <a:lnTo>
                    <a:pt x="12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37"/>
            <p:cNvSpPr/>
            <p:nvPr/>
          </p:nvSpPr>
          <p:spPr>
            <a:xfrm>
              <a:off x="7593840" y="4115520"/>
              <a:ext cx="16200" cy="55800"/>
            </a:xfrm>
            <a:custGeom>
              <a:avLst/>
              <a:gdLst/>
              <a:ahLst/>
              <a:rect l="l" t="t" r="r" b="b"/>
              <a:pathLst>
                <a:path w="72" h="226">
                  <a:moveTo>
                    <a:pt x="65" y="0"/>
                  </a:moveTo>
                  <a:lnTo>
                    <a:pt x="27" y="54"/>
                  </a:lnTo>
                  <a:lnTo>
                    <a:pt x="5" y="99"/>
                  </a:lnTo>
                  <a:lnTo>
                    <a:pt x="0" y="139"/>
                  </a:lnTo>
                  <a:lnTo>
                    <a:pt x="0" y="171"/>
                  </a:lnTo>
                  <a:lnTo>
                    <a:pt x="0" y="199"/>
                  </a:lnTo>
                  <a:lnTo>
                    <a:pt x="16" y="215"/>
                  </a:lnTo>
                  <a:lnTo>
                    <a:pt x="27" y="226"/>
                  </a:lnTo>
                  <a:lnTo>
                    <a:pt x="49" y="220"/>
                  </a:lnTo>
                  <a:lnTo>
                    <a:pt x="54" y="211"/>
                  </a:lnTo>
                  <a:lnTo>
                    <a:pt x="65" y="188"/>
                  </a:lnTo>
                  <a:lnTo>
                    <a:pt x="72" y="166"/>
                  </a:lnTo>
                  <a:lnTo>
                    <a:pt x="49" y="171"/>
                  </a:lnTo>
                  <a:lnTo>
                    <a:pt x="33" y="171"/>
                  </a:lnTo>
                  <a:lnTo>
                    <a:pt x="23" y="159"/>
                  </a:lnTo>
                  <a:lnTo>
                    <a:pt x="11" y="143"/>
                  </a:lnTo>
                  <a:lnTo>
                    <a:pt x="5" y="121"/>
                  </a:lnTo>
                  <a:lnTo>
                    <a:pt x="11" y="99"/>
                  </a:lnTo>
                  <a:lnTo>
                    <a:pt x="27" y="65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38"/>
            <p:cNvSpPr/>
            <p:nvPr/>
          </p:nvSpPr>
          <p:spPr>
            <a:xfrm>
              <a:off x="7000200" y="3352680"/>
              <a:ext cx="676800" cy="611280"/>
            </a:xfrm>
            <a:custGeom>
              <a:avLst/>
              <a:gdLst/>
              <a:ahLst/>
              <a:rect l="l" t="t" r="r" b="b"/>
              <a:pathLst>
                <a:path w="2915" h="2490">
                  <a:moveTo>
                    <a:pt x="1398" y="304"/>
                  </a:moveTo>
                  <a:lnTo>
                    <a:pt x="1613" y="192"/>
                  </a:lnTo>
                  <a:lnTo>
                    <a:pt x="1735" y="166"/>
                  </a:lnTo>
                  <a:lnTo>
                    <a:pt x="1470" y="360"/>
                  </a:lnTo>
                  <a:lnTo>
                    <a:pt x="1669" y="304"/>
                  </a:lnTo>
                  <a:lnTo>
                    <a:pt x="1470" y="463"/>
                  </a:lnTo>
                  <a:lnTo>
                    <a:pt x="1631" y="431"/>
                  </a:lnTo>
                  <a:lnTo>
                    <a:pt x="1447" y="645"/>
                  </a:lnTo>
                  <a:lnTo>
                    <a:pt x="1323" y="755"/>
                  </a:lnTo>
                  <a:lnTo>
                    <a:pt x="1089" y="891"/>
                  </a:lnTo>
                  <a:lnTo>
                    <a:pt x="742" y="1051"/>
                  </a:lnTo>
                  <a:lnTo>
                    <a:pt x="957" y="891"/>
                  </a:lnTo>
                  <a:lnTo>
                    <a:pt x="1124" y="765"/>
                  </a:lnTo>
                  <a:lnTo>
                    <a:pt x="892" y="842"/>
                  </a:lnTo>
                  <a:lnTo>
                    <a:pt x="1017" y="716"/>
                  </a:lnTo>
                  <a:lnTo>
                    <a:pt x="1138" y="608"/>
                  </a:lnTo>
                  <a:lnTo>
                    <a:pt x="1017" y="661"/>
                  </a:lnTo>
                  <a:lnTo>
                    <a:pt x="1211" y="431"/>
                  </a:lnTo>
                  <a:lnTo>
                    <a:pt x="979" y="645"/>
                  </a:lnTo>
                  <a:lnTo>
                    <a:pt x="758" y="859"/>
                  </a:lnTo>
                  <a:lnTo>
                    <a:pt x="578" y="1090"/>
                  </a:lnTo>
                  <a:lnTo>
                    <a:pt x="401" y="1359"/>
                  </a:lnTo>
                  <a:lnTo>
                    <a:pt x="218" y="1752"/>
                  </a:lnTo>
                  <a:lnTo>
                    <a:pt x="147" y="2093"/>
                  </a:lnTo>
                  <a:lnTo>
                    <a:pt x="0" y="2490"/>
                  </a:lnTo>
                  <a:lnTo>
                    <a:pt x="218" y="2093"/>
                  </a:lnTo>
                  <a:lnTo>
                    <a:pt x="417" y="1883"/>
                  </a:lnTo>
                  <a:lnTo>
                    <a:pt x="600" y="1806"/>
                  </a:lnTo>
                  <a:lnTo>
                    <a:pt x="829" y="1734"/>
                  </a:lnTo>
                  <a:lnTo>
                    <a:pt x="1138" y="1685"/>
                  </a:lnTo>
                  <a:lnTo>
                    <a:pt x="1377" y="1596"/>
                  </a:lnTo>
                  <a:lnTo>
                    <a:pt x="1646" y="1466"/>
                  </a:lnTo>
                  <a:lnTo>
                    <a:pt x="1955" y="1216"/>
                  </a:lnTo>
                  <a:lnTo>
                    <a:pt x="2171" y="949"/>
                  </a:lnTo>
                  <a:lnTo>
                    <a:pt x="2374" y="661"/>
                  </a:lnTo>
                  <a:lnTo>
                    <a:pt x="2557" y="533"/>
                  </a:lnTo>
                  <a:lnTo>
                    <a:pt x="2374" y="558"/>
                  </a:lnTo>
                  <a:lnTo>
                    <a:pt x="2629" y="391"/>
                  </a:lnTo>
                  <a:lnTo>
                    <a:pt x="2573" y="376"/>
                  </a:lnTo>
                  <a:lnTo>
                    <a:pt x="2662" y="286"/>
                  </a:lnTo>
                  <a:lnTo>
                    <a:pt x="2519" y="252"/>
                  </a:lnTo>
                  <a:lnTo>
                    <a:pt x="2644" y="143"/>
                  </a:lnTo>
                  <a:lnTo>
                    <a:pt x="2915" y="56"/>
                  </a:lnTo>
                  <a:lnTo>
                    <a:pt x="2629" y="90"/>
                  </a:lnTo>
                  <a:lnTo>
                    <a:pt x="2501" y="34"/>
                  </a:lnTo>
                  <a:lnTo>
                    <a:pt x="2343" y="0"/>
                  </a:lnTo>
                  <a:lnTo>
                    <a:pt x="2159" y="0"/>
                  </a:lnTo>
                  <a:lnTo>
                    <a:pt x="1883" y="56"/>
                  </a:lnTo>
                  <a:lnTo>
                    <a:pt x="1613" y="166"/>
                  </a:lnTo>
                  <a:lnTo>
                    <a:pt x="1398" y="30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39"/>
            <p:cNvSpPr/>
            <p:nvPr/>
          </p:nvSpPr>
          <p:spPr>
            <a:xfrm>
              <a:off x="6647400" y="3669120"/>
              <a:ext cx="764640" cy="1411200"/>
            </a:xfrm>
            <a:custGeom>
              <a:avLst/>
              <a:gdLst/>
              <a:ahLst/>
              <a:rect l="l" t="t" r="r" b="b"/>
              <a:pathLst>
                <a:path w="3298" h="5749">
                  <a:moveTo>
                    <a:pt x="3298" y="56"/>
                  </a:moveTo>
                  <a:lnTo>
                    <a:pt x="2928" y="487"/>
                  </a:lnTo>
                  <a:lnTo>
                    <a:pt x="2656" y="795"/>
                  </a:lnTo>
                  <a:lnTo>
                    <a:pt x="2586" y="933"/>
                  </a:lnTo>
                  <a:lnTo>
                    <a:pt x="2586" y="735"/>
                  </a:lnTo>
                  <a:lnTo>
                    <a:pt x="2443" y="898"/>
                  </a:lnTo>
                  <a:lnTo>
                    <a:pt x="2388" y="1036"/>
                  </a:lnTo>
                  <a:lnTo>
                    <a:pt x="2366" y="1170"/>
                  </a:lnTo>
                  <a:lnTo>
                    <a:pt x="2388" y="1203"/>
                  </a:lnTo>
                  <a:lnTo>
                    <a:pt x="2443" y="1219"/>
                  </a:lnTo>
                  <a:lnTo>
                    <a:pt x="2515" y="1092"/>
                  </a:lnTo>
                  <a:lnTo>
                    <a:pt x="2410" y="1504"/>
                  </a:lnTo>
                  <a:lnTo>
                    <a:pt x="2366" y="1808"/>
                  </a:lnTo>
                  <a:lnTo>
                    <a:pt x="2388" y="1989"/>
                  </a:lnTo>
                  <a:lnTo>
                    <a:pt x="2443" y="2155"/>
                  </a:lnTo>
                  <a:lnTo>
                    <a:pt x="2553" y="2330"/>
                  </a:lnTo>
                  <a:lnTo>
                    <a:pt x="2768" y="2546"/>
                  </a:lnTo>
                  <a:lnTo>
                    <a:pt x="2951" y="2705"/>
                  </a:lnTo>
                  <a:lnTo>
                    <a:pt x="2916" y="2546"/>
                  </a:lnTo>
                  <a:lnTo>
                    <a:pt x="3236" y="3349"/>
                  </a:lnTo>
                  <a:lnTo>
                    <a:pt x="3202" y="3386"/>
                  </a:lnTo>
                  <a:lnTo>
                    <a:pt x="3131" y="3204"/>
                  </a:lnTo>
                  <a:lnTo>
                    <a:pt x="2988" y="3260"/>
                  </a:lnTo>
                  <a:lnTo>
                    <a:pt x="2785" y="3260"/>
                  </a:lnTo>
                  <a:lnTo>
                    <a:pt x="2607" y="3204"/>
                  </a:lnTo>
                  <a:lnTo>
                    <a:pt x="2426" y="3117"/>
                  </a:lnTo>
                  <a:lnTo>
                    <a:pt x="2260" y="3005"/>
                  </a:lnTo>
                  <a:lnTo>
                    <a:pt x="2515" y="3133"/>
                  </a:lnTo>
                  <a:lnTo>
                    <a:pt x="2674" y="3173"/>
                  </a:lnTo>
                  <a:lnTo>
                    <a:pt x="2768" y="3191"/>
                  </a:lnTo>
                  <a:lnTo>
                    <a:pt x="2841" y="3101"/>
                  </a:lnTo>
                  <a:lnTo>
                    <a:pt x="2857" y="3005"/>
                  </a:lnTo>
                  <a:lnTo>
                    <a:pt x="2879" y="2865"/>
                  </a:lnTo>
                  <a:lnTo>
                    <a:pt x="2857" y="2742"/>
                  </a:lnTo>
                  <a:lnTo>
                    <a:pt x="2805" y="2633"/>
                  </a:lnTo>
                  <a:lnTo>
                    <a:pt x="2607" y="2457"/>
                  </a:lnTo>
                  <a:lnTo>
                    <a:pt x="2459" y="2291"/>
                  </a:lnTo>
                  <a:lnTo>
                    <a:pt x="2388" y="2155"/>
                  </a:lnTo>
                  <a:lnTo>
                    <a:pt x="2332" y="1973"/>
                  </a:lnTo>
                  <a:lnTo>
                    <a:pt x="2204" y="2885"/>
                  </a:lnTo>
                  <a:lnTo>
                    <a:pt x="2227" y="2974"/>
                  </a:lnTo>
                  <a:lnTo>
                    <a:pt x="2096" y="2903"/>
                  </a:lnTo>
                  <a:lnTo>
                    <a:pt x="2062" y="2934"/>
                  </a:lnTo>
                  <a:lnTo>
                    <a:pt x="2062" y="3030"/>
                  </a:lnTo>
                  <a:lnTo>
                    <a:pt x="2134" y="3117"/>
                  </a:lnTo>
                  <a:lnTo>
                    <a:pt x="2244" y="3260"/>
                  </a:lnTo>
                  <a:lnTo>
                    <a:pt x="2366" y="3402"/>
                  </a:lnTo>
                  <a:lnTo>
                    <a:pt x="2497" y="3657"/>
                  </a:lnTo>
                  <a:lnTo>
                    <a:pt x="2316" y="3402"/>
                  </a:lnTo>
                  <a:lnTo>
                    <a:pt x="2118" y="3222"/>
                  </a:lnTo>
                  <a:lnTo>
                    <a:pt x="2134" y="3510"/>
                  </a:lnTo>
                  <a:lnTo>
                    <a:pt x="2174" y="3721"/>
                  </a:lnTo>
                  <a:lnTo>
                    <a:pt x="2244" y="3905"/>
                  </a:lnTo>
                  <a:lnTo>
                    <a:pt x="2410" y="4069"/>
                  </a:lnTo>
                  <a:lnTo>
                    <a:pt x="2586" y="4264"/>
                  </a:lnTo>
                  <a:lnTo>
                    <a:pt x="2729" y="3811"/>
                  </a:lnTo>
                  <a:lnTo>
                    <a:pt x="2625" y="4366"/>
                  </a:lnTo>
                  <a:lnTo>
                    <a:pt x="2535" y="4835"/>
                  </a:lnTo>
                  <a:lnTo>
                    <a:pt x="2459" y="5089"/>
                  </a:lnTo>
                  <a:lnTo>
                    <a:pt x="2366" y="5286"/>
                  </a:lnTo>
                  <a:lnTo>
                    <a:pt x="2062" y="5749"/>
                  </a:lnTo>
                  <a:lnTo>
                    <a:pt x="2276" y="5319"/>
                  </a:lnTo>
                  <a:lnTo>
                    <a:pt x="1935" y="5352"/>
                  </a:lnTo>
                  <a:lnTo>
                    <a:pt x="1698" y="5301"/>
                  </a:lnTo>
                  <a:lnTo>
                    <a:pt x="1518" y="5214"/>
                  </a:lnTo>
                  <a:lnTo>
                    <a:pt x="1375" y="5049"/>
                  </a:lnTo>
                  <a:lnTo>
                    <a:pt x="1102" y="4944"/>
                  </a:lnTo>
                  <a:lnTo>
                    <a:pt x="865" y="4802"/>
                  </a:lnTo>
                  <a:lnTo>
                    <a:pt x="682" y="4621"/>
                  </a:lnTo>
                  <a:lnTo>
                    <a:pt x="580" y="4427"/>
                  </a:lnTo>
                  <a:lnTo>
                    <a:pt x="490" y="4141"/>
                  </a:lnTo>
                  <a:lnTo>
                    <a:pt x="490" y="3866"/>
                  </a:lnTo>
                  <a:lnTo>
                    <a:pt x="522" y="3601"/>
                  </a:lnTo>
                  <a:lnTo>
                    <a:pt x="612" y="3372"/>
                  </a:lnTo>
                  <a:lnTo>
                    <a:pt x="720" y="3191"/>
                  </a:lnTo>
                  <a:lnTo>
                    <a:pt x="326" y="3510"/>
                  </a:lnTo>
                  <a:lnTo>
                    <a:pt x="0" y="3746"/>
                  </a:lnTo>
                  <a:lnTo>
                    <a:pt x="303" y="3474"/>
                  </a:lnTo>
                  <a:lnTo>
                    <a:pt x="522" y="3204"/>
                  </a:lnTo>
                  <a:lnTo>
                    <a:pt x="778" y="2865"/>
                  </a:lnTo>
                  <a:lnTo>
                    <a:pt x="991" y="2513"/>
                  </a:lnTo>
                  <a:lnTo>
                    <a:pt x="1190" y="2059"/>
                  </a:lnTo>
                  <a:lnTo>
                    <a:pt x="1429" y="1383"/>
                  </a:lnTo>
                  <a:lnTo>
                    <a:pt x="1736" y="664"/>
                  </a:lnTo>
                  <a:lnTo>
                    <a:pt x="1919" y="519"/>
                  </a:lnTo>
                  <a:lnTo>
                    <a:pt x="1808" y="701"/>
                  </a:lnTo>
                  <a:lnTo>
                    <a:pt x="1879" y="750"/>
                  </a:lnTo>
                  <a:lnTo>
                    <a:pt x="1792" y="806"/>
                  </a:lnTo>
                  <a:lnTo>
                    <a:pt x="1754" y="971"/>
                  </a:lnTo>
                  <a:lnTo>
                    <a:pt x="1848" y="933"/>
                  </a:lnTo>
                  <a:lnTo>
                    <a:pt x="1736" y="1132"/>
                  </a:lnTo>
                  <a:lnTo>
                    <a:pt x="1586" y="1471"/>
                  </a:lnTo>
                  <a:lnTo>
                    <a:pt x="1769" y="1170"/>
                  </a:lnTo>
                  <a:lnTo>
                    <a:pt x="1879" y="1020"/>
                  </a:lnTo>
                  <a:lnTo>
                    <a:pt x="2007" y="915"/>
                  </a:lnTo>
                  <a:lnTo>
                    <a:pt x="1935" y="915"/>
                  </a:lnTo>
                  <a:lnTo>
                    <a:pt x="2028" y="844"/>
                  </a:lnTo>
                  <a:lnTo>
                    <a:pt x="2151" y="701"/>
                  </a:lnTo>
                  <a:lnTo>
                    <a:pt x="2028" y="716"/>
                  </a:lnTo>
                  <a:lnTo>
                    <a:pt x="2174" y="615"/>
                  </a:lnTo>
                  <a:lnTo>
                    <a:pt x="2347" y="540"/>
                  </a:lnTo>
                  <a:lnTo>
                    <a:pt x="2564" y="465"/>
                  </a:lnTo>
                  <a:lnTo>
                    <a:pt x="2785" y="360"/>
                  </a:lnTo>
                  <a:lnTo>
                    <a:pt x="3274" y="0"/>
                  </a:lnTo>
                  <a:lnTo>
                    <a:pt x="3298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40"/>
            <p:cNvSpPr/>
            <p:nvPr/>
          </p:nvSpPr>
          <p:spPr>
            <a:xfrm>
              <a:off x="7421040" y="3361320"/>
              <a:ext cx="774720" cy="1838520"/>
            </a:xfrm>
            <a:custGeom>
              <a:avLst/>
              <a:gdLst/>
              <a:ahLst/>
              <a:rect l="l" t="t" r="r" b="b"/>
              <a:pathLst>
                <a:path w="3336" h="7487">
                  <a:moveTo>
                    <a:pt x="480" y="682"/>
                  </a:moveTo>
                  <a:lnTo>
                    <a:pt x="689" y="698"/>
                  </a:lnTo>
                  <a:lnTo>
                    <a:pt x="832" y="754"/>
                  </a:lnTo>
                  <a:lnTo>
                    <a:pt x="960" y="881"/>
                  </a:lnTo>
                  <a:lnTo>
                    <a:pt x="1064" y="1042"/>
                  </a:lnTo>
                  <a:lnTo>
                    <a:pt x="1307" y="1414"/>
                  </a:lnTo>
                  <a:lnTo>
                    <a:pt x="1375" y="1613"/>
                  </a:lnTo>
                  <a:lnTo>
                    <a:pt x="1435" y="1868"/>
                  </a:lnTo>
                  <a:lnTo>
                    <a:pt x="1435" y="1613"/>
                  </a:lnTo>
                  <a:lnTo>
                    <a:pt x="1410" y="1381"/>
                  </a:lnTo>
                  <a:lnTo>
                    <a:pt x="1578" y="1651"/>
                  </a:lnTo>
                  <a:lnTo>
                    <a:pt x="1792" y="2025"/>
                  </a:lnTo>
                  <a:lnTo>
                    <a:pt x="1885" y="2200"/>
                  </a:lnTo>
                  <a:lnTo>
                    <a:pt x="1885" y="2439"/>
                  </a:lnTo>
                  <a:lnTo>
                    <a:pt x="1866" y="2724"/>
                  </a:lnTo>
                  <a:lnTo>
                    <a:pt x="1825" y="3012"/>
                  </a:lnTo>
                  <a:lnTo>
                    <a:pt x="1484" y="3728"/>
                  </a:lnTo>
                  <a:lnTo>
                    <a:pt x="1248" y="3995"/>
                  </a:lnTo>
                  <a:lnTo>
                    <a:pt x="993" y="4171"/>
                  </a:lnTo>
                  <a:lnTo>
                    <a:pt x="745" y="4314"/>
                  </a:lnTo>
                  <a:lnTo>
                    <a:pt x="468" y="4354"/>
                  </a:lnTo>
                  <a:lnTo>
                    <a:pt x="412" y="4457"/>
                  </a:lnTo>
                  <a:lnTo>
                    <a:pt x="56" y="4531"/>
                  </a:lnTo>
                  <a:lnTo>
                    <a:pt x="487" y="4513"/>
                  </a:lnTo>
                  <a:lnTo>
                    <a:pt x="850" y="4655"/>
                  </a:lnTo>
                  <a:lnTo>
                    <a:pt x="850" y="4691"/>
                  </a:lnTo>
                  <a:lnTo>
                    <a:pt x="778" y="4745"/>
                  </a:lnTo>
                  <a:lnTo>
                    <a:pt x="618" y="4763"/>
                  </a:lnTo>
                  <a:lnTo>
                    <a:pt x="452" y="4745"/>
                  </a:lnTo>
                  <a:lnTo>
                    <a:pt x="487" y="4925"/>
                  </a:lnTo>
                  <a:lnTo>
                    <a:pt x="562" y="4999"/>
                  </a:lnTo>
                  <a:lnTo>
                    <a:pt x="562" y="5119"/>
                  </a:lnTo>
                  <a:lnTo>
                    <a:pt x="0" y="5229"/>
                  </a:lnTo>
                  <a:lnTo>
                    <a:pt x="595" y="5158"/>
                  </a:lnTo>
                  <a:lnTo>
                    <a:pt x="651" y="5211"/>
                  </a:lnTo>
                  <a:lnTo>
                    <a:pt x="667" y="5282"/>
                  </a:lnTo>
                  <a:lnTo>
                    <a:pt x="651" y="5372"/>
                  </a:lnTo>
                  <a:lnTo>
                    <a:pt x="618" y="5372"/>
                  </a:lnTo>
                  <a:lnTo>
                    <a:pt x="667" y="5443"/>
                  </a:lnTo>
                  <a:lnTo>
                    <a:pt x="667" y="5517"/>
                  </a:lnTo>
                  <a:lnTo>
                    <a:pt x="633" y="5608"/>
                  </a:lnTo>
                  <a:lnTo>
                    <a:pt x="580" y="5641"/>
                  </a:lnTo>
                  <a:lnTo>
                    <a:pt x="359" y="5800"/>
                  </a:lnTo>
                  <a:lnTo>
                    <a:pt x="288" y="6088"/>
                  </a:lnTo>
                  <a:lnTo>
                    <a:pt x="412" y="5818"/>
                  </a:lnTo>
                  <a:lnTo>
                    <a:pt x="546" y="5746"/>
                  </a:lnTo>
                  <a:lnTo>
                    <a:pt x="468" y="6069"/>
                  </a:lnTo>
                  <a:lnTo>
                    <a:pt x="288" y="6860"/>
                  </a:lnTo>
                  <a:lnTo>
                    <a:pt x="164" y="7398"/>
                  </a:lnTo>
                  <a:lnTo>
                    <a:pt x="382" y="7464"/>
                  </a:lnTo>
                  <a:lnTo>
                    <a:pt x="651" y="7487"/>
                  </a:lnTo>
                  <a:lnTo>
                    <a:pt x="850" y="7487"/>
                  </a:lnTo>
                  <a:lnTo>
                    <a:pt x="1031" y="7431"/>
                  </a:lnTo>
                  <a:lnTo>
                    <a:pt x="1157" y="7326"/>
                  </a:lnTo>
                  <a:lnTo>
                    <a:pt x="1307" y="7178"/>
                  </a:lnTo>
                  <a:lnTo>
                    <a:pt x="1410" y="6931"/>
                  </a:lnTo>
                  <a:lnTo>
                    <a:pt x="1410" y="7161"/>
                  </a:lnTo>
                  <a:lnTo>
                    <a:pt x="1339" y="7377"/>
                  </a:lnTo>
                  <a:lnTo>
                    <a:pt x="1285" y="7464"/>
                  </a:lnTo>
                  <a:lnTo>
                    <a:pt x="1555" y="7464"/>
                  </a:lnTo>
                  <a:lnTo>
                    <a:pt x="1825" y="7377"/>
                  </a:lnTo>
                  <a:lnTo>
                    <a:pt x="2102" y="7178"/>
                  </a:lnTo>
                  <a:lnTo>
                    <a:pt x="2316" y="6946"/>
                  </a:lnTo>
                  <a:lnTo>
                    <a:pt x="2515" y="6626"/>
                  </a:lnTo>
                  <a:lnTo>
                    <a:pt x="2665" y="6268"/>
                  </a:lnTo>
                  <a:lnTo>
                    <a:pt x="2735" y="5923"/>
                  </a:lnTo>
                  <a:lnTo>
                    <a:pt x="2735" y="5589"/>
                  </a:lnTo>
                  <a:lnTo>
                    <a:pt x="2917" y="5856"/>
                  </a:lnTo>
                  <a:lnTo>
                    <a:pt x="3062" y="6121"/>
                  </a:lnTo>
                  <a:lnTo>
                    <a:pt x="3093" y="6317"/>
                  </a:lnTo>
                  <a:lnTo>
                    <a:pt x="3093" y="6445"/>
                  </a:lnTo>
                  <a:lnTo>
                    <a:pt x="3044" y="6572"/>
                  </a:lnTo>
                  <a:lnTo>
                    <a:pt x="3205" y="6516"/>
                  </a:lnTo>
                  <a:lnTo>
                    <a:pt x="3299" y="6373"/>
                  </a:lnTo>
                  <a:lnTo>
                    <a:pt x="3336" y="6197"/>
                  </a:lnTo>
                  <a:lnTo>
                    <a:pt x="3336" y="5945"/>
                  </a:lnTo>
                  <a:lnTo>
                    <a:pt x="3260" y="5680"/>
                  </a:lnTo>
                  <a:lnTo>
                    <a:pt x="3133" y="5409"/>
                  </a:lnTo>
                  <a:lnTo>
                    <a:pt x="2823" y="4872"/>
                  </a:lnTo>
                  <a:lnTo>
                    <a:pt x="2593" y="4299"/>
                  </a:lnTo>
                  <a:lnTo>
                    <a:pt x="2497" y="3958"/>
                  </a:lnTo>
                  <a:lnTo>
                    <a:pt x="2497" y="3672"/>
                  </a:lnTo>
                  <a:lnTo>
                    <a:pt x="2553" y="3368"/>
                  </a:lnTo>
                  <a:lnTo>
                    <a:pt x="2665" y="3136"/>
                  </a:lnTo>
                  <a:lnTo>
                    <a:pt x="2702" y="2795"/>
                  </a:lnTo>
                  <a:lnTo>
                    <a:pt x="2681" y="2257"/>
                  </a:lnTo>
                  <a:lnTo>
                    <a:pt x="2533" y="1381"/>
                  </a:lnTo>
                  <a:lnTo>
                    <a:pt x="2395" y="930"/>
                  </a:lnTo>
                  <a:lnTo>
                    <a:pt x="2189" y="537"/>
                  </a:lnTo>
                  <a:lnTo>
                    <a:pt x="2013" y="326"/>
                  </a:lnTo>
                  <a:lnTo>
                    <a:pt x="1721" y="109"/>
                  </a:lnTo>
                  <a:lnTo>
                    <a:pt x="1538" y="38"/>
                  </a:lnTo>
                  <a:lnTo>
                    <a:pt x="1375" y="0"/>
                  </a:lnTo>
                  <a:lnTo>
                    <a:pt x="1236" y="0"/>
                  </a:lnTo>
                  <a:lnTo>
                    <a:pt x="1140" y="0"/>
                  </a:lnTo>
                  <a:lnTo>
                    <a:pt x="977" y="38"/>
                  </a:lnTo>
                  <a:lnTo>
                    <a:pt x="772" y="132"/>
                  </a:lnTo>
                  <a:lnTo>
                    <a:pt x="993" y="71"/>
                  </a:lnTo>
                  <a:lnTo>
                    <a:pt x="1267" y="56"/>
                  </a:lnTo>
                  <a:lnTo>
                    <a:pt x="1064" y="109"/>
                  </a:lnTo>
                  <a:lnTo>
                    <a:pt x="941" y="181"/>
                  </a:lnTo>
                  <a:lnTo>
                    <a:pt x="928" y="237"/>
                  </a:lnTo>
                  <a:lnTo>
                    <a:pt x="1049" y="237"/>
                  </a:lnTo>
                  <a:lnTo>
                    <a:pt x="871" y="375"/>
                  </a:lnTo>
                  <a:lnTo>
                    <a:pt x="1031" y="357"/>
                  </a:lnTo>
                  <a:lnTo>
                    <a:pt x="941" y="429"/>
                  </a:lnTo>
                  <a:lnTo>
                    <a:pt x="1015" y="469"/>
                  </a:lnTo>
                  <a:lnTo>
                    <a:pt x="1127" y="524"/>
                  </a:lnTo>
                  <a:lnTo>
                    <a:pt x="871" y="524"/>
                  </a:lnTo>
                  <a:lnTo>
                    <a:pt x="600" y="574"/>
                  </a:lnTo>
                  <a:lnTo>
                    <a:pt x="480" y="68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41"/>
            <p:cNvSpPr/>
            <p:nvPr/>
          </p:nvSpPr>
          <p:spPr>
            <a:xfrm>
              <a:off x="7254000" y="4090320"/>
              <a:ext cx="232200" cy="503640"/>
            </a:xfrm>
            <a:custGeom>
              <a:avLst/>
              <a:gdLst/>
              <a:ahLst/>
              <a:rect l="l" t="t" r="r" b="b"/>
              <a:pathLst>
                <a:path w="997" h="2048">
                  <a:moveTo>
                    <a:pt x="11" y="67"/>
                  </a:moveTo>
                  <a:lnTo>
                    <a:pt x="33" y="44"/>
                  </a:lnTo>
                  <a:lnTo>
                    <a:pt x="77" y="30"/>
                  </a:lnTo>
                  <a:lnTo>
                    <a:pt x="110" y="41"/>
                  </a:lnTo>
                  <a:lnTo>
                    <a:pt x="142" y="56"/>
                  </a:lnTo>
                  <a:lnTo>
                    <a:pt x="738" y="1542"/>
                  </a:lnTo>
                  <a:lnTo>
                    <a:pt x="606" y="1631"/>
                  </a:lnTo>
                  <a:lnTo>
                    <a:pt x="501" y="1740"/>
                  </a:lnTo>
                  <a:lnTo>
                    <a:pt x="374" y="1845"/>
                  </a:lnTo>
                  <a:lnTo>
                    <a:pt x="292" y="1916"/>
                  </a:lnTo>
                  <a:lnTo>
                    <a:pt x="198" y="1984"/>
                  </a:lnTo>
                  <a:lnTo>
                    <a:pt x="154" y="2048"/>
                  </a:lnTo>
                  <a:lnTo>
                    <a:pt x="209" y="1984"/>
                  </a:lnTo>
                  <a:lnTo>
                    <a:pt x="287" y="1939"/>
                  </a:lnTo>
                  <a:lnTo>
                    <a:pt x="386" y="1872"/>
                  </a:lnTo>
                  <a:lnTo>
                    <a:pt x="550" y="1720"/>
                  </a:lnTo>
                  <a:lnTo>
                    <a:pt x="756" y="1560"/>
                  </a:lnTo>
                  <a:lnTo>
                    <a:pt x="827" y="1553"/>
                  </a:lnTo>
                  <a:lnTo>
                    <a:pt x="756" y="1504"/>
                  </a:lnTo>
                  <a:lnTo>
                    <a:pt x="711" y="1410"/>
                  </a:lnTo>
                  <a:lnTo>
                    <a:pt x="887" y="1343"/>
                  </a:lnTo>
                  <a:lnTo>
                    <a:pt x="997" y="1354"/>
                  </a:lnTo>
                  <a:lnTo>
                    <a:pt x="805" y="1279"/>
                  </a:lnTo>
                  <a:lnTo>
                    <a:pt x="606" y="1147"/>
                  </a:lnTo>
                  <a:lnTo>
                    <a:pt x="154" y="41"/>
                  </a:lnTo>
                  <a:lnTo>
                    <a:pt x="110" y="11"/>
                  </a:lnTo>
                  <a:lnTo>
                    <a:pt x="60" y="0"/>
                  </a:lnTo>
                  <a:lnTo>
                    <a:pt x="0" y="30"/>
                  </a:lnTo>
                  <a:lnTo>
                    <a:pt x="11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42"/>
            <p:cNvSpPr/>
            <p:nvPr/>
          </p:nvSpPr>
          <p:spPr>
            <a:xfrm>
              <a:off x="7174080" y="4880160"/>
              <a:ext cx="306360" cy="765720"/>
            </a:xfrm>
            <a:custGeom>
              <a:avLst/>
              <a:gdLst/>
              <a:ahLst/>
              <a:rect l="l" t="t" r="r" b="b"/>
              <a:pathLst>
                <a:path w="1318" h="3117">
                  <a:moveTo>
                    <a:pt x="1318" y="0"/>
                  </a:moveTo>
                  <a:lnTo>
                    <a:pt x="1285" y="138"/>
                  </a:lnTo>
                  <a:lnTo>
                    <a:pt x="1208" y="288"/>
                  </a:lnTo>
                  <a:lnTo>
                    <a:pt x="1098" y="426"/>
                  </a:lnTo>
                  <a:lnTo>
                    <a:pt x="960" y="513"/>
                  </a:lnTo>
                  <a:lnTo>
                    <a:pt x="852" y="606"/>
                  </a:lnTo>
                  <a:lnTo>
                    <a:pt x="779" y="749"/>
                  </a:lnTo>
                  <a:lnTo>
                    <a:pt x="651" y="1191"/>
                  </a:lnTo>
                  <a:lnTo>
                    <a:pt x="473" y="1729"/>
                  </a:lnTo>
                  <a:lnTo>
                    <a:pt x="319" y="2190"/>
                  </a:lnTo>
                  <a:lnTo>
                    <a:pt x="176" y="2621"/>
                  </a:lnTo>
                  <a:lnTo>
                    <a:pt x="0" y="3117"/>
                  </a:lnTo>
                  <a:lnTo>
                    <a:pt x="22" y="3105"/>
                  </a:lnTo>
                  <a:lnTo>
                    <a:pt x="252" y="2487"/>
                  </a:lnTo>
                  <a:lnTo>
                    <a:pt x="461" y="1879"/>
                  </a:lnTo>
                  <a:lnTo>
                    <a:pt x="600" y="1421"/>
                  </a:lnTo>
                  <a:lnTo>
                    <a:pt x="732" y="997"/>
                  </a:lnTo>
                  <a:lnTo>
                    <a:pt x="810" y="734"/>
                  </a:lnTo>
                  <a:lnTo>
                    <a:pt x="881" y="618"/>
                  </a:lnTo>
                  <a:lnTo>
                    <a:pt x="981" y="540"/>
                  </a:lnTo>
                  <a:lnTo>
                    <a:pt x="1120" y="426"/>
                  </a:lnTo>
                  <a:lnTo>
                    <a:pt x="1218" y="319"/>
                  </a:lnTo>
                  <a:lnTo>
                    <a:pt x="1297" y="178"/>
                  </a:lnTo>
                  <a:lnTo>
                    <a:pt x="13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43"/>
            <p:cNvSpPr/>
            <p:nvPr/>
          </p:nvSpPr>
          <p:spPr>
            <a:xfrm>
              <a:off x="7316280" y="4520880"/>
              <a:ext cx="282600" cy="110520"/>
            </a:xfrm>
            <a:custGeom>
              <a:avLst/>
              <a:gdLst/>
              <a:ahLst/>
              <a:rect l="l" t="t" r="r" b="b"/>
              <a:pathLst>
                <a:path w="1215" h="450">
                  <a:moveTo>
                    <a:pt x="641" y="82"/>
                  </a:moveTo>
                  <a:lnTo>
                    <a:pt x="686" y="202"/>
                  </a:lnTo>
                  <a:lnTo>
                    <a:pt x="944" y="199"/>
                  </a:lnTo>
                  <a:lnTo>
                    <a:pt x="983" y="213"/>
                  </a:lnTo>
                  <a:lnTo>
                    <a:pt x="833" y="220"/>
                  </a:lnTo>
                  <a:lnTo>
                    <a:pt x="646" y="241"/>
                  </a:lnTo>
                  <a:lnTo>
                    <a:pt x="192" y="330"/>
                  </a:lnTo>
                  <a:lnTo>
                    <a:pt x="94" y="361"/>
                  </a:lnTo>
                  <a:lnTo>
                    <a:pt x="49" y="389"/>
                  </a:lnTo>
                  <a:lnTo>
                    <a:pt x="18" y="424"/>
                  </a:lnTo>
                  <a:lnTo>
                    <a:pt x="0" y="450"/>
                  </a:lnTo>
                  <a:lnTo>
                    <a:pt x="12" y="408"/>
                  </a:lnTo>
                  <a:lnTo>
                    <a:pt x="49" y="361"/>
                  </a:lnTo>
                  <a:lnTo>
                    <a:pt x="105" y="330"/>
                  </a:lnTo>
                  <a:lnTo>
                    <a:pt x="188" y="296"/>
                  </a:lnTo>
                  <a:lnTo>
                    <a:pt x="431" y="247"/>
                  </a:lnTo>
                  <a:lnTo>
                    <a:pt x="529" y="138"/>
                  </a:lnTo>
                  <a:lnTo>
                    <a:pt x="661" y="22"/>
                  </a:lnTo>
                  <a:lnTo>
                    <a:pt x="773" y="22"/>
                  </a:lnTo>
                  <a:lnTo>
                    <a:pt x="855" y="10"/>
                  </a:lnTo>
                  <a:lnTo>
                    <a:pt x="915" y="0"/>
                  </a:lnTo>
                  <a:lnTo>
                    <a:pt x="998" y="22"/>
                  </a:lnTo>
                  <a:lnTo>
                    <a:pt x="1105" y="33"/>
                  </a:lnTo>
                  <a:lnTo>
                    <a:pt x="1215" y="33"/>
                  </a:lnTo>
                  <a:lnTo>
                    <a:pt x="1047" y="54"/>
                  </a:lnTo>
                  <a:lnTo>
                    <a:pt x="906" y="40"/>
                  </a:lnTo>
                  <a:lnTo>
                    <a:pt x="717" y="54"/>
                  </a:lnTo>
                  <a:lnTo>
                    <a:pt x="649" y="71"/>
                  </a:lnTo>
                  <a:lnTo>
                    <a:pt x="641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44"/>
            <p:cNvSpPr/>
            <p:nvPr/>
          </p:nvSpPr>
          <p:spPr>
            <a:xfrm>
              <a:off x="7476480" y="4671000"/>
              <a:ext cx="101520" cy="32400"/>
            </a:xfrm>
            <a:custGeom>
              <a:avLst/>
              <a:gdLst/>
              <a:ahLst/>
              <a:rect l="l" t="t" r="r" b="b"/>
              <a:pathLst>
                <a:path w="440" h="133">
                  <a:moveTo>
                    <a:pt x="424" y="0"/>
                  </a:moveTo>
                  <a:lnTo>
                    <a:pt x="0" y="133"/>
                  </a:lnTo>
                  <a:lnTo>
                    <a:pt x="356" y="56"/>
                  </a:lnTo>
                  <a:lnTo>
                    <a:pt x="440" y="66"/>
                  </a:lnTo>
                  <a:lnTo>
                    <a:pt x="4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45"/>
            <p:cNvSpPr/>
            <p:nvPr/>
          </p:nvSpPr>
          <p:spPr>
            <a:xfrm>
              <a:off x="6459480" y="4619160"/>
              <a:ext cx="303480" cy="1346400"/>
            </a:xfrm>
            <a:custGeom>
              <a:avLst/>
              <a:gdLst/>
              <a:ahLst/>
              <a:rect l="l" t="t" r="r" b="b"/>
              <a:pathLst>
                <a:path w="1303" h="5483">
                  <a:moveTo>
                    <a:pt x="647" y="0"/>
                  </a:moveTo>
                  <a:lnTo>
                    <a:pt x="430" y="154"/>
                  </a:lnTo>
                  <a:lnTo>
                    <a:pt x="243" y="379"/>
                  </a:lnTo>
                  <a:lnTo>
                    <a:pt x="161" y="578"/>
                  </a:lnTo>
                  <a:lnTo>
                    <a:pt x="56" y="844"/>
                  </a:lnTo>
                  <a:lnTo>
                    <a:pt x="11" y="1144"/>
                  </a:lnTo>
                  <a:lnTo>
                    <a:pt x="0" y="1452"/>
                  </a:lnTo>
                  <a:lnTo>
                    <a:pt x="29" y="1778"/>
                  </a:lnTo>
                  <a:lnTo>
                    <a:pt x="128" y="2218"/>
                  </a:lnTo>
                  <a:lnTo>
                    <a:pt x="331" y="2896"/>
                  </a:lnTo>
                  <a:lnTo>
                    <a:pt x="430" y="3308"/>
                  </a:lnTo>
                  <a:lnTo>
                    <a:pt x="521" y="3770"/>
                  </a:lnTo>
                  <a:lnTo>
                    <a:pt x="601" y="4392"/>
                  </a:lnTo>
                  <a:lnTo>
                    <a:pt x="674" y="4691"/>
                  </a:lnTo>
                  <a:lnTo>
                    <a:pt x="757" y="4916"/>
                  </a:lnTo>
                  <a:lnTo>
                    <a:pt x="889" y="5131"/>
                  </a:lnTo>
                  <a:lnTo>
                    <a:pt x="1045" y="5312"/>
                  </a:lnTo>
                  <a:lnTo>
                    <a:pt x="1158" y="5410"/>
                  </a:lnTo>
                  <a:lnTo>
                    <a:pt x="1275" y="5483"/>
                  </a:lnTo>
                  <a:lnTo>
                    <a:pt x="1303" y="5421"/>
                  </a:lnTo>
                  <a:lnTo>
                    <a:pt x="1143" y="5356"/>
                  </a:lnTo>
                  <a:lnTo>
                    <a:pt x="989" y="5202"/>
                  </a:lnTo>
                  <a:lnTo>
                    <a:pt x="828" y="4970"/>
                  </a:lnTo>
                  <a:lnTo>
                    <a:pt x="701" y="4691"/>
                  </a:lnTo>
                  <a:lnTo>
                    <a:pt x="614" y="4336"/>
                  </a:lnTo>
                  <a:lnTo>
                    <a:pt x="529" y="3660"/>
                  </a:lnTo>
                  <a:lnTo>
                    <a:pt x="458" y="3264"/>
                  </a:lnTo>
                  <a:lnTo>
                    <a:pt x="360" y="2869"/>
                  </a:lnTo>
                  <a:lnTo>
                    <a:pt x="184" y="2246"/>
                  </a:lnTo>
                  <a:lnTo>
                    <a:pt x="90" y="1822"/>
                  </a:lnTo>
                  <a:lnTo>
                    <a:pt x="46" y="1497"/>
                  </a:lnTo>
                  <a:lnTo>
                    <a:pt x="56" y="1144"/>
                  </a:lnTo>
                  <a:lnTo>
                    <a:pt x="118" y="863"/>
                  </a:lnTo>
                  <a:lnTo>
                    <a:pt x="205" y="645"/>
                  </a:lnTo>
                  <a:lnTo>
                    <a:pt x="299" y="477"/>
                  </a:lnTo>
                  <a:lnTo>
                    <a:pt x="415" y="337"/>
                  </a:lnTo>
                  <a:lnTo>
                    <a:pt x="565" y="248"/>
                  </a:lnTo>
                  <a:lnTo>
                    <a:pt x="701" y="236"/>
                  </a:lnTo>
                  <a:lnTo>
                    <a:pt x="846" y="236"/>
                  </a:lnTo>
                  <a:lnTo>
                    <a:pt x="998" y="292"/>
                  </a:lnTo>
                  <a:lnTo>
                    <a:pt x="1143" y="435"/>
                  </a:lnTo>
                  <a:lnTo>
                    <a:pt x="1015" y="281"/>
                  </a:lnTo>
                  <a:lnTo>
                    <a:pt x="828" y="182"/>
                  </a:lnTo>
                  <a:lnTo>
                    <a:pt x="647" y="154"/>
                  </a:lnTo>
                  <a:lnTo>
                    <a:pt x="502" y="198"/>
                  </a:lnTo>
                  <a:lnTo>
                    <a:pt x="540" y="116"/>
                  </a:lnTo>
                  <a:lnTo>
                    <a:pt x="6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46"/>
            <p:cNvSpPr/>
            <p:nvPr/>
          </p:nvSpPr>
          <p:spPr>
            <a:xfrm>
              <a:off x="6713280" y="4782960"/>
              <a:ext cx="396720" cy="1011600"/>
            </a:xfrm>
            <a:custGeom>
              <a:avLst/>
              <a:gdLst/>
              <a:ahLst/>
              <a:rect l="l" t="t" r="r" b="b"/>
              <a:pathLst>
                <a:path w="1714" h="4126">
                  <a:moveTo>
                    <a:pt x="241" y="0"/>
                  </a:moveTo>
                  <a:lnTo>
                    <a:pt x="415" y="255"/>
                  </a:lnTo>
                  <a:lnTo>
                    <a:pt x="612" y="637"/>
                  </a:lnTo>
                  <a:lnTo>
                    <a:pt x="768" y="1088"/>
                  </a:lnTo>
                  <a:lnTo>
                    <a:pt x="914" y="1565"/>
                  </a:lnTo>
                  <a:lnTo>
                    <a:pt x="998" y="1950"/>
                  </a:lnTo>
                  <a:lnTo>
                    <a:pt x="1057" y="2314"/>
                  </a:lnTo>
                  <a:lnTo>
                    <a:pt x="1214" y="2144"/>
                  </a:lnTo>
                  <a:lnTo>
                    <a:pt x="1401" y="1897"/>
                  </a:lnTo>
                  <a:lnTo>
                    <a:pt x="1714" y="1324"/>
                  </a:lnTo>
                  <a:lnTo>
                    <a:pt x="1429" y="1872"/>
                  </a:lnTo>
                  <a:lnTo>
                    <a:pt x="1241" y="2160"/>
                  </a:lnTo>
                  <a:lnTo>
                    <a:pt x="1015" y="2468"/>
                  </a:lnTo>
                  <a:lnTo>
                    <a:pt x="701" y="2783"/>
                  </a:lnTo>
                  <a:lnTo>
                    <a:pt x="387" y="3008"/>
                  </a:lnTo>
                  <a:lnTo>
                    <a:pt x="188" y="3244"/>
                  </a:lnTo>
                  <a:lnTo>
                    <a:pt x="71" y="3476"/>
                  </a:lnTo>
                  <a:lnTo>
                    <a:pt x="29" y="3702"/>
                  </a:lnTo>
                  <a:lnTo>
                    <a:pt x="0" y="4126"/>
                  </a:lnTo>
                  <a:lnTo>
                    <a:pt x="0" y="3717"/>
                  </a:lnTo>
                  <a:lnTo>
                    <a:pt x="45" y="3450"/>
                  </a:lnTo>
                  <a:lnTo>
                    <a:pt x="188" y="3162"/>
                  </a:lnTo>
                  <a:lnTo>
                    <a:pt x="371" y="2952"/>
                  </a:lnTo>
                  <a:lnTo>
                    <a:pt x="584" y="2754"/>
                  </a:lnTo>
                  <a:lnTo>
                    <a:pt x="638" y="2624"/>
                  </a:lnTo>
                  <a:lnTo>
                    <a:pt x="685" y="2457"/>
                  </a:lnTo>
                  <a:lnTo>
                    <a:pt x="685" y="2258"/>
                  </a:lnTo>
                  <a:lnTo>
                    <a:pt x="685" y="1324"/>
                  </a:lnTo>
                  <a:lnTo>
                    <a:pt x="629" y="997"/>
                  </a:lnTo>
                  <a:lnTo>
                    <a:pt x="518" y="637"/>
                  </a:lnTo>
                  <a:lnTo>
                    <a:pt x="401" y="311"/>
                  </a:lnTo>
                  <a:lnTo>
                    <a:pt x="2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47"/>
            <p:cNvSpPr/>
            <p:nvPr/>
          </p:nvSpPr>
          <p:spPr>
            <a:xfrm>
              <a:off x="7766280" y="5170680"/>
              <a:ext cx="82440" cy="264600"/>
            </a:xfrm>
            <a:custGeom>
              <a:avLst/>
              <a:gdLst/>
              <a:ahLst/>
              <a:rect l="l" t="t" r="r" b="b"/>
              <a:pathLst>
                <a:path w="352" h="1084">
                  <a:moveTo>
                    <a:pt x="0" y="60"/>
                  </a:moveTo>
                  <a:lnTo>
                    <a:pt x="59" y="196"/>
                  </a:lnTo>
                  <a:lnTo>
                    <a:pt x="127" y="406"/>
                  </a:lnTo>
                  <a:lnTo>
                    <a:pt x="167" y="582"/>
                  </a:lnTo>
                  <a:lnTo>
                    <a:pt x="187" y="790"/>
                  </a:lnTo>
                  <a:lnTo>
                    <a:pt x="198" y="957"/>
                  </a:lnTo>
                  <a:lnTo>
                    <a:pt x="198" y="1084"/>
                  </a:lnTo>
                  <a:lnTo>
                    <a:pt x="352" y="1046"/>
                  </a:lnTo>
                  <a:lnTo>
                    <a:pt x="291" y="868"/>
                  </a:lnTo>
                  <a:lnTo>
                    <a:pt x="247" y="654"/>
                  </a:lnTo>
                  <a:lnTo>
                    <a:pt x="232" y="439"/>
                  </a:lnTo>
                  <a:lnTo>
                    <a:pt x="209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48"/>
            <p:cNvSpPr/>
            <p:nvPr/>
          </p:nvSpPr>
          <p:spPr>
            <a:xfrm>
              <a:off x="8035200" y="4719600"/>
              <a:ext cx="154800" cy="966240"/>
            </a:xfrm>
            <a:custGeom>
              <a:avLst/>
              <a:gdLst/>
              <a:ahLst/>
              <a:rect l="l" t="t" r="r" b="b"/>
              <a:pathLst>
                <a:path w="668" h="3937">
                  <a:moveTo>
                    <a:pt x="72" y="78"/>
                  </a:moveTo>
                  <a:lnTo>
                    <a:pt x="304" y="727"/>
                  </a:lnTo>
                  <a:lnTo>
                    <a:pt x="443" y="1196"/>
                  </a:lnTo>
                  <a:lnTo>
                    <a:pt x="559" y="1637"/>
                  </a:lnTo>
                  <a:lnTo>
                    <a:pt x="646" y="2155"/>
                  </a:lnTo>
                  <a:lnTo>
                    <a:pt x="668" y="2545"/>
                  </a:lnTo>
                  <a:lnTo>
                    <a:pt x="668" y="2816"/>
                  </a:lnTo>
                  <a:lnTo>
                    <a:pt x="625" y="3123"/>
                  </a:lnTo>
                  <a:lnTo>
                    <a:pt x="579" y="3300"/>
                  </a:lnTo>
                  <a:lnTo>
                    <a:pt x="552" y="3476"/>
                  </a:lnTo>
                  <a:lnTo>
                    <a:pt x="518" y="3679"/>
                  </a:lnTo>
                  <a:lnTo>
                    <a:pt x="454" y="3806"/>
                  </a:lnTo>
                  <a:lnTo>
                    <a:pt x="387" y="3871"/>
                  </a:lnTo>
                  <a:lnTo>
                    <a:pt x="255" y="3937"/>
                  </a:lnTo>
                  <a:lnTo>
                    <a:pt x="375" y="3848"/>
                  </a:lnTo>
                  <a:lnTo>
                    <a:pt x="443" y="3738"/>
                  </a:lnTo>
                  <a:lnTo>
                    <a:pt x="476" y="3634"/>
                  </a:lnTo>
                  <a:lnTo>
                    <a:pt x="492" y="3397"/>
                  </a:lnTo>
                  <a:lnTo>
                    <a:pt x="337" y="3585"/>
                  </a:lnTo>
                  <a:lnTo>
                    <a:pt x="454" y="3420"/>
                  </a:lnTo>
                  <a:lnTo>
                    <a:pt x="529" y="3202"/>
                  </a:lnTo>
                  <a:lnTo>
                    <a:pt x="579" y="2942"/>
                  </a:lnTo>
                  <a:lnTo>
                    <a:pt x="590" y="2605"/>
                  </a:lnTo>
                  <a:lnTo>
                    <a:pt x="559" y="2155"/>
                  </a:lnTo>
                  <a:lnTo>
                    <a:pt x="492" y="1720"/>
                  </a:lnTo>
                  <a:lnTo>
                    <a:pt x="387" y="1206"/>
                  </a:lnTo>
                  <a:lnTo>
                    <a:pt x="255" y="750"/>
                  </a:lnTo>
                  <a:lnTo>
                    <a:pt x="0" y="0"/>
                  </a:lnTo>
                  <a:lnTo>
                    <a:pt x="72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49"/>
            <p:cNvSpPr/>
            <p:nvPr/>
          </p:nvSpPr>
          <p:spPr>
            <a:xfrm>
              <a:off x="6727320" y="5402880"/>
              <a:ext cx="1265040" cy="847080"/>
            </a:xfrm>
            <a:custGeom>
              <a:avLst/>
              <a:gdLst/>
              <a:ahLst/>
              <a:rect l="l" t="t" r="r" b="b"/>
              <a:pathLst>
                <a:path w="5448" h="3451">
                  <a:moveTo>
                    <a:pt x="5448" y="0"/>
                  </a:moveTo>
                  <a:lnTo>
                    <a:pt x="5223" y="0"/>
                  </a:lnTo>
                  <a:lnTo>
                    <a:pt x="4935" y="30"/>
                  </a:lnTo>
                  <a:lnTo>
                    <a:pt x="4649" y="98"/>
                  </a:lnTo>
                  <a:lnTo>
                    <a:pt x="3757" y="435"/>
                  </a:lnTo>
                  <a:lnTo>
                    <a:pt x="3183" y="627"/>
                  </a:lnTo>
                  <a:lnTo>
                    <a:pt x="2680" y="777"/>
                  </a:lnTo>
                  <a:lnTo>
                    <a:pt x="2114" y="926"/>
                  </a:lnTo>
                  <a:lnTo>
                    <a:pt x="1919" y="997"/>
                  </a:lnTo>
                  <a:lnTo>
                    <a:pt x="1645" y="1123"/>
                  </a:lnTo>
                  <a:lnTo>
                    <a:pt x="900" y="1526"/>
                  </a:lnTo>
                  <a:lnTo>
                    <a:pt x="465" y="1823"/>
                  </a:lnTo>
                  <a:lnTo>
                    <a:pt x="23" y="2438"/>
                  </a:lnTo>
                  <a:lnTo>
                    <a:pt x="0" y="2869"/>
                  </a:lnTo>
                  <a:lnTo>
                    <a:pt x="187" y="3154"/>
                  </a:lnTo>
                  <a:lnTo>
                    <a:pt x="228" y="3177"/>
                  </a:lnTo>
                  <a:lnTo>
                    <a:pt x="277" y="3166"/>
                  </a:lnTo>
                  <a:lnTo>
                    <a:pt x="311" y="3143"/>
                  </a:lnTo>
                  <a:lnTo>
                    <a:pt x="327" y="3133"/>
                  </a:lnTo>
                  <a:lnTo>
                    <a:pt x="426" y="3342"/>
                  </a:lnTo>
                  <a:lnTo>
                    <a:pt x="498" y="3424"/>
                  </a:lnTo>
                  <a:lnTo>
                    <a:pt x="536" y="3451"/>
                  </a:lnTo>
                  <a:lnTo>
                    <a:pt x="576" y="3440"/>
                  </a:lnTo>
                  <a:lnTo>
                    <a:pt x="596" y="3391"/>
                  </a:lnTo>
                  <a:lnTo>
                    <a:pt x="615" y="3253"/>
                  </a:lnTo>
                  <a:lnTo>
                    <a:pt x="650" y="2974"/>
                  </a:lnTo>
                  <a:lnTo>
                    <a:pt x="708" y="2747"/>
                  </a:lnTo>
                  <a:lnTo>
                    <a:pt x="824" y="2588"/>
                  </a:lnTo>
                  <a:lnTo>
                    <a:pt x="960" y="2417"/>
                  </a:lnTo>
                  <a:lnTo>
                    <a:pt x="735" y="2648"/>
                  </a:lnTo>
                  <a:lnTo>
                    <a:pt x="636" y="2808"/>
                  </a:lnTo>
                  <a:lnTo>
                    <a:pt x="589" y="2978"/>
                  </a:lnTo>
                  <a:lnTo>
                    <a:pt x="536" y="3054"/>
                  </a:lnTo>
                  <a:lnTo>
                    <a:pt x="437" y="3068"/>
                  </a:lnTo>
                  <a:lnTo>
                    <a:pt x="348" y="3005"/>
                  </a:lnTo>
                  <a:lnTo>
                    <a:pt x="397" y="2501"/>
                  </a:lnTo>
                  <a:lnTo>
                    <a:pt x="636" y="2169"/>
                  </a:lnTo>
                  <a:lnTo>
                    <a:pt x="378" y="2487"/>
                  </a:lnTo>
                  <a:lnTo>
                    <a:pt x="228" y="3042"/>
                  </a:lnTo>
                  <a:lnTo>
                    <a:pt x="128" y="2974"/>
                  </a:lnTo>
                  <a:lnTo>
                    <a:pt x="49" y="2857"/>
                  </a:lnTo>
                  <a:lnTo>
                    <a:pt x="60" y="2476"/>
                  </a:lnTo>
                  <a:lnTo>
                    <a:pt x="465" y="1860"/>
                  </a:lnTo>
                  <a:lnTo>
                    <a:pt x="1177" y="1404"/>
                  </a:lnTo>
                  <a:lnTo>
                    <a:pt x="1755" y="1107"/>
                  </a:lnTo>
                  <a:lnTo>
                    <a:pt x="2085" y="959"/>
                  </a:lnTo>
                  <a:lnTo>
                    <a:pt x="2830" y="765"/>
                  </a:lnTo>
                  <a:lnTo>
                    <a:pt x="3401" y="603"/>
                  </a:lnTo>
                  <a:lnTo>
                    <a:pt x="3937" y="435"/>
                  </a:lnTo>
                  <a:lnTo>
                    <a:pt x="4413" y="259"/>
                  </a:lnTo>
                  <a:lnTo>
                    <a:pt x="4766" y="149"/>
                  </a:lnTo>
                  <a:lnTo>
                    <a:pt x="5113" y="49"/>
                  </a:lnTo>
                  <a:lnTo>
                    <a:pt x="54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50"/>
            <p:cNvSpPr/>
            <p:nvPr/>
          </p:nvSpPr>
          <p:spPr>
            <a:xfrm>
              <a:off x="6915240" y="5967360"/>
              <a:ext cx="263160" cy="234000"/>
            </a:xfrm>
            <a:custGeom>
              <a:avLst/>
              <a:gdLst/>
              <a:ahLst/>
              <a:rect l="l" t="t" r="r" b="b"/>
              <a:pathLst>
                <a:path w="1137" h="958">
                  <a:moveTo>
                    <a:pt x="116" y="61"/>
                  </a:moveTo>
                  <a:lnTo>
                    <a:pt x="150" y="132"/>
                  </a:lnTo>
                  <a:lnTo>
                    <a:pt x="36" y="661"/>
                  </a:lnTo>
                  <a:lnTo>
                    <a:pt x="63" y="728"/>
                  </a:lnTo>
                  <a:lnTo>
                    <a:pt x="123" y="759"/>
                  </a:lnTo>
                  <a:lnTo>
                    <a:pt x="199" y="747"/>
                  </a:lnTo>
                  <a:lnTo>
                    <a:pt x="259" y="735"/>
                  </a:lnTo>
                  <a:lnTo>
                    <a:pt x="308" y="683"/>
                  </a:lnTo>
                  <a:lnTo>
                    <a:pt x="386" y="281"/>
                  </a:lnTo>
                  <a:lnTo>
                    <a:pt x="386" y="650"/>
                  </a:lnTo>
                  <a:lnTo>
                    <a:pt x="435" y="698"/>
                  </a:lnTo>
                  <a:lnTo>
                    <a:pt x="514" y="683"/>
                  </a:lnTo>
                  <a:lnTo>
                    <a:pt x="585" y="661"/>
                  </a:lnTo>
                  <a:lnTo>
                    <a:pt x="636" y="590"/>
                  </a:lnTo>
                  <a:lnTo>
                    <a:pt x="704" y="331"/>
                  </a:lnTo>
                  <a:lnTo>
                    <a:pt x="791" y="232"/>
                  </a:lnTo>
                  <a:lnTo>
                    <a:pt x="971" y="132"/>
                  </a:lnTo>
                  <a:lnTo>
                    <a:pt x="1137" y="0"/>
                  </a:lnTo>
                  <a:lnTo>
                    <a:pt x="962" y="157"/>
                  </a:lnTo>
                  <a:lnTo>
                    <a:pt x="851" y="232"/>
                  </a:lnTo>
                  <a:lnTo>
                    <a:pt x="772" y="309"/>
                  </a:lnTo>
                  <a:lnTo>
                    <a:pt x="723" y="391"/>
                  </a:lnTo>
                  <a:lnTo>
                    <a:pt x="674" y="529"/>
                  </a:lnTo>
                  <a:lnTo>
                    <a:pt x="615" y="679"/>
                  </a:lnTo>
                  <a:lnTo>
                    <a:pt x="566" y="728"/>
                  </a:lnTo>
                  <a:lnTo>
                    <a:pt x="409" y="759"/>
                  </a:lnTo>
                  <a:lnTo>
                    <a:pt x="348" y="759"/>
                  </a:lnTo>
                  <a:lnTo>
                    <a:pt x="288" y="937"/>
                  </a:lnTo>
                  <a:lnTo>
                    <a:pt x="236" y="958"/>
                  </a:lnTo>
                  <a:lnTo>
                    <a:pt x="199" y="946"/>
                  </a:lnTo>
                  <a:lnTo>
                    <a:pt x="139" y="920"/>
                  </a:lnTo>
                  <a:lnTo>
                    <a:pt x="14" y="698"/>
                  </a:lnTo>
                  <a:lnTo>
                    <a:pt x="0" y="623"/>
                  </a:lnTo>
                  <a:lnTo>
                    <a:pt x="100" y="157"/>
                  </a:lnTo>
                  <a:lnTo>
                    <a:pt x="116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51"/>
            <p:cNvSpPr/>
            <p:nvPr/>
          </p:nvSpPr>
          <p:spPr>
            <a:xfrm>
              <a:off x="7203600" y="5694840"/>
              <a:ext cx="848160" cy="304920"/>
            </a:xfrm>
            <a:custGeom>
              <a:avLst/>
              <a:gdLst/>
              <a:ahLst/>
              <a:rect l="l" t="t" r="r" b="b"/>
              <a:pathLst>
                <a:path w="3652" h="1243">
                  <a:moveTo>
                    <a:pt x="3652" y="0"/>
                  </a:moveTo>
                  <a:lnTo>
                    <a:pt x="3168" y="84"/>
                  </a:lnTo>
                  <a:lnTo>
                    <a:pt x="2283" y="170"/>
                  </a:lnTo>
                  <a:lnTo>
                    <a:pt x="1396" y="297"/>
                  </a:lnTo>
                  <a:lnTo>
                    <a:pt x="726" y="447"/>
                  </a:lnTo>
                  <a:lnTo>
                    <a:pt x="438" y="540"/>
                  </a:lnTo>
                  <a:lnTo>
                    <a:pt x="278" y="627"/>
                  </a:lnTo>
                  <a:lnTo>
                    <a:pt x="199" y="714"/>
                  </a:lnTo>
                  <a:lnTo>
                    <a:pt x="90" y="913"/>
                  </a:lnTo>
                  <a:lnTo>
                    <a:pt x="0" y="1034"/>
                  </a:lnTo>
                  <a:lnTo>
                    <a:pt x="90" y="947"/>
                  </a:lnTo>
                  <a:lnTo>
                    <a:pt x="150" y="898"/>
                  </a:lnTo>
                  <a:lnTo>
                    <a:pt x="2219" y="1243"/>
                  </a:lnTo>
                  <a:lnTo>
                    <a:pt x="2320" y="1233"/>
                  </a:lnTo>
                  <a:lnTo>
                    <a:pt x="2320" y="1205"/>
                  </a:lnTo>
                  <a:lnTo>
                    <a:pt x="2219" y="1221"/>
                  </a:lnTo>
                  <a:lnTo>
                    <a:pt x="438" y="924"/>
                  </a:lnTo>
                  <a:lnTo>
                    <a:pt x="527" y="835"/>
                  </a:lnTo>
                  <a:lnTo>
                    <a:pt x="576" y="701"/>
                  </a:lnTo>
                  <a:lnTo>
                    <a:pt x="637" y="617"/>
                  </a:lnTo>
                  <a:lnTo>
                    <a:pt x="735" y="540"/>
                  </a:lnTo>
                  <a:lnTo>
                    <a:pt x="974" y="451"/>
                  </a:lnTo>
                  <a:lnTo>
                    <a:pt x="824" y="451"/>
                  </a:lnTo>
                  <a:lnTo>
                    <a:pt x="1098" y="384"/>
                  </a:lnTo>
                  <a:lnTo>
                    <a:pt x="1414" y="320"/>
                  </a:lnTo>
                  <a:lnTo>
                    <a:pt x="2037" y="248"/>
                  </a:lnTo>
                  <a:lnTo>
                    <a:pt x="2594" y="197"/>
                  </a:lnTo>
                  <a:lnTo>
                    <a:pt x="3047" y="137"/>
                  </a:lnTo>
                  <a:lnTo>
                    <a:pt x="3337" y="84"/>
                  </a:lnTo>
                  <a:lnTo>
                    <a:pt x="365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52"/>
            <p:cNvSpPr/>
            <p:nvPr/>
          </p:nvSpPr>
          <p:spPr>
            <a:xfrm>
              <a:off x="7395840" y="5678640"/>
              <a:ext cx="1077120" cy="320760"/>
            </a:xfrm>
            <a:custGeom>
              <a:avLst/>
              <a:gdLst/>
              <a:ahLst/>
              <a:rect l="l" t="t" r="r" b="b"/>
              <a:pathLst>
                <a:path w="4638" h="1307">
                  <a:moveTo>
                    <a:pt x="0" y="515"/>
                  </a:moveTo>
                  <a:lnTo>
                    <a:pt x="1459" y="740"/>
                  </a:lnTo>
                  <a:lnTo>
                    <a:pt x="1489" y="825"/>
                  </a:lnTo>
                  <a:lnTo>
                    <a:pt x="1506" y="972"/>
                  </a:lnTo>
                  <a:lnTo>
                    <a:pt x="1506" y="1115"/>
                  </a:lnTo>
                  <a:lnTo>
                    <a:pt x="1478" y="1236"/>
                  </a:lnTo>
                  <a:lnTo>
                    <a:pt x="1440" y="1292"/>
                  </a:lnTo>
                  <a:lnTo>
                    <a:pt x="1400" y="1307"/>
                  </a:lnTo>
                  <a:lnTo>
                    <a:pt x="4587" y="665"/>
                  </a:lnTo>
                  <a:lnTo>
                    <a:pt x="4615" y="560"/>
                  </a:lnTo>
                  <a:lnTo>
                    <a:pt x="4638" y="422"/>
                  </a:lnTo>
                  <a:lnTo>
                    <a:pt x="4627" y="297"/>
                  </a:lnTo>
                  <a:lnTo>
                    <a:pt x="4578" y="162"/>
                  </a:lnTo>
                  <a:lnTo>
                    <a:pt x="4542" y="148"/>
                  </a:lnTo>
                  <a:lnTo>
                    <a:pt x="4493" y="120"/>
                  </a:lnTo>
                  <a:lnTo>
                    <a:pt x="3072" y="0"/>
                  </a:lnTo>
                  <a:lnTo>
                    <a:pt x="3033" y="20"/>
                  </a:lnTo>
                  <a:lnTo>
                    <a:pt x="4477" y="141"/>
                  </a:lnTo>
                  <a:lnTo>
                    <a:pt x="4559" y="207"/>
                  </a:lnTo>
                  <a:lnTo>
                    <a:pt x="4587" y="301"/>
                  </a:lnTo>
                  <a:lnTo>
                    <a:pt x="4587" y="422"/>
                  </a:lnTo>
                  <a:lnTo>
                    <a:pt x="4559" y="567"/>
                  </a:lnTo>
                  <a:lnTo>
                    <a:pt x="4526" y="647"/>
                  </a:lnTo>
                  <a:lnTo>
                    <a:pt x="1506" y="1265"/>
                  </a:lnTo>
                  <a:lnTo>
                    <a:pt x="1550" y="1154"/>
                  </a:lnTo>
                  <a:lnTo>
                    <a:pt x="1555" y="1026"/>
                  </a:lnTo>
                  <a:lnTo>
                    <a:pt x="1550" y="899"/>
                  </a:lnTo>
                  <a:lnTo>
                    <a:pt x="1506" y="736"/>
                  </a:lnTo>
                  <a:lnTo>
                    <a:pt x="1489" y="703"/>
                  </a:lnTo>
                  <a:lnTo>
                    <a:pt x="54" y="499"/>
                  </a:lnTo>
                  <a:lnTo>
                    <a:pt x="0" y="51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53"/>
            <p:cNvSpPr/>
            <p:nvPr/>
          </p:nvSpPr>
          <p:spPr>
            <a:xfrm>
              <a:off x="7734600" y="5712480"/>
              <a:ext cx="707760" cy="147240"/>
            </a:xfrm>
            <a:custGeom>
              <a:avLst/>
              <a:gdLst/>
              <a:ahLst/>
              <a:rect l="l" t="t" r="r" b="b"/>
              <a:pathLst>
                <a:path w="3051" h="599">
                  <a:moveTo>
                    <a:pt x="42" y="599"/>
                  </a:moveTo>
                  <a:lnTo>
                    <a:pt x="3051" y="7"/>
                  </a:lnTo>
                  <a:lnTo>
                    <a:pt x="3034" y="0"/>
                  </a:lnTo>
                  <a:lnTo>
                    <a:pt x="0" y="573"/>
                  </a:lnTo>
                  <a:lnTo>
                    <a:pt x="42" y="59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54"/>
            <p:cNvSpPr/>
            <p:nvPr/>
          </p:nvSpPr>
          <p:spPr>
            <a:xfrm>
              <a:off x="7812360" y="5842080"/>
              <a:ext cx="23400" cy="134280"/>
            </a:xfrm>
            <a:custGeom>
              <a:avLst/>
              <a:gdLst/>
              <a:ahLst/>
              <a:rect l="l" t="t" r="r" b="b"/>
              <a:pathLst>
                <a:path w="100" h="550">
                  <a:moveTo>
                    <a:pt x="0" y="11"/>
                  </a:moveTo>
                  <a:lnTo>
                    <a:pt x="29" y="61"/>
                  </a:lnTo>
                  <a:lnTo>
                    <a:pt x="55" y="180"/>
                  </a:lnTo>
                  <a:lnTo>
                    <a:pt x="67" y="286"/>
                  </a:lnTo>
                  <a:lnTo>
                    <a:pt x="55" y="401"/>
                  </a:lnTo>
                  <a:lnTo>
                    <a:pt x="44" y="480"/>
                  </a:lnTo>
                  <a:lnTo>
                    <a:pt x="29" y="550"/>
                  </a:lnTo>
                  <a:lnTo>
                    <a:pt x="67" y="540"/>
                  </a:lnTo>
                  <a:lnTo>
                    <a:pt x="90" y="440"/>
                  </a:lnTo>
                  <a:lnTo>
                    <a:pt x="100" y="312"/>
                  </a:lnTo>
                  <a:lnTo>
                    <a:pt x="90" y="203"/>
                  </a:lnTo>
                  <a:lnTo>
                    <a:pt x="67" y="100"/>
                  </a:lnTo>
                  <a:lnTo>
                    <a:pt x="29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55"/>
            <p:cNvSpPr/>
            <p:nvPr/>
          </p:nvSpPr>
          <p:spPr>
            <a:xfrm>
              <a:off x="7851240" y="5834520"/>
              <a:ext cx="19440" cy="132480"/>
            </a:xfrm>
            <a:custGeom>
              <a:avLst/>
              <a:gdLst/>
              <a:ahLst/>
              <a:rect l="l" t="t" r="r" b="b"/>
              <a:pathLst>
                <a:path w="87" h="537">
                  <a:moveTo>
                    <a:pt x="0" y="0"/>
                  </a:moveTo>
                  <a:lnTo>
                    <a:pt x="38" y="102"/>
                  </a:lnTo>
                  <a:lnTo>
                    <a:pt x="61" y="212"/>
                  </a:lnTo>
                  <a:lnTo>
                    <a:pt x="61" y="334"/>
                  </a:lnTo>
                  <a:lnTo>
                    <a:pt x="50" y="428"/>
                  </a:lnTo>
                  <a:lnTo>
                    <a:pt x="31" y="537"/>
                  </a:lnTo>
                  <a:lnTo>
                    <a:pt x="61" y="526"/>
                  </a:lnTo>
                  <a:lnTo>
                    <a:pt x="76" y="406"/>
                  </a:lnTo>
                  <a:lnTo>
                    <a:pt x="87" y="301"/>
                  </a:lnTo>
                  <a:lnTo>
                    <a:pt x="87" y="212"/>
                  </a:lnTo>
                  <a:lnTo>
                    <a:pt x="71" y="98"/>
                  </a:lnTo>
                  <a:lnTo>
                    <a:pt x="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56"/>
            <p:cNvSpPr/>
            <p:nvPr/>
          </p:nvSpPr>
          <p:spPr>
            <a:xfrm>
              <a:off x="8361360" y="5733000"/>
              <a:ext cx="76680" cy="104400"/>
            </a:xfrm>
            <a:custGeom>
              <a:avLst/>
              <a:gdLst/>
              <a:ahLst/>
              <a:rect l="l" t="t" r="r" b="b"/>
              <a:pathLst>
                <a:path w="331" h="424">
                  <a:moveTo>
                    <a:pt x="110" y="0"/>
                  </a:moveTo>
                  <a:lnTo>
                    <a:pt x="0" y="288"/>
                  </a:lnTo>
                  <a:lnTo>
                    <a:pt x="209" y="424"/>
                  </a:lnTo>
                  <a:lnTo>
                    <a:pt x="331" y="187"/>
                  </a:lnTo>
                  <a:lnTo>
                    <a:pt x="192" y="11"/>
                  </a:lnTo>
                  <a:lnTo>
                    <a:pt x="293" y="183"/>
                  </a:lnTo>
                  <a:lnTo>
                    <a:pt x="204" y="381"/>
                  </a:lnTo>
                  <a:lnTo>
                    <a:pt x="43" y="288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57"/>
            <p:cNvSpPr/>
            <p:nvPr/>
          </p:nvSpPr>
          <p:spPr>
            <a:xfrm>
              <a:off x="8319600" y="5739120"/>
              <a:ext cx="23400" cy="126360"/>
            </a:xfrm>
            <a:custGeom>
              <a:avLst/>
              <a:gdLst/>
              <a:ahLst/>
              <a:rect l="l" t="t" r="r" b="b"/>
              <a:pathLst>
                <a:path w="99" h="519">
                  <a:moveTo>
                    <a:pt x="31" y="0"/>
                  </a:moveTo>
                  <a:lnTo>
                    <a:pt x="67" y="51"/>
                  </a:lnTo>
                  <a:lnTo>
                    <a:pt x="87" y="138"/>
                  </a:lnTo>
                  <a:lnTo>
                    <a:pt x="99" y="253"/>
                  </a:lnTo>
                  <a:lnTo>
                    <a:pt x="80" y="408"/>
                  </a:lnTo>
                  <a:lnTo>
                    <a:pt x="67" y="519"/>
                  </a:lnTo>
                  <a:lnTo>
                    <a:pt x="31" y="519"/>
                  </a:lnTo>
                  <a:lnTo>
                    <a:pt x="50" y="358"/>
                  </a:lnTo>
                  <a:lnTo>
                    <a:pt x="67" y="253"/>
                  </a:lnTo>
                  <a:lnTo>
                    <a:pt x="50" y="138"/>
                  </a:lnTo>
                  <a:lnTo>
                    <a:pt x="20" y="51"/>
                  </a:lnTo>
                  <a:lnTo>
                    <a:pt x="0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58"/>
            <p:cNvSpPr/>
            <p:nvPr/>
          </p:nvSpPr>
          <p:spPr>
            <a:xfrm>
              <a:off x="8202600" y="5761080"/>
              <a:ext cx="16200" cy="135360"/>
            </a:xfrm>
            <a:custGeom>
              <a:avLst/>
              <a:gdLst/>
              <a:ahLst/>
              <a:rect l="l" t="t" r="r" b="b"/>
              <a:pathLst>
                <a:path w="72" h="551">
                  <a:moveTo>
                    <a:pt x="0" y="11"/>
                  </a:moveTo>
                  <a:lnTo>
                    <a:pt x="16" y="101"/>
                  </a:lnTo>
                  <a:lnTo>
                    <a:pt x="37" y="209"/>
                  </a:lnTo>
                  <a:lnTo>
                    <a:pt x="27" y="348"/>
                  </a:lnTo>
                  <a:lnTo>
                    <a:pt x="0" y="551"/>
                  </a:lnTo>
                  <a:lnTo>
                    <a:pt x="37" y="529"/>
                  </a:lnTo>
                  <a:lnTo>
                    <a:pt x="72" y="288"/>
                  </a:lnTo>
                  <a:lnTo>
                    <a:pt x="72" y="176"/>
                  </a:lnTo>
                  <a:lnTo>
                    <a:pt x="49" y="83"/>
                  </a:lnTo>
                  <a:lnTo>
                    <a:pt x="27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Line 59"/>
            <p:cNvSpPr/>
            <p:nvPr/>
          </p:nvSpPr>
          <p:spPr>
            <a:xfrm>
              <a:off x="6324480" y="6296040"/>
              <a:ext cx="21877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60"/>
            <p:cNvSpPr/>
            <p:nvPr/>
          </p:nvSpPr>
          <p:spPr>
            <a:xfrm>
              <a:off x="6324480" y="6130800"/>
              <a:ext cx="4233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Line 61"/>
            <p:cNvSpPr/>
            <p:nvPr/>
          </p:nvSpPr>
          <p:spPr>
            <a:xfrm>
              <a:off x="6874560" y="6130800"/>
              <a:ext cx="432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Line 62"/>
            <p:cNvSpPr/>
            <p:nvPr/>
          </p:nvSpPr>
          <p:spPr>
            <a:xfrm>
              <a:off x="7062840" y="6130800"/>
              <a:ext cx="14490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Line 63"/>
            <p:cNvSpPr/>
            <p:nvPr/>
          </p:nvSpPr>
          <p:spPr>
            <a:xfrm>
              <a:off x="6324480" y="5783040"/>
              <a:ext cx="2980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Line 64"/>
            <p:cNvSpPr/>
            <p:nvPr/>
          </p:nvSpPr>
          <p:spPr>
            <a:xfrm>
              <a:off x="8464680" y="5783040"/>
              <a:ext cx="471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WordArt 2"/>
          <p:cNvSpPr txBox="1"/>
          <p:nvPr/>
        </p:nvSpPr>
        <p:spPr>
          <a:xfrm>
            <a:off x="1447920" y="457200"/>
            <a:ext cx="6781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What goes wher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sp>
        <p:nvSpPr>
          <p:cNvPr id="425" name="Line 3"/>
          <p:cNvSpPr/>
          <p:nvPr/>
        </p:nvSpPr>
        <p:spPr>
          <a:xfrm>
            <a:off x="2895480" y="160020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4"/>
          <p:cNvSpPr/>
          <p:nvPr/>
        </p:nvSpPr>
        <p:spPr>
          <a:xfrm>
            <a:off x="3282120" y="3376440"/>
            <a:ext cx="562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Not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go here, in th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rge right hand colum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5"/>
          <p:cNvSpPr/>
          <p:nvPr/>
        </p:nvSpPr>
        <p:spPr>
          <a:xfrm>
            <a:off x="914400" y="1574640"/>
            <a:ext cx="2161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Ques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titl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tc. go her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lef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d colum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membe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w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er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it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6"/>
          <p:cNvSpPr/>
          <p:nvPr/>
        </p:nvSpPr>
        <p:spPr>
          <a:xfrm>
            <a:off x="2895480" y="5105520"/>
            <a:ext cx="601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3 to 4 sentence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summar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own there on the bottom of the last page of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7"/>
          <p:cNvSpPr/>
          <p:nvPr/>
        </p:nvSpPr>
        <p:spPr>
          <a:xfrm>
            <a:off x="5257800" y="5881680"/>
            <a:ext cx="333360" cy="671400"/>
          </a:xfrm>
          <a:prstGeom prst="downArrow">
            <a:avLst>
              <a:gd name="adj1" fmla="val 50000"/>
              <a:gd name="adj2" fmla="val 50351"/>
            </a:avLst>
          </a:prstGeom>
          <a:solidFill>
            <a:srgbClr val="a3816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8"/>
          <p:cNvSpPr/>
          <p:nvPr/>
        </p:nvSpPr>
        <p:spPr>
          <a:xfrm>
            <a:off x="3184560" y="1573200"/>
            <a:ext cx="492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n’t forget the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head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, Class, Period, Date,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9"/>
          <p:cNvSpPr/>
          <p:nvPr/>
        </p:nvSpPr>
        <p:spPr>
          <a:xfrm>
            <a:off x="7086600" y="1295280"/>
            <a:ext cx="257040" cy="671760"/>
          </a:xfrm>
          <a:prstGeom prst="upArrow">
            <a:avLst>
              <a:gd name="adj1" fmla="val 50000"/>
              <a:gd name="adj2" fmla="val 65336"/>
            </a:avLst>
          </a:prstGeom>
          <a:solidFill>
            <a:srgbClr val="a3816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0"/>
          <p:cNvSpPr/>
          <p:nvPr/>
        </p:nvSpPr>
        <p:spPr>
          <a:xfrm>
            <a:off x="1905120" y="228600"/>
            <a:ext cx="0" cy="6400800"/>
          </a:xfrm>
          <a:prstGeom prst="line">
            <a:avLst/>
          </a:prstGeom>
          <a:ln w="936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WordArt 2"/>
          <p:cNvSpPr txBox="1"/>
          <p:nvPr/>
        </p:nvSpPr>
        <p:spPr>
          <a:xfrm>
            <a:off x="1219320" y="533520"/>
            <a:ext cx="7416720" cy="19810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 Black"/>
              </a:rPr>
              <a:t>In the right sleeve of your packet:</a:t>
            </a:r>
            <a:endParaRPr b="1" lang="en-US" sz="40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 Black"/>
              </a:rPr>
              <a:t> </a:t>
            </a:r>
            <a:endParaRPr b="1" lang="en-US" sz="40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 Black"/>
              <a:ea typeface="Arial Black"/>
            </a:endParaRPr>
          </a:p>
        </p:txBody>
      </p:sp>
      <p:sp>
        <p:nvSpPr>
          <p:cNvPr id="434" name="Text Box 3"/>
          <p:cNvSpPr/>
          <p:nvPr/>
        </p:nvSpPr>
        <p:spPr>
          <a:xfrm>
            <a:off x="1965240" y="3389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4"/>
          <p:cNvSpPr/>
          <p:nvPr/>
        </p:nvSpPr>
        <p:spPr>
          <a:xfrm>
            <a:off x="1219320" y="1905120"/>
            <a:ext cx="457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sic Cornell Notes Instruction She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5"/>
          <p:cNvSpPr/>
          <p:nvPr/>
        </p:nvSpPr>
        <p:spPr>
          <a:xfrm>
            <a:off x="4495680" y="4800600"/>
            <a:ext cx="3353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gression S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6" descr=""/>
          <p:cNvPicPr/>
          <p:nvPr/>
        </p:nvPicPr>
        <p:blipFill>
          <a:blip r:embed="rId1"/>
          <a:stretch/>
        </p:blipFill>
        <p:spPr>
          <a:xfrm>
            <a:off x="5715000" y="1905120"/>
            <a:ext cx="2347920" cy="236196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7" descr=""/>
          <p:cNvPicPr/>
          <p:nvPr/>
        </p:nvPicPr>
        <p:blipFill>
          <a:blip r:embed="rId2"/>
          <a:stretch/>
        </p:blipFill>
        <p:spPr>
          <a:xfrm>
            <a:off x="1523880" y="4038480"/>
            <a:ext cx="2346480" cy="24386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2424240" y="1106640"/>
            <a:ext cx="28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Arial"/>
              </a:rPr>
              <a:t>  </a:t>
            </a:r>
            <a:endParaRPr b="1" lang="en-US" sz="6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1066680" y="2666880"/>
            <a:ext cx="6553440" cy="35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did you learn             the skill of note                  tak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did this skill contribute to your succes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1066680" y="1600200"/>
            <a:ext cx="7594560" cy="8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cc0000"/>
                </a:solidFill>
                <a:uFillTx/>
                <a:latin typeface="Arial"/>
              </a:rPr>
              <a:t>Quickwrite Questions</a:t>
            </a: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"/>
          <p:cNvPicPr/>
          <p:nvPr/>
        </p:nvPicPr>
        <p:blipFill>
          <a:blip r:embed="rId1"/>
          <a:stretch/>
        </p:blipFill>
        <p:spPr>
          <a:xfrm>
            <a:off x="5715000" y="2819520"/>
            <a:ext cx="2987640" cy="2786040"/>
          </a:xfrm>
          <a:prstGeom prst="rect">
            <a:avLst/>
          </a:prstGeom>
          <a:ln w="0">
            <a:noFill/>
          </a:ln>
        </p:spPr>
      </p:pic>
      <p:sp>
        <p:nvSpPr>
          <p:cNvPr id="97" name="WordArt 7"/>
          <p:cNvSpPr txBox="1"/>
          <p:nvPr/>
        </p:nvSpPr>
        <p:spPr>
          <a:xfrm>
            <a:off x="1371600" y="457200"/>
            <a:ext cx="6705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he Hidden Curriculum</a:t>
            </a:r>
            <a:endParaRPr b="0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" dur="1" fill="hold"/>
                                  <p:tgtEl>
                                    <p:spTgt spid="9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1026" descr="C:\My Download Files\notebook.jpg"/>
          <p:cNvPicPr/>
          <p:nvPr/>
        </p:nvPicPr>
        <p:blipFill>
          <a:blip r:embed="rId1"/>
          <a:stretch/>
        </p:blipFill>
        <p:spPr>
          <a:xfrm>
            <a:off x="3886200" y="228600"/>
            <a:ext cx="4952880" cy="6400800"/>
          </a:xfrm>
          <a:prstGeom prst="rect">
            <a:avLst/>
          </a:prstGeom>
          <a:ln w="0">
            <a:noFill/>
          </a:ln>
        </p:spPr>
      </p:pic>
      <p:sp>
        <p:nvSpPr>
          <p:cNvPr id="440" name="Text Box 1027"/>
          <p:cNvSpPr/>
          <p:nvPr/>
        </p:nvSpPr>
        <p:spPr>
          <a:xfrm>
            <a:off x="4189680" y="457200"/>
            <a:ext cx="109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thropo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WordArt 1028"/>
          <p:cNvSpPr txBox="1"/>
          <p:nvPr/>
        </p:nvSpPr>
        <p:spPr>
          <a:xfrm>
            <a:off x="1295280" y="838080"/>
            <a:ext cx="213372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Ninth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Grade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Biology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Note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sp>
        <p:nvSpPr>
          <p:cNvPr id="442" name="Text Box 1029"/>
          <p:cNvSpPr/>
          <p:nvPr/>
        </p:nvSpPr>
        <p:spPr>
          <a:xfrm>
            <a:off x="1143360" y="3048120"/>
            <a:ext cx="255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Paul sen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his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C:\My Download Files\lecture.jpg"/>
          <p:cNvPicPr/>
          <p:nvPr/>
        </p:nvPicPr>
        <p:blipFill>
          <a:blip r:embed="rId1"/>
          <a:stretch/>
        </p:blipFill>
        <p:spPr>
          <a:xfrm>
            <a:off x="3581280" y="228600"/>
            <a:ext cx="5211720" cy="6400800"/>
          </a:xfrm>
          <a:prstGeom prst="rect">
            <a:avLst/>
          </a:prstGeom>
          <a:ln w="0">
            <a:noFill/>
          </a:ln>
        </p:spPr>
      </p:pic>
      <p:sp>
        <p:nvSpPr>
          <p:cNvPr id="444" name="WordArt 3"/>
          <p:cNvSpPr txBox="1"/>
          <p:nvPr/>
        </p:nvSpPr>
        <p:spPr>
          <a:xfrm>
            <a:off x="1295280" y="838080"/>
            <a:ext cx="213372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Physics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Notes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in College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sp>
        <p:nvSpPr>
          <p:cNvPr id="445" name="Text Box 4"/>
          <p:cNvSpPr/>
          <p:nvPr/>
        </p:nvSpPr>
        <p:spPr>
          <a:xfrm>
            <a:off x="1143360" y="3048120"/>
            <a:ext cx="255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Paul sen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his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1026" descr="C:\My Download Files\summary.jpg"/>
          <p:cNvPicPr/>
          <p:nvPr/>
        </p:nvPicPr>
        <p:blipFill>
          <a:blip r:embed="rId1"/>
          <a:stretch/>
        </p:blipFill>
        <p:spPr>
          <a:xfrm>
            <a:off x="2666880" y="228600"/>
            <a:ext cx="6195960" cy="6400800"/>
          </a:xfrm>
          <a:prstGeom prst="rect">
            <a:avLst/>
          </a:prstGeom>
          <a:ln w="0">
            <a:noFill/>
          </a:ln>
        </p:spPr>
      </p:pic>
      <p:sp>
        <p:nvSpPr>
          <p:cNvPr id="447" name="WordArt 1027"/>
          <p:cNvSpPr txBox="1"/>
          <p:nvPr/>
        </p:nvSpPr>
        <p:spPr>
          <a:xfrm>
            <a:off x="1066680" y="3581280"/>
            <a:ext cx="213372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Summary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w/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diagram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sp>
        <p:nvSpPr>
          <p:cNvPr id="448" name="Text Box 1028"/>
          <p:cNvSpPr/>
          <p:nvPr/>
        </p:nvSpPr>
        <p:spPr>
          <a:xfrm>
            <a:off x="1143360" y="3048120"/>
            <a:ext cx="255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Paul sen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his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Picture 5" descr="D:\My Documents\LACOE\Graphics\APES Cornell notes.jpg"/>
          <p:cNvPicPr/>
          <p:nvPr/>
        </p:nvPicPr>
        <p:blipFill>
          <a:blip r:embed="rId1"/>
          <a:stretch/>
        </p:blipFill>
        <p:spPr>
          <a:xfrm>
            <a:off x="3249720" y="228600"/>
            <a:ext cx="5894280" cy="64008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1066320" y="1828440"/>
            <a:ext cx="3676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08080" indent="-208080">
              <a:spcBef>
                <a:spcPts val="64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y reflect </a:t>
            </a: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headings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 in PowerPoint lectur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64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Leave room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on the left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for questions and diagra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64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eave plenty of 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room within the outlin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for student note-taking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WordArt 6"/>
          <p:cNvSpPr txBox="1"/>
          <p:nvPr/>
        </p:nvSpPr>
        <p:spPr>
          <a:xfrm>
            <a:off x="1066680" y="457200"/>
            <a:ext cx="35053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Computerized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Note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41" dur="1" fill="hold"/>
                                  <p:tgtEl>
                                    <p:spTgt spid="45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/>
          </p:nvPr>
        </p:nvSpPr>
        <p:spPr>
          <a:xfrm>
            <a:off x="1066320" y="1600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-174960">
              <a:lnSpc>
                <a:spcPct val="90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vide students with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kelet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uterized Cornell not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lnSpc>
                <a:spcPct val="90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udents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re-cop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heir notes that night into their journ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35240" indent="-20232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utomatic revie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35240" indent="-20232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Kinesthetic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lear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35240" indent="-20232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an edit, look-up wor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35240" indent="-20232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rompts higher-level ques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35240" indent="-20232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Absentees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can target on what they need to kno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WordArt 4"/>
          <p:cNvSpPr txBox="1"/>
          <p:nvPr/>
        </p:nvSpPr>
        <p:spPr>
          <a:xfrm>
            <a:off x="1066680" y="533520"/>
            <a:ext cx="76201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Adaptations for Journal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graphicFrame>
        <p:nvGraphicFramePr>
          <p:cNvPr id="454" name="Object 8"/>
          <p:cNvGraphicFramePr/>
          <p:nvPr/>
        </p:nvGraphicFramePr>
        <p:xfrm>
          <a:off x="7010280" y="3124080"/>
          <a:ext cx="1844640" cy="227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3124080"/>
                    <a:ext cx="1844640" cy="22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80" dur="1" fill="hold"/>
                                  <p:tgtEl>
                                    <p:spTgt spid="45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WordArt 3"/>
          <p:cNvSpPr txBox="1"/>
          <p:nvPr/>
        </p:nvSpPr>
        <p:spPr>
          <a:xfrm rot="16200000">
            <a:off x="-323640" y="3523680"/>
            <a:ext cx="39625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Grading Rubric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pic>
        <p:nvPicPr>
          <p:cNvPr id="457" name="Object 5" descr=""/>
          <p:cNvPicPr/>
          <p:nvPr/>
        </p:nvPicPr>
        <p:blipFill>
          <a:blip r:embed="rId1"/>
          <a:stretch/>
        </p:blipFill>
        <p:spPr>
          <a:xfrm>
            <a:off x="2133720" y="228600"/>
            <a:ext cx="6697440" cy="64008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3124080" y="1294920"/>
            <a:ext cx="563904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5000"/>
          </a:bodyPr>
          <a:p>
            <a:pPr marL="154080" indent="-154080"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8000"/>
                </a:solidFill>
                <a:latin typeface="Arial"/>
              </a:rPr>
              <a:t>(Overview: quickly scan)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54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Arial"/>
              </a:rPr>
              <a:t>(Establish a purpose)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54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spcBef>
                <a:spcPts val="85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6633"/>
                </a:solidFill>
                <a:latin typeface="Arial"/>
              </a:rPr>
              <a:t>(to answer questions)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spcBef>
                <a:spcPts val="85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(answers to questions with the book closed)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spcBef>
                <a:spcPts val="85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8007c"/>
                </a:solidFill>
                <a:latin typeface="Arial"/>
              </a:rPr>
              <a:t>(Take notes!)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54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spcBef>
                <a:spcPts val="85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800080"/>
                </a:solidFill>
                <a:latin typeface="Arial"/>
              </a:rPr>
              <a:t>(at short intervals)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WordArt 3"/>
          <p:cNvSpPr txBox="1"/>
          <p:nvPr/>
        </p:nvSpPr>
        <p:spPr>
          <a:xfrm>
            <a:off x="1066680" y="533520"/>
            <a:ext cx="7620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SQ4R-Writing to Learn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pic>
        <p:nvPicPr>
          <p:cNvPr id="460" name="Picture 5" descr="[SURVEY]"/>
          <p:cNvPicPr/>
          <p:nvPr/>
        </p:nvPicPr>
        <p:blipFill>
          <a:blip r:embed="rId1"/>
          <a:stretch/>
        </p:blipFill>
        <p:spPr>
          <a:xfrm>
            <a:off x="1219320" y="1303200"/>
            <a:ext cx="1904760" cy="74628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6" descr="[QUESTION]"/>
          <p:cNvPicPr/>
          <p:nvPr/>
        </p:nvPicPr>
        <p:blipFill>
          <a:blip r:embed="rId2"/>
          <a:stretch/>
        </p:blipFill>
        <p:spPr>
          <a:xfrm>
            <a:off x="1219320" y="2057400"/>
            <a:ext cx="1981080" cy="7430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7" descr="[READ]"/>
          <p:cNvPicPr/>
          <p:nvPr/>
        </p:nvPicPr>
        <p:blipFill>
          <a:blip r:embed="rId3"/>
          <a:stretch/>
        </p:blipFill>
        <p:spPr>
          <a:xfrm>
            <a:off x="1371600" y="2971800"/>
            <a:ext cx="1523880" cy="68112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8" descr="[RECITE]"/>
          <p:cNvPicPr/>
          <p:nvPr/>
        </p:nvPicPr>
        <p:blipFill>
          <a:blip r:embed="rId4"/>
          <a:stretch/>
        </p:blipFill>
        <p:spPr>
          <a:xfrm>
            <a:off x="1295280" y="3733920"/>
            <a:ext cx="1650960" cy="70632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9" descr="[WRITE]"/>
          <p:cNvPicPr/>
          <p:nvPr/>
        </p:nvPicPr>
        <p:blipFill>
          <a:blip r:embed="rId5"/>
          <a:stretch/>
        </p:blipFill>
        <p:spPr>
          <a:xfrm>
            <a:off x="1371600" y="4800600"/>
            <a:ext cx="1295280" cy="55404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10" descr="[REVIEW]"/>
          <p:cNvPicPr/>
          <p:nvPr/>
        </p:nvPicPr>
        <p:blipFill>
          <a:blip r:embed="rId6"/>
          <a:stretch/>
        </p:blipFill>
        <p:spPr>
          <a:xfrm>
            <a:off x="1295280" y="5562720"/>
            <a:ext cx="1568520" cy="69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4" dur="1" fill="hold"/>
                                  <p:tgtEl>
                                    <p:spTgt spid="458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WordArt 2"/>
          <p:cNvSpPr txBox="1"/>
          <p:nvPr/>
        </p:nvSpPr>
        <p:spPr>
          <a:xfrm>
            <a:off x="1219320" y="533520"/>
            <a:ext cx="7238880" cy="94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33"/>
                </a:solidFill>
                <a:latin typeface="Arial Black"/>
              </a:rPr>
              <a:t>Learning Log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33"/>
              </a:solidFill>
              <a:latin typeface="Arial Black"/>
              <a:ea typeface="Arial Black"/>
            </a:endParaRPr>
          </a:p>
        </p:txBody>
      </p:sp>
      <p:sp>
        <p:nvSpPr>
          <p:cNvPr id="467" name="Text Box 3"/>
          <p:cNvSpPr/>
          <p:nvPr/>
        </p:nvSpPr>
        <p:spPr>
          <a:xfrm>
            <a:off x="1355760" y="1941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4"/>
          <p:cNvSpPr/>
          <p:nvPr/>
        </p:nvSpPr>
        <p:spPr>
          <a:xfrm>
            <a:off x="994680" y="1676520"/>
            <a:ext cx="7759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writing technique to help focu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 what you are learning in clas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riting in your learning log is 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eat way to use writing as 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cess of discovery and fo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rification of ideas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Picture 5" descr=""/>
          <p:cNvPicPr/>
          <p:nvPr/>
        </p:nvPicPr>
        <p:blipFill>
          <a:blip r:embed="rId1"/>
          <a:stretch/>
        </p:blipFill>
        <p:spPr>
          <a:xfrm>
            <a:off x="7284960" y="4724280"/>
            <a:ext cx="1368360" cy="17179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WordArt 2"/>
          <p:cNvSpPr txBox="1"/>
          <p:nvPr/>
        </p:nvSpPr>
        <p:spPr>
          <a:xfrm>
            <a:off x="1219320" y="533520"/>
            <a:ext cx="7238880" cy="94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33"/>
                </a:solidFill>
                <a:latin typeface="Arial Black"/>
              </a:rPr>
              <a:t>Note Taking Tip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33"/>
              </a:solidFill>
              <a:latin typeface="Arial Black"/>
              <a:ea typeface="Arial Black"/>
            </a:endParaRPr>
          </a:p>
        </p:txBody>
      </p:sp>
      <p:sp>
        <p:nvSpPr>
          <p:cNvPr id="471" name="Text Box 3"/>
          <p:cNvSpPr/>
          <p:nvPr/>
        </p:nvSpPr>
        <p:spPr>
          <a:xfrm>
            <a:off x="919440" y="1676520"/>
            <a:ext cx="78861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peaker say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“Hippocrates,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eek who is considered to be t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ther of modern medicine, w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rn on the island of Cos 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60 B.C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Notes sa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“Hippocrates (Gr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ther of med. B. Cos 460BC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 Box 4"/>
          <p:cNvSpPr/>
          <p:nvPr/>
        </p:nvSpPr>
        <p:spPr>
          <a:xfrm>
            <a:off x="2514600" y="109692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Be an Active R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6" descr="Graphics\hispanic writer.jpg"/>
          <p:cNvPicPr/>
          <p:nvPr/>
        </p:nvPicPr>
        <p:blipFill>
          <a:blip r:embed="rId1"/>
          <a:stretch/>
        </p:blipFill>
        <p:spPr>
          <a:xfrm>
            <a:off x="6019920" y="4840200"/>
            <a:ext cx="2882880" cy="1790640"/>
          </a:xfrm>
          <a:prstGeom prst="rect">
            <a:avLst/>
          </a:prstGeom>
          <a:ln w="0">
            <a:noFill/>
          </a:ln>
        </p:spPr>
      </p:pic>
      <p:sp>
        <p:nvSpPr>
          <p:cNvPr id="474" name="Text Box 2"/>
          <p:cNvSpPr/>
          <p:nvPr/>
        </p:nvSpPr>
        <p:spPr>
          <a:xfrm>
            <a:off x="1066680" y="1828800"/>
            <a:ext cx="7620120" cy="45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3000" spc="-1" strike="noStrike" u="sng">
                <a:solidFill>
                  <a:srgbClr val="000000"/>
                </a:solidFill>
                <a:uFillTx/>
                <a:latin typeface="Arial"/>
              </a:rPr>
              <a:t>Think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about the rea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453960">
              <a:lnSpc>
                <a:spcPct val="100000"/>
              </a:lnSpc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ider how the </a:t>
            </a:r>
            <a:r>
              <a:rPr b="1" sz="30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parts relate to the whole</a:t>
            </a:r>
            <a:r>
              <a:rPr b="1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; how the text relates to previous ide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453960">
              <a:lnSpc>
                <a:spcPct val="100000"/>
              </a:lnSpc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453960">
              <a:lnSpc>
                <a:spcPct val="100000"/>
              </a:lnSpc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reate questions about </a:t>
            </a:r>
            <a:r>
              <a:rPr b="1" sz="30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new words</a:t>
            </a:r>
            <a:r>
              <a:rPr b="1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/ terms, why emphasized points are importa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453960">
              <a:lnSpc>
                <a:spcPct val="100000"/>
              </a:lnSpc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453960">
              <a:lnSpc>
                <a:spcPct val="100000"/>
              </a:lnSpc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amine what you have                 learned from </a:t>
            </a:r>
            <a:r>
              <a:rPr b="1" sz="30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visu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WordArt 7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on Taking Text Note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1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43" dur="1" fill="hold"/>
                                  <p:tgtEl>
                                    <p:spTgt spid="47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>
            <a:off x="1066680" y="457200"/>
            <a:ext cx="74678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Why take notes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066680" y="1600200"/>
            <a:ext cx="7010640" cy="47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nell note taking stimulates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ritical thinking ski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e taking helps students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remember what is sai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n 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good set of notes can help students work on assignments and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prepare for test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utside of the class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7315200" y="1828800"/>
            <a:ext cx="1541520" cy="17524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" dur="1" fill="hold"/>
                                  <p:tgtEl>
                                    <p:spTgt spid="9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 Box 2"/>
          <p:cNvSpPr/>
          <p:nvPr/>
        </p:nvSpPr>
        <p:spPr>
          <a:xfrm>
            <a:off x="1066680" y="1828800"/>
            <a:ext cx="76201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Look for the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pattern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in elements like chapter /subsection  headings, summary points, graphics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Know where to find the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index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glossa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4"/>
          <p:cNvSpPr/>
          <p:nvPr/>
        </p:nvSpPr>
        <p:spPr>
          <a:xfrm>
            <a:off x="1371600" y="10969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Be Aware of Textbook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Picture 6" descr="Graphics\hispanic writer.jpg"/>
          <p:cNvPicPr/>
          <p:nvPr/>
        </p:nvPicPr>
        <p:blipFill>
          <a:blip r:embed="rId1"/>
          <a:stretch/>
        </p:blipFill>
        <p:spPr>
          <a:xfrm>
            <a:off x="6019920" y="4840200"/>
            <a:ext cx="2882880" cy="1790640"/>
          </a:xfrm>
          <a:prstGeom prst="rect">
            <a:avLst/>
          </a:prstGeom>
          <a:ln w="0">
            <a:noFill/>
          </a:ln>
        </p:spPr>
      </p:pic>
      <p:sp>
        <p:nvSpPr>
          <p:cNvPr id="479" name="WordArt 7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on Taking Text Note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62" dur="1" fill="hold"/>
                                  <p:tgtEl>
                                    <p:spTgt spid="47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Text Box 2"/>
          <p:cNvSpPr/>
          <p:nvPr/>
        </p:nvSpPr>
        <p:spPr>
          <a:xfrm>
            <a:off x="1066680" y="1828800"/>
            <a:ext cx="7696440" cy="35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Become familiar with the font, symbols, borders, graphics, colors, and layout that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highlight main idea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or ter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Be alert to the writer's goal: highlight ideas/ references /opinions that seem significant to their                                        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point of view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4"/>
          <p:cNvSpPr/>
          <p:nvPr/>
        </p:nvSpPr>
        <p:spPr>
          <a:xfrm>
            <a:off x="990720" y="11574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cc0000"/>
                </a:solidFill>
                <a:latin typeface="Arial"/>
              </a:rPr>
              <a:t>Use the text style to identify important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6" descr="Graphics\hispanic writer.jpg"/>
          <p:cNvPicPr/>
          <p:nvPr/>
        </p:nvPicPr>
        <p:blipFill>
          <a:blip r:embed="rId1"/>
          <a:stretch/>
        </p:blipFill>
        <p:spPr>
          <a:xfrm>
            <a:off x="6019920" y="4840200"/>
            <a:ext cx="2882880" cy="1790640"/>
          </a:xfrm>
          <a:prstGeom prst="rect">
            <a:avLst/>
          </a:prstGeom>
          <a:ln w="0">
            <a:noFill/>
          </a:ln>
        </p:spPr>
      </p:pic>
      <p:sp>
        <p:nvSpPr>
          <p:cNvPr id="483" name="WordArt 7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on Taking Text Note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9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81" dur="1" fill="hold"/>
                                  <p:tgtEl>
                                    <p:spTgt spid="48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ext Box 1026"/>
          <p:cNvSpPr/>
          <p:nvPr/>
        </p:nvSpPr>
        <p:spPr>
          <a:xfrm>
            <a:off x="1066680" y="1828800"/>
            <a:ext cx="792504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Include headings, key terms, &amp;  graph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Take down only the important ideas: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brief, but clear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Summarize in your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own wor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symbol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to highlight for review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textbook review                              question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to develop                                         study ques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028"/>
          <p:cNvSpPr/>
          <p:nvPr/>
        </p:nvSpPr>
        <p:spPr>
          <a:xfrm>
            <a:off x="2057400" y="109692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cc0000"/>
                </a:solidFill>
                <a:latin typeface="Arial"/>
              </a:rPr>
              <a:t>Take notes while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1030" descr="Graphics\hispanic writer.jpg"/>
          <p:cNvPicPr/>
          <p:nvPr/>
        </p:nvPicPr>
        <p:blipFill>
          <a:blip r:embed="rId1"/>
          <a:stretch/>
        </p:blipFill>
        <p:spPr>
          <a:xfrm>
            <a:off x="6019920" y="4840200"/>
            <a:ext cx="2882880" cy="1790640"/>
          </a:xfrm>
          <a:prstGeom prst="rect">
            <a:avLst/>
          </a:prstGeom>
          <a:ln w="0">
            <a:noFill/>
          </a:ln>
        </p:spPr>
      </p:pic>
      <p:sp>
        <p:nvSpPr>
          <p:cNvPr id="487" name="WordArt 1031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on Taking Text Note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4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15" dur="1" fill="hold"/>
                                  <p:tgtEl>
                                    <p:spTgt spid="484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Text Box 1028"/>
          <p:cNvSpPr/>
          <p:nvPr/>
        </p:nvSpPr>
        <p:spPr>
          <a:xfrm>
            <a:off x="2057400" y="109692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cc0000"/>
                </a:solidFill>
                <a:latin typeface="Arial"/>
              </a:rPr>
              <a:t>Review textbook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Picture 1030" descr="Graphics\hispanic writer.jpg"/>
          <p:cNvPicPr/>
          <p:nvPr/>
        </p:nvPicPr>
        <p:blipFill>
          <a:blip r:embed="rId1"/>
          <a:stretch/>
        </p:blipFill>
        <p:spPr>
          <a:xfrm>
            <a:off x="6019920" y="4840200"/>
            <a:ext cx="2882880" cy="1790640"/>
          </a:xfrm>
          <a:prstGeom prst="rect">
            <a:avLst/>
          </a:prstGeom>
          <a:ln w="0">
            <a:noFill/>
          </a:ln>
        </p:spPr>
      </p:pic>
      <p:sp>
        <p:nvSpPr>
          <p:cNvPr id="490" name="Text Box 1026"/>
          <p:cNvSpPr/>
          <p:nvPr/>
        </p:nvSpPr>
        <p:spPr>
          <a:xfrm>
            <a:off x="1066680" y="1828800"/>
            <a:ext cx="7620120" cy="45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Identify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main idea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Fill in detail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for better understan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Identify unclear information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and/or questions - collaborate for answ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Delete unnecessary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Review note organization;                                       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add symbol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or rewri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Write a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summa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WordArt 1031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on Taking Text Note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2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0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54" dur="1" fill="hold"/>
                                  <p:tgtEl>
                                    <p:spTgt spid="490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 Box 4"/>
          <p:cNvSpPr/>
          <p:nvPr/>
        </p:nvSpPr>
        <p:spPr>
          <a:xfrm>
            <a:off x="1066680" y="1828800"/>
            <a:ext cx="762012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Use discussion topics/questions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organize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your no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symbol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for important ide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Include your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own response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in no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Develop questions to review la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Add reference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to other                              material as they come                                      to mi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8" descr="D:\My Documents\LACOE\Graphics\students collaborating.jpg"/>
          <p:cNvPicPr/>
          <p:nvPr/>
        </p:nvPicPr>
        <p:blipFill>
          <a:blip r:embed="rId1"/>
          <a:stretch/>
        </p:blipFill>
        <p:spPr>
          <a:xfrm>
            <a:off x="5867280" y="4952880"/>
            <a:ext cx="2925720" cy="1617840"/>
          </a:xfrm>
          <a:prstGeom prst="rect">
            <a:avLst/>
          </a:prstGeom>
          <a:ln w="0">
            <a:noFill/>
          </a:ln>
        </p:spPr>
      </p:pic>
      <p:sp>
        <p:nvSpPr>
          <p:cNvPr id="494" name="WordArt 9"/>
          <p:cNvSpPr txBox="1"/>
          <p:nvPr/>
        </p:nvSpPr>
        <p:spPr>
          <a:xfrm>
            <a:off x="1523880" y="380880"/>
            <a:ext cx="67057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on Taking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Discussion Note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83" dur="1" fill="hold"/>
                                  <p:tgtEl>
                                    <p:spTgt spid="49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Text Box 2"/>
          <p:cNvSpPr/>
          <p:nvPr/>
        </p:nvSpPr>
        <p:spPr>
          <a:xfrm>
            <a:off x="1066680" y="1828800"/>
            <a:ext cx="7620120" cy="45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Cover the right side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of your notes; review and answer study questions from the left using the right side as an answer ke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Quiz yourself out lou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Cover the right side with blank                paper;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write out answer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to                            the left column  study                           ques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6" name="Object 69"/>
          <p:cNvGraphicFramePr/>
          <p:nvPr/>
        </p:nvGraphicFramePr>
        <p:xfrm>
          <a:off x="6705720" y="4691160"/>
          <a:ext cx="2179440" cy="186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7" name="Object 6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05720" y="4691160"/>
                    <a:ext cx="2179440" cy="18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8" name="Text Box 70"/>
          <p:cNvSpPr/>
          <p:nvPr/>
        </p:nvSpPr>
        <p:spPr>
          <a:xfrm>
            <a:off x="2360880" y="1066680"/>
            <a:ext cx="46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Make use of the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WordArt 71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for Studying with Note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07" dur="1" fill="hold"/>
                                  <p:tgtEl>
                                    <p:spTgt spid="49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2"/>
          <p:cNvSpPr/>
          <p:nvPr/>
        </p:nvSpPr>
        <p:spPr>
          <a:xfrm>
            <a:off x="1066680" y="1828800"/>
            <a:ext cx="7620120" cy="45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Write summaries of the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most important material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in the summary/reflection s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Write a quiz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for others using notes; exchange and corre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Write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anticipated test question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beyond those already in the                          left-hand column and write                           answ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6"/>
          <p:cNvSpPr/>
          <p:nvPr/>
        </p:nvSpPr>
        <p:spPr>
          <a:xfrm>
            <a:off x="3886200" y="1096920"/>
            <a:ext cx="133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Wri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2" name="Object 7"/>
          <p:cNvGraphicFramePr/>
          <p:nvPr/>
        </p:nvGraphicFramePr>
        <p:xfrm>
          <a:off x="6705720" y="4691160"/>
          <a:ext cx="2179440" cy="186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05720" y="4691160"/>
                    <a:ext cx="2179440" cy="18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4" name="WordArt 8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for Studying with Note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4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31" dur="1" fill="hold"/>
                                  <p:tgtEl>
                                    <p:spTgt spid="50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1026"/>
          <p:cNvSpPr/>
          <p:nvPr/>
        </p:nvSpPr>
        <p:spPr>
          <a:xfrm>
            <a:off x="1066680" y="1828800"/>
            <a:ext cx="7620120" cy="22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Look over notes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frequently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to                       keep information and questions                 still unanswered fresh in mind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Recite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information from notes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028"/>
          <p:cNvSpPr/>
          <p:nvPr/>
        </p:nvSpPr>
        <p:spPr>
          <a:xfrm>
            <a:off x="3657600" y="10969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7" name="Object 1029"/>
          <p:cNvGraphicFramePr/>
          <p:nvPr/>
        </p:nvGraphicFramePr>
        <p:xfrm>
          <a:off x="6705720" y="4691160"/>
          <a:ext cx="2179440" cy="186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8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05720" y="4691160"/>
                    <a:ext cx="2179440" cy="18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9" name="WordArt 1030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for Studying with Note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8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50" dur="1" fill="hold"/>
                                  <p:tgtEl>
                                    <p:spTgt spid="50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 Box 2"/>
          <p:cNvSpPr/>
          <p:nvPr/>
        </p:nvSpPr>
        <p:spPr>
          <a:xfrm>
            <a:off x="1066680" y="1828800"/>
            <a:ext cx="7620120" cy="41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Exchange note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with others to flesh out information and understanding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Use notes in study groups to provide a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common ground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of material for reference and revie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Rewrite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notes if necessary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4"/>
          <p:cNvSpPr/>
          <p:nvPr/>
        </p:nvSpPr>
        <p:spPr>
          <a:xfrm>
            <a:off x="2743200" y="109692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tudy in a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2" name="Object 5"/>
          <p:cNvGraphicFramePr/>
          <p:nvPr/>
        </p:nvGraphicFramePr>
        <p:xfrm>
          <a:off x="6705720" y="4691160"/>
          <a:ext cx="2179440" cy="186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05720" y="4691160"/>
                    <a:ext cx="2179440" cy="18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4" name="WordArt 6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for Studying with Note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74" dur="1" fill="hold"/>
                                  <p:tgtEl>
                                    <p:spTgt spid="51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2"/>
          <p:cNvSpPr/>
          <p:nvPr/>
        </p:nvSpPr>
        <p:spPr>
          <a:xfrm>
            <a:off x="0" y="228600"/>
            <a:ext cx="91440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igned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Paul Bullo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nior Program Specia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1" i="1" lang="en-US" sz="40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3300"/>
                </a:solidFill>
                <a:latin typeface="Arial"/>
              </a:rPr>
              <a:t>Anne Mab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 Science C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3" descr="_x001a_AVID  logo color small.jpg                                     00002A44_x000c_Macintosh HD                   B71C5AB1:"/>
          <p:cNvPicPr/>
          <p:nvPr/>
        </p:nvPicPr>
        <p:blipFill>
          <a:blip r:embed="rId1"/>
          <a:stretch/>
        </p:blipFill>
        <p:spPr>
          <a:xfrm>
            <a:off x="3581280" y="3886200"/>
            <a:ext cx="2293920" cy="25146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1066680" y="1600200"/>
            <a:ext cx="7772400" cy="40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od notes allow students to help each other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problem solv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od Notes help students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organize and process dat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lps student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recal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by                      getting them to process                         their notes 3 ti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WordArt 3"/>
          <p:cNvSpPr txBox="1"/>
          <p:nvPr/>
        </p:nvSpPr>
        <p:spPr>
          <a:xfrm>
            <a:off x="1066680" y="457200"/>
            <a:ext cx="74678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Why take notes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7315200" y="3962520"/>
            <a:ext cx="1541520" cy="17524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1066680" y="5638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Arial"/>
              </a:rPr>
              <a:t>Writing is a great tool for learn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8" dur="1" fill="hold"/>
                                  <p:tgtEl>
                                    <p:spTgt spid="10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2"/>
          <p:cNvSpPr txBox="1"/>
          <p:nvPr/>
        </p:nvSpPr>
        <p:spPr>
          <a:xfrm>
            <a:off x="1143000" y="533520"/>
            <a:ext cx="75438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History of Cornell Note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1066680" y="1600200"/>
            <a:ext cx="7696440" cy="48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veloped in 1949 at Cornell University by Walter Pau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igned in response to frustration over student  test scor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ant to be easily used                               as a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test study guid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opted by most major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law school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s the preferred note taking meth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Object 4"/>
          <p:cNvGraphicFramePr/>
          <p:nvPr/>
        </p:nvGraphicFramePr>
        <p:xfrm>
          <a:off x="6781680" y="3352680"/>
          <a:ext cx="1920960" cy="206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3352680"/>
                    <a:ext cx="192096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u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2" dur="1" fill="hold"/>
                                  <p:tgtEl>
                                    <p:spTgt spid="10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6095880" y="228600"/>
            <a:ext cx="2554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rst &amp; Last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ss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3"/>
          <p:cNvSpPr/>
          <p:nvPr/>
        </p:nvSpPr>
        <p:spPr>
          <a:xfrm>
            <a:off x="3124080" y="160020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1296360" y="708120"/>
            <a:ext cx="129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p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990720" y="1698480"/>
            <a:ext cx="212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titl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d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4192560" y="2133720"/>
            <a:ext cx="38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ass Not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6324480" y="586728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solidFill>
            <a:srgbClr val="a3816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8"/>
          <p:cNvSpPr/>
          <p:nvPr/>
        </p:nvSpPr>
        <p:spPr>
          <a:xfrm>
            <a:off x="2057400" y="228600"/>
            <a:ext cx="0" cy="6400800"/>
          </a:xfrm>
          <a:prstGeom prst="line">
            <a:avLst/>
          </a:prstGeom>
          <a:ln w="936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1586880" y="408456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/2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0"/>
          <p:cNvSpPr/>
          <p:nvPr/>
        </p:nvSpPr>
        <p:spPr>
          <a:xfrm>
            <a:off x="220968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1"/>
          <p:cNvSpPr/>
          <p:nvPr/>
        </p:nvSpPr>
        <p:spPr>
          <a:xfrm flipH="1">
            <a:off x="609480" y="43434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2"/>
          <p:cNvSpPr/>
          <p:nvPr/>
        </p:nvSpPr>
        <p:spPr>
          <a:xfrm>
            <a:off x="3124080" y="4876920"/>
            <a:ext cx="5864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to 4 senten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umma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cro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ottom of the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last p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day’s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1147680" y="353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1147680" y="353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8667720" y="35388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8667720" y="35388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1147680" y="360360"/>
            <a:ext cx="6480" cy="311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8667720" y="360360"/>
            <a:ext cx="4680" cy="311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1147680" y="671400"/>
            <a:ext cx="648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2984400" y="723960"/>
            <a:ext cx="504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8667720" y="671400"/>
            <a:ext cx="468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1"/>
          <p:cNvSpPr/>
          <p:nvPr/>
        </p:nvSpPr>
        <p:spPr>
          <a:xfrm>
            <a:off x="1147680" y="725400"/>
            <a:ext cx="6480" cy="530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2"/>
          <p:cNvSpPr/>
          <p:nvPr/>
        </p:nvSpPr>
        <p:spPr>
          <a:xfrm>
            <a:off x="2984400" y="725400"/>
            <a:ext cx="5040" cy="530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3"/>
          <p:cNvSpPr/>
          <p:nvPr/>
        </p:nvSpPr>
        <p:spPr>
          <a:xfrm>
            <a:off x="8667720" y="725400"/>
            <a:ext cx="4680" cy="530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4"/>
          <p:cNvSpPr/>
          <p:nvPr/>
        </p:nvSpPr>
        <p:spPr>
          <a:xfrm>
            <a:off x="1147680" y="1255680"/>
            <a:ext cx="6480" cy="514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5"/>
          <p:cNvSpPr/>
          <p:nvPr/>
        </p:nvSpPr>
        <p:spPr>
          <a:xfrm>
            <a:off x="1147680" y="63975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6"/>
          <p:cNvSpPr/>
          <p:nvPr/>
        </p:nvSpPr>
        <p:spPr>
          <a:xfrm>
            <a:off x="1147680" y="63975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7"/>
          <p:cNvSpPr/>
          <p:nvPr/>
        </p:nvSpPr>
        <p:spPr>
          <a:xfrm>
            <a:off x="1154160" y="6397560"/>
            <a:ext cx="1830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8"/>
          <p:cNvSpPr/>
          <p:nvPr/>
        </p:nvSpPr>
        <p:spPr>
          <a:xfrm>
            <a:off x="2984400" y="1255680"/>
            <a:ext cx="5040" cy="514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9"/>
          <p:cNvSpPr/>
          <p:nvPr/>
        </p:nvSpPr>
        <p:spPr>
          <a:xfrm>
            <a:off x="2984400" y="6397560"/>
            <a:ext cx="50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0"/>
          <p:cNvSpPr/>
          <p:nvPr/>
        </p:nvSpPr>
        <p:spPr>
          <a:xfrm>
            <a:off x="2989440" y="6397560"/>
            <a:ext cx="56782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1"/>
          <p:cNvSpPr/>
          <p:nvPr/>
        </p:nvSpPr>
        <p:spPr>
          <a:xfrm>
            <a:off x="8667720" y="1255680"/>
            <a:ext cx="4680" cy="514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2"/>
          <p:cNvSpPr/>
          <p:nvPr/>
        </p:nvSpPr>
        <p:spPr>
          <a:xfrm>
            <a:off x="8667720" y="639756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3"/>
          <p:cNvSpPr/>
          <p:nvPr/>
        </p:nvSpPr>
        <p:spPr>
          <a:xfrm>
            <a:off x="8667720" y="639756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4"/>
          <p:cNvSpPr/>
          <p:nvPr/>
        </p:nvSpPr>
        <p:spPr>
          <a:xfrm>
            <a:off x="1130400" y="6402240"/>
            <a:ext cx="360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25"/>
          <p:cNvGrpSpPr/>
          <p:nvPr/>
        </p:nvGrpSpPr>
        <p:grpSpPr>
          <a:xfrm>
            <a:off x="1130040" y="152280"/>
            <a:ext cx="7805160" cy="6420240"/>
            <a:chOff x="1130040" y="152280"/>
            <a:chExt cx="7805160" cy="6420240"/>
          </a:xfrm>
        </p:grpSpPr>
        <p:pic>
          <p:nvPicPr>
            <p:cNvPr id="144" name="Picture 26" descr="C:\My Download Files\concept.jpg"/>
            <p:cNvPicPr/>
            <p:nvPr/>
          </p:nvPicPr>
          <p:blipFill>
            <a:blip r:embed="rId1">
              <a:lum contrast="12000"/>
            </a:blip>
            <a:stretch/>
          </p:blipFill>
          <p:spPr>
            <a:xfrm>
              <a:off x="1600200" y="4572000"/>
              <a:ext cx="958680" cy="105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Rectangle 27"/>
            <p:cNvSpPr/>
            <p:nvPr/>
          </p:nvSpPr>
          <p:spPr>
            <a:xfrm>
              <a:off x="1211040" y="361800"/>
              <a:ext cx="11545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Subject:  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28"/>
            <p:cNvSpPr/>
            <p:nvPr/>
          </p:nvSpPr>
          <p:spPr>
            <a:xfrm>
              <a:off x="2291040" y="361800"/>
              <a:ext cx="2817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800000"/>
                  </a:solidFill>
                  <a:latin typeface="Arial"/>
                </a:rPr>
                <a:t>Why take Cornell notes?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29"/>
            <p:cNvSpPr/>
            <p:nvPr/>
          </p:nvSpPr>
          <p:spPr>
            <a:xfrm>
              <a:off x="4910040" y="361800"/>
              <a:ext cx="3889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                                 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Date: 11/20/01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30"/>
            <p:cNvSpPr/>
            <p:nvPr/>
          </p:nvSpPr>
          <p:spPr>
            <a:xfrm>
              <a:off x="8555760" y="152280"/>
              <a:ext cx="135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31"/>
            <p:cNvSpPr/>
            <p:nvPr/>
          </p:nvSpPr>
          <p:spPr>
            <a:xfrm>
              <a:off x="1147680" y="35388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32"/>
            <p:cNvSpPr/>
            <p:nvPr/>
          </p:nvSpPr>
          <p:spPr>
            <a:xfrm>
              <a:off x="1147680" y="35388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33"/>
            <p:cNvSpPr/>
            <p:nvPr/>
          </p:nvSpPr>
          <p:spPr>
            <a:xfrm>
              <a:off x="1147680" y="35388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34"/>
            <p:cNvSpPr/>
            <p:nvPr/>
          </p:nvSpPr>
          <p:spPr>
            <a:xfrm>
              <a:off x="1147680" y="35388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35"/>
            <p:cNvSpPr/>
            <p:nvPr/>
          </p:nvSpPr>
          <p:spPr>
            <a:xfrm>
              <a:off x="1154160" y="353880"/>
              <a:ext cx="75135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36"/>
            <p:cNvSpPr/>
            <p:nvPr/>
          </p:nvSpPr>
          <p:spPr>
            <a:xfrm>
              <a:off x="1154160" y="353880"/>
              <a:ext cx="7513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37"/>
            <p:cNvSpPr/>
            <p:nvPr/>
          </p:nvSpPr>
          <p:spPr>
            <a:xfrm>
              <a:off x="8667720" y="35388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38"/>
            <p:cNvSpPr/>
            <p:nvPr/>
          </p:nvSpPr>
          <p:spPr>
            <a:xfrm>
              <a:off x="8667720" y="35388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39"/>
            <p:cNvSpPr/>
            <p:nvPr/>
          </p:nvSpPr>
          <p:spPr>
            <a:xfrm>
              <a:off x="8667720" y="35388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40"/>
            <p:cNvSpPr/>
            <p:nvPr/>
          </p:nvSpPr>
          <p:spPr>
            <a:xfrm>
              <a:off x="8667720" y="35388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41"/>
            <p:cNvSpPr/>
            <p:nvPr/>
          </p:nvSpPr>
          <p:spPr>
            <a:xfrm>
              <a:off x="1147680" y="360360"/>
              <a:ext cx="1800" cy="311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42"/>
            <p:cNvSpPr/>
            <p:nvPr/>
          </p:nvSpPr>
          <p:spPr>
            <a:xfrm>
              <a:off x="8667720" y="360360"/>
              <a:ext cx="1440" cy="311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43"/>
            <p:cNvSpPr/>
            <p:nvPr/>
          </p:nvSpPr>
          <p:spPr>
            <a:xfrm>
              <a:off x="1530000" y="73656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P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44"/>
            <p:cNvSpPr/>
            <p:nvPr/>
          </p:nvSpPr>
          <p:spPr>
            <a:xfrm>
              <a:off x="1520640" y="72720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P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45"/>
            <p:cNvSpPr/>
            <p:nvPr/>
          </p:nvSpPr>
          <p:spPr>
            <a:xfrm>
              <a:off x="1679400" y="73656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R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46"/>
            <p:cNvSpPr/>
            <p:nvPr/>
          </p:nvSpPr>
          <p:spPr>
            <a:xfrm>
              <a:off x="1670040" y="72720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R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47"/>
            <p:cNvSpPr/>
            <p:nvPr/>
          </p:nvSpPr>
          <p:spPr>
            <a:xfrm>
              <a:off x="1841040" y="736560"/>
              <a:ext cx="188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O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48"/>
            <p:cNvSpPr/>
            <p:nvPr/>
          </p:nvSpPr>
          <p:spPr>
            <a:xfrm>
              <a:off x="1831680" y="727200"/>
              <a:ext cx="188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O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49"/>
            <p:cNvSpPr/>
            <p:nvPr/>
          </p:nvSpPr>
          <p:spPr>
            <a:xfrm>
              <a:off x="2016000" y="73656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C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50"/>
            <p:cNvSpPr/>
            <p:nvPr/>
          </p:nvSpPr>
          <p:spPr>
            <a:xfrm>
              <a:off x="2006640" y="72720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C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51"/>
            <p:cNvSpPr/>
            <p:nvPr/>
          </p:nvSpPr>
          <p:spPr>
            <a:xfrm>
              <a:off x="2178000" y="73656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52"/>
            <p:cNvSpPr/>
            <p:nvPr/>
          </p:nvSpPr>
          <p:spPr>
            <a:xfrm>
              <a:off x="2171520" y="72720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53"/>
            <p:cNvSpPr/>
            <p:nvPr/>
          </p:nvSpPr>
          <p:spPr>
            <a:xfrm>
              <a:off x="2328480" y="73656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54"/>
            <p:cNvSpPr/>
            <p:nvPr/>
          </p:nvSpPr>
          <p:spPr>
            <a:xfrm>
              <a:off x="2319120" y="72720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55"/>
            <p:cNvSpPr/>
            <p:nvPr/>
          </p:nvSpPr>
          <p:spPr>
            <a:xfrm>
              <a:off x="2477880" y="73656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56"/>
            <p:cNvSpPr/>
            <p:nvPr/>
          </p:nvSpPr>
          <p:spPr>
            <a:xfrm>
              <a:off x="2468520" y="72720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57"/>
            <p:cNvSpPr/>
            <p:nvPr/>
          </p:nvSpPr>
          <p:spPr>
            <a:xfrm>
              <a:off x="2626920" y="736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58"/>
            <p:cNvSpPr/>
            <p:nvPr/>
          </p:nvSpPr>
          <p:spPr>
            <a:xfrm>
              <a:off x="2620440" y="7272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59"/>
            <p:cNvSpPr/>
            <p:nvPr/>
          </p:nvSpPr>
          <p:spPr>
            <a:xfrm>
              <a:off x="1676160" y="10065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(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60"/>
            <p:cNvSpPr/>
            <p:nvPr/>
          </p:nvSpPr>
          <p:spPr>
            <a:xfrm>
              <a:off x="1666440" y="9968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(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61"/>
            <p:cNvSpPr/>
            <p:nvPr/>
          </p:nvSpPr>
          <p:spPr>
            <a:xfrm>
              <a:off x="1746000" y="100656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62"/>
            <p:cNvSpPr/>
            <p:nvPr/>
          </p:nvSpPr>
          <p:spPr>
            <a:xfrm>
              <a:off x="1736280" y="99684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63"/>
            <p:cNvSpPr/>
            <p:nvPr/>
          </p:nvSpPr>
          <p:spPr>
            <a:xfrm>
              <a:off x="1877760" y="100656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64"/>
            <p:cNvSpPr/>
            <p:nvPr/>
          </p:nvSpPr>
          <p:spPr>
            <a:xfrm>
              <a:off x="1868040" y="99684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65"/>
            <p:cNvSpPr/>
            <p:nvPr/>
          </p:nvSpPr>
          <p:spPr>
            <a:xfrm>
              <a:off x="2006280" y="10065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66"/>
            <p:cNvSpPr/>
            <p:nvPr/>
          </p:nvSpPr>
          <p:spPr>
            <a:xfrm>
              <a:off x="1998360" y="9968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67"/>
            <p:cNvSpPr/>
            <p:nvPr/>
          </p:nvSpPr>
          <p:spPr>
            <a:xfrm>
              <a:off x="2080800" y="100656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68"/>
            <p:cNvSpPr/>
            <p:nvPr/>
          </p:nvSpPr>
          <p:spPr>
            <a:xfrm>
              <a:off x="2069640" y="99684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69"/>
            <p:cNvSpPr/>
            <p:nvPr/>
          </p:nvSpPr>
          <p:spPr>
            <a:xfrm>
              <a:off x="2207880" y="100656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70"/>
            <p:cNvSpPr/>
            <p:nvPr/>
          </p:nvSpPr>
          <p:spPr>
            <a:xfrm>
              <a:off x="2199960" y="99684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71"/>
            <p:cNvSpPr/>
            <p:nvPr/>
          </p:nvSpPr>
          <p:spPr>
            <a:xfrm>
              <a:off x="2339640" y="10065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72"/>
            <p:cNvSpPr/>
            <p:nvPr/>
          </p:nvSpPr>
          <p:spPr>
            <a:xfrm>
              <a:off x="2329920" y="9968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73"/>
            <p:cNvSpPr/>
            <p:nvPr/>
          </p:nvSpPr>
          <p:spPr>
            <a:xfrm>
              <a:off x="2410920" y="10065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74"/>
            <p:cNvSpPr/>
            <p:nvPr/>
          </p:nvSpPr>
          <p:spPr>
            <a:xfrm>
              <a:off x="2401560" y="9968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75"/>
            <p:cNvSpPr/>
            <p:nvPr/>
          </p:nvSpPr>
          <p:spPr>
            <a:xfrm>
              <a:off x="2480760" y="9954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76"/>
            <p:cNvSpPr/>
            <p:nvPr/>
          </p:nvSpPr>
          <p:spPr>
            <a:xfrm>
              <a:off x="2471400" y="9856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77"/>
            <p:cNvSpPr/>
            <p:nvPr/>
          </p:nvSpPr>
          <p:spPr>
            <a:xfrm>
              <a:off x="4879800" y="736560"/>
              <a:ext cx="201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M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78"/>
            <p:cNvSpPr/>
            <p:nvPr/>
          </p:nvSpPr>
          <p:spPr>
            <a:xfrm>
              <a:off x="4870440" y="727200"/>
              <a:ext cx="201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M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79"/>
            <p:cNvSpPr/>
            <p:nvPr/>
          </p:nvSpPr>
          <p:spPr>
            <a:xfrm>
              <a:off x="5068800" y="7365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80"/>
            <p:cNvSpPr/>
            <p:nvPr/>
          </p:nvSpPr>
          <p:spPr>
            <a:xfrm>
              <a:off x="5059440" y="727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81"/>
            <p:cNvSpPr/>
            <p:nvPr/>
          </p:nvSpPr>
          <p:spPr>
            <a:xfrm>
              <a:off x="5194080" y="736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82"/>
            <p:cNvSpPr/>
            <p:nvPr/>
          </p:nvSpPr>
          <p:spPr>
            <a:xfrm>
              <a:off x="5184360" y="7272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83"/>
            <p:cNvSpPr/>
            <p:nvPr/>
          </p:nvSpPr>
          <p:spPr>
            <a:xfrm>
              <a:off x="5256000" y="73656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84"/>
            <p:cNvSpPr/>
            <p:nvPr/>
          </p:nvSpPr>
          <p:spPr>
            <a:xfrm>
              <a:off x="5246280" y="72720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85"/>
            <p:cNvSpPr/>
            <p:nvPr/>
          </p:nvSpPr>
          <p:spPr>
            <a:xfrm>
              <a:off x="5393880" y="736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86"/>
            <p:cNvSpPr/>
            <p:nvPr/>
          </p:nvSpPr>
          <p:spPr>
            <a:xfrm>
              <a:off x="5384520" y="7272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87"/>
            <p:cNvSpPr/>
            <p:nvPr/>
          </p:nvSpPr>
          <p:spPr>
            <a:xfrm>
              <a:off x="5455800" y="736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88"/>
            <p:cNvSpPr/>
            <p:nvPr/>
          </p:nvSpPr>
          <p:spPr>
            <a:xfrm>
              <a:off x="5447880" y="7272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89"/>
            <p:cNvSpPr/>
            <p:nvPr/>
          </p:nvSpPr>
          <p:spPr>
            <a:xfrm>
              <a:off x="5519520" y="73656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d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90"/>
            <p:cNvSpPr/>
            <p:nvPr/>
          </p:nvSpPr>
          <p:spPr>
            <a:xfrm>
              <a:off x="5509800" y="72720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d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91"/>
            <p:cNvSpPr/>
            <p:nvPr/>
          </p:nvSpPr>
          <p:spPr>
            <a:xfrm>
              <a:off x="5657760" y="7365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92"/>
            <p:cNvSpPr/>
            <p:nvPr/>
          </p:nvSpPr>
          <p:spPr>
            <a:xfrm>
              <a:off x="5648400" y="727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93"/>
            <p:cNvSpPr/>
            <p:nvPr/>
          </p:nvSpPr>
          <p:spPr>
            <a:xfrm>
              <a:off x="5781600" y="7365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94"/>
            <p:cNvSpPr/>
            <p:nvPr/>
          </p:nvSpPr>
          <p:spPr>
            <a:xfrm>
              <a:off x="5772240" y="727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95"/>
            <p:cNvSpPr/>
            <p:nvPr/>
          </p:nvSpPr>
          <p:spPr>
            <a:xfrm>
              <a:off x="5907240" y="7365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96"/>
            <p:cNvSpPr/>
            <p:nvPr/>
          </p:nvSpPr>
          <p:spPr>
            <a:xfrm>
              <a:off x="5897520" y="727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97"/>
            <p:cNvSpPr/>
            <p:nvPr/>
          </p:nvSpPr>
          <p:spPr>
            <a:xfrm>
              <a:off x="6030720" y="736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98"/>
            <p:cNvSpPr/>
            <p:nvPr/>
          </p:nvSpPr>
          <p:spPr>
            <a:xfrm>
              <a:off x="6021000" y="7272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99"/>
            <p:cNvSpPr/>
            <p:nvPr/>
          </p:nvSpPr>
          <p:spPr>
            <a:xfrm>
              <a:off x="6094440" y="73656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(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00"/>
            <p:cNvSpPr/>
            <p:nvPr/>
          </p:nvSpPr>
          <p:spPr>
            <a:xfrm>
              <a:off x="6086520" y="72720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(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101"/>
            <p:cNvSpPr/>
            <p:nvPr/>
          </p:nvSpPr>
          <p:spPr>
            <a:xfrm>
              <a:off x="6170400" y="736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02"/>
            <p:cNvSpPr/>
            <p:nvPr/>
          </p:nvSpPr>
          <p:spPr>
            <a:xfrm>
              <a:off x="6160680" y="7272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103"/>
            <p:cNvSpPr/>
            <p:nvPr/>
          </p:nvSpPr>
          <p:spPr>
            <a:xfrm>
              <a:off x="6232320" y="73656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104"/>
            <p:cNvSpPr/>
            <p:nvPr/>
          </p:nvSpPr>
          <p:spPr>
            <a:xfrm>
              <a:off x="6222600" y="72720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105"/>
            <p:cNvSpPr/>
            <p:nvPr/>
          </p:nvSpPr>
          <p:spPr>
            <a:xfrm>
              <a:off x="6370200" y="73656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p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106"/>
            <p:cNvSpPr/>
            <p:nvPr/>
          </p:nvSpPr>
          <p:spPr>
            <a:xfrm>
              <a:off x="6360840" y="72720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p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107"/>
            <p:cNvSpPr/>
            <p:nvPr/>
          </p:nvSpPr>
          <p:spPr>
            <a:xfrm>
              <a:off x="6506640" y="73656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u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108"/>
            <p:cNvSpPr/>
            <p:nvPr/>
          </p:nvSpPr>
          <p:spPr>
            <a:xfrm>
              <a:off x="6497280" y="72720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u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109"/>
            <p:cNvSpPr/>
            <p:nvPr/>
          </p:nvSpPr>
          <p:spPr>
            <a:xfrm>
              <a:off x="6645240" y="73656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110"/>
            <p:cNvSpPr/>
            <p:nvPr/>
          </p:nvSpPr>
          <p:spPr>
            <a:xfrm>
              <a:off x="6635880" y="72720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111"/>
            <p:cNvSpPr/>
            <p:nvPr/>
          </p:nvSpPr>
          <p:spPr>
            <a:xfrm>
              <a:off x="6721560" y="73656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)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112"/>
            <p:cNvSpPr/>
            <p:nvPr/>
          </p:nvSpPr>
          <p:spPr>
            <a:xfrm>
              <a:off x="6711840" y="72720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)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113"/>
            <p:cNvSpPr/>
            <p:nvPr/>
          </p:nvSpPr>
          <p:spPr>
            <a:xfrm>
              <a:off x="6795720" y="736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114"/>
            <p:cNvSpPr/>
            <p:nvPr/>
          </p:nvSpPr>
          <p:spPr>
            <a:xfrm>
              <a:off x="6786360" y="7272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15"/>
            <p:cNvSpPr/>
            <p:nvPr/>
          </p:nvSpPr>
          <p:spPr>
            <a:xfrm>
              <a:off x="1147680" y="671400"/>
              <a:ext cx="180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116"/>
            <p:cNvSpPr/>
            <p:nvPr/>
          </p:nvSpPr>
          <p:spPr>
            <a:xfrm>
              <a:off x="1154160" y="671400"/>
              <a:ext cx="18302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117"/>
            <p:cNvSpPr/>
            <p:nvPr/>
          </p:nvSpPr>
          <p:spPr>
            <a:xfrm>
              <a:off x="1154160" y="671400"/>
              <a:ext cx="18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118"/>
            <p:cNvSpPr/>
            <p:nvPr/>
          </p:nvSpPr>
          <p:spPr>
            <a:xfrm>
              <a:off x="1154160" y="687240"/>
              <a:ext cx="18302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119"/>
            <p:cNvSpPr/>
            <p:nvPr/>
          </p:nvSpPr>
          <p:spPr>
            <a:xfrm>
              <a:off x="1154160" y="687240"/>
              <a:ext cx="18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120"/>
            <p:cNvSpPr/>
            <p:nvPr/>
          </p:nvSpPr>
          <p:spPr>
            <a:xfrm>
              <a:off x="2984400" y="723960"/>
              <a:ext cx="5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121"/>
            <p:cNvSpPr/>
            <p:nvPr/>
          </p:nvSpPr>
          <p:spPr>
            <a:xfrm>
              <a:off x="2984400" y="671400"/>
              <a:ext cx="493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122"/>
            <p:cNvSpPr/>
            <p:nvPr/>
          </p:nvSpPr>
          <p:spPr>
            <a:xfrm>
              <a:off x="2984400" y="671400"/>
              <a:ext cx="49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123"/>
            <p:cNvSpPr/>
            <p:nvPr/>
          </p:nvSpPr>
          <p:spPr>
            <a:xfrm>
              <a:off x="2984400" y="687240"/>
              <a:ext cx="493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124"/>
            <p:cNvSpPr/>
            <p:nvPr/>
          </p:nvSpPr>
          <p:spPr>
            <a:xfrm>
              <a:off x="2984400" y="687240"/>
              <a:ext cx="49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125"/>
            <p:cNvSpPr/>
            <p:nvPr/>
          </p:nvSpPr>
          <p:spPr>
            <a:xfrm>
              <a:off x="3033720" y="671400"/>
              <a:ext cx="563400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126"/>
            <p:cNvSpPr/>
            <p:nvPr/>
          </p:nvSpPr>
          <p:spPr>
            <a:xfrm>
              <a:off x="3033720" y="671400"/>
              <a:ext cx="5634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127"/>
            <p:cNvSpPr/>
            <p:nvPr/>
          </p:nvSpPr>
          <p:spPr>
            <a:xfrm>
              <a:off x="3033720" y="687240"/>
              <a:ext cx="56340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128"/>
            <p:cNvSpPr/>
            <p:nvPr/>
          </p:nvSpPr>
          <p:spPr>
            <a:xfrm>
              <a:off x="3033720" y="687240"/>
              <a:ext cx="5634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129"/>
            <p:cNvSpPr/>
            <p:nvPr/>
          </p:nvSpPr>
          <p:spPr>
            <a:xfrm>
              <a:off x="8667720" y="67140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130"/>
            <p:cNvSpPr/>
            <p:nvPr/>
          </p:nvSpPr>
          <p:spPr>
            <a:xfrm>
              <a:off x="1147680" y="725400"/>
              <a:ext cx="1800" cy="530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131"/>
            <p:cNvSpPr/>
            <p:nvPr/>
          </p:nvSpPr>
          <p:spPr>
            <a:xfrm>
              <a:off x="2984400" y="725400"/>
              <a:ext cx="1800" cy="530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132"/>
            <p:cNvSpPr/>
            <p:nvPr/>
          </p:nvSpPr>
          <p:spPr>
            <a:xfrm>
              <a:off x="8667720" y="725400"/>
              <a:ext cx="1440" cy="530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133"/>
            <p:cNvSpPr/>
            <p:nvPr/>
          </p:nvSpPr>
          <p:spPr>
            <a:xfrm>
              <a:off x="1211040" y="12556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134"/>
            <p:cNvSpPr/>
            <p:nvPr/>
          </p:nvSpPr>
          <p:spPr>
            <a:xfrm>
              <a:off x="1211400" y="1527120"/>
              <a:ext cx="1059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How can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135"/>
            <p:cNvSpPr/>
            <p:nvPr/>
          </p:nvSpPr>
          <p:spPr>
            <a:xfrm>
              <a:off x="1211760" y="1800360"/>
              <a:ext cx="1609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Cornell notes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136"/>
            <p:cNvSpPr/>
            <p:nvPr/>
          </p:nvSpPr>
          <p:spPr>
            <a:xfrm>
              <a:off x="1211400" y="2071800"/>
              <a:ext cx="979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help me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137"/>
            <p:cNvSpPr/>
            <p:nvPr/>
          </p:nvSpPr>
          <p:spPr>
            <a:xfrm>
              <a:off x="1212120" y="2344680"/>
              <a:ext cx="1474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organize my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138"/>
            <p:cNvSpPr/>
            <p:nvPr/>
          </p:nvSpPr>
          <p:spPr>
            <a:xfrm>
              <a:off x="1211760" y="2616120"/>
              <a:ext cx="7657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ideas?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139"/>
            <p:cNvSpPr/>
            <p:nvPr/>
          </p:nvSpPr>
          <p:spPr>
            <a:xfrm>
              <a:off x="1923840" y="261612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140"/>
            <p:cNvSpPr/>
            <p:nvPr/>
          </p:nvSpPr>
          <p:spPr>
            <a:xfrm>
              <a:off x="1211040" y="28893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141"/>
            <p:cNvSpPr/>
            <p:nvPr/>
          </p:nvSpPr>
          <p:spPr>
            <a:xfrm>
              <a:off x="1211400" y="3162240"/>
              <a:ext cx="17305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Which side for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142"/>
            <p:cNvSpPr/>
            <p:nvPr/>
          </p:nvSpPr>
          <p:spPr>
            <a:xfrm>
              <a:off x="1212480" y="3433680"/>
              <a:ext cx="1220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diagrams?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143"/>
            <p:cNvSpPr/>
            <p:nvPr/>
          </p:nvSpPr>
          <p:spPr>
            <a:xfrm>
              <a:off x="2352240" y="34336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144"/>
            <p:cNvSpPr/>
            <p:nvPr/>
          </p:nvSpPr>
          <p:spPr>
            <a:xfrm>
              <a:off x="1211040" y="370692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45"/>
            <p:cNvSpPr/>
            <p:nvPr/>
          </p:nvSpPr>
          <p:spPr>
            <a:xfrm>
              <a:off x="1211400" y="3976560"/>
              <a:ext cx="1059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Why use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146"/>
            <p:cNvSpPr/>
            <p:nvPr/>
          </p:nvSpPr>
          <p:spPr>
            <a:xfrm>
              <a:off x="1212840" y="4249800"/>
              <a:ext cx="177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concept maps?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47"/>
            <p:cNvSpPr/>
            <p:nvPr/>
          </p:nvSpPr>
          <p:spPr>
            <a:xfrm>
              <a:off x="2862000" y="42498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48"/>
            <p:cNvSpPr/>
            <p:nvPr/>
          </p:nvSpPr>
          <p:spPr>
            <a:xfrm>
              <a:off x="1211040" y="452124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49"/>
            <p:cNvSpPr/>
            <p:nvPr/>
          </p:nvSpPr>
          <p:spPr>
            <a:xfrm>
              <a:off x="1211040" y="479412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50"/>
            <p:cNvSpPr/>
            <p:nvPr/>
          </p:nvSpPr>
          <p:spPr>
            <a:xfrm>
              <a:off x="1211040" y="5065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51"/>
            <p:cNvSpPr/>
            <p:nvPr/>
          </p:nvSpPr>
          <p:spPr>
            <a:xfrm>
              <a:off x="1211040" y="53388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52"/>
            <p:cNvSpPr/>
            <p:nvPr/>
          </p:nvSpPr>
          <p:spPr>
            <a:xfrm>
              <a:off x="1212120" y="5610240"/>
              <a:ext cx="1515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What are the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53"/>
            <p:cNvSpPr/>
            <p:nvPr/>
          </p:nvSpPr>
          <p:spPr>
            <a:xfrm>
              <a:off x="1212480" y="5883120"/>
              <a:ext cx="1785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benefits to me?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54"/>
            <p:cNvSpPr/>
            <p:nvPr/>
          </p:nvSpPr>
          <p:spPr>
            <a:xfrm>
              <a:off x="2876040" y="588312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55"/>
            <p:cNvSpPr/>
            <p:nvPr/>
          </p:nvSpPr>
          <p:spPr>
            <a:xfrm>
              <a:off x="3048120" y="1255680"/>
              <a:ext cx="410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a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56"/>
            <p:cNvSpPr/>
            <p:nvPr/>
          </p:nvSpPr>
          <p:spPr>
            <a:xfrm>
              <a:off x="3434040" y="1255680"/>
              <a:ext cx="5331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be used to provide an outline of chapter or lecture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157"/>
            <p:cNvSpPr/>
            <p:nvPr/>
          </p:nvSpPr>
          <p:spPr>
            <a:xfrm>
              <a:off x="8427960" y="12556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158"/>
            <p:cNvSpPr/>
            <p:nvPr/>
          </p:nvSpPr>
          <p:spPr>
            <a:xfrm>
              <a:off x="3052440" y="1500120"/>
              <a:ext cx="3854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Organized by main ideas and details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159"/>
            <p:cNvSpPr/>
            <p:nvPr/>
          </p:nvSpPr>
          <p:spPr>
            <a:xfrm>
              <a:off x="6657840" y="1500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160"/>
            <p:cNvSpPr/>
            <p:nvPr/>
          </p:nvSpPr>
          <p:spPr>
            <a:xfrm>
              <a:off x="3052440" y="1746360"/>
              <a:ext cx="3437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an be as detailed as necessary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161"/>
            <p:cNvSpPr/>
            <p:nvPr/>
          </p:nvSpPr>
          <p:spPr>
            <a:xfrm>
              <a:off x="6264360" y="174636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162"/>
            <p:cNvSpPr/>
            <p:nvPr/>
          </p:nvSpPr>
          <p:spPr>
            <a:xfrm>
              <a:off x="3048840" y="1989000"/>
              <a:ext cx="1095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Sequentia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163"/>
            <p:cNvSpPr/>
            <p:nvPr/>
          </p:nvSpPr>
          <p:spPr>
            <a:xfrm>
              <a:off x="4071600" y="1989000"/>
              <a:ext cx="144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-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164"/>
            <p:cNvSpPr/>
            <p:nvPr/>
          </p:nvSpPr>
          <p:spPr>
            <a:xfrm>
              <a:off x="4211280" y="1989000"/>
              <a:ext cx="4659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ake notes as they are given by instructor or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165"/>
            <p:cNvSpPr/>
            <p:nvPr/>
          </p:nvSpPr>
          <p:spPr>
            <a:xfrm>
              <a:off x="3051000" y="2233440"/>
              <a:ext cx="2689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ext in an orderly fashion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166"/>
            <p:cNvSpPr/>
            <p:nvPr/>
          </p:nvSpPr>
          <p:spPr>
            <a:xfrm>
              <a:off x="5567400" y="22334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167"/>
            <p:cNvSpPr/>
            <p:nvPr/>
          </p:nvSpPr>
          <p:spPr>
            <a:xfrm>
              <a:off x="3053880" y="2479680"/>
              <a:ext cx="534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After class, write a summary of what you learned to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168"/>
            <p:cNvSpPr/>
            <p:nvPr/>
          </p:nvSpPr>
          <p:spPr>
            <a:xfrm>
              <a:off x="3053160" y="2724120"/>
              <a:ext cx="5450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larify and reinforce learning and to assist retention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169"/>
            <p:cNvSpPr/>
            <p:nvPr/>
          </p:nvSpPr>
          <p:spPr>
            <a:xfrm>
              <a:off x="8155080" y="2724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170"/>
            <p:cNvSpPr/>
            <p:nvPr/>
          </p:nvSpPr>
          <p:spPr>
            <a:xfrm>
              <a:off x="3049200" y="2970360"/>
              <a:ext cx="2812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an be used as study tool: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171"/>
            <p:cNvSpPr/>
            <p:nvPr/>
          </p:nvSpPr>
          <p:spPr>
            <a:xfrm>
              <a:off x="5678640" y="297036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172"/>
            <p:cNvSpPr/>
            <p:nvPr/>
          </p:nvSpPr>
          <p:spPr>
            <a:xfrm>
              <a:off x="3056400" y="3214800"/>
              <a:ext cx="587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. Define terms or explain concepts listed on left side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173"/>
            <p:cNvSpPr/>
            <p:nvPr/>
          </p:nvSpPr>
          <p:spPr>
            <a:xfrm>
              <a:off x="8561520" y="32148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174"/>
            <p:cNvSpPr/>
            <p:nvPr/>
          </p:nvSpPr>
          <p:spPr>
            <a:xfrm>
              <a:off x="3053880" y="3459240"/>
              <a:ext cx="5182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2. Identify the concept or term on the right side.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175"/>
            <p:cNvSpPr/>
            <p:nvPr/>
          </p:nvSpPr>
          <p:spPr>
            <a:xfrm>
              <a:off x="7907400" y="3459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176"/>
            <p:cNvSpPr/>
            <p:nvPr/>
          </p:nvSpPr>
          <p:spPr>
            <a:xfrm>
              <a:off x="3049560" y="3705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177"/>
            <p:cNvSpPr/>
            <p:nvPr/>
          </p:nvSpPr>
          <p:spPr>
            <a:xfrm>
              <a:off x="3049200" y="3946680"/>
              <a:ext cx="570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an be used to provide a "big picture" of the chapter o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178"/>
            <p:cNvSpPr/>
            <p:nvPr/>
          </p:nvSpPr>
          <p:spPr>
            <a:xfrm>
              <a:off x="3050280" y="4194000"/>
              <a:ext cx="828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lecture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179"/>
            <p:cNvSpPr/>
            <p:nvPr/>
          </p:nvSpPr>
          <p:spPr>
            <a:xfrm>
              <a:off x="3824280" y="41940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180"/>
            <p:cNvSpPr/>
            <p:nvPr/>
          </p:nvSpPr>
          <p:spPr>
            <a:xfrm>
              <a:off x="3048120" y="4419720"/>
              <a:ext cx="4146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Organized by main ideas and sub-topic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181"/>
            <p:cNvSpPr/>
            <p:nvPr/>
          </p:nvSpPr>
          <p:spPr>
            <a:xfrm>
              <a:off x="7040520" y="44388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82"/>
            <p:cNvSpPr/>
            <p:nvPr/>
          </p:nvSpPr>
          <p:spPr>
            <a:xfrm>
              <a:off x="3051720" y="4683240"/>
              <a:ext cx="4815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Limited in how much detail you can represent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183"/>
            <p:cNvSpPr/>
            <p:nvPr/>
          </p:nvSpPr>
          <p:spPr>
            <a:xfrm>
              <a:off x="7564320" y="4683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184"/>
            <p:cNvSpPr/>
            <p:nvPr/>
          </p:nvSpPr>
          <p:spPr>
            <a:xfrm>
              <a:off x="3049200" y="4929120"/>
              <a:ext cx="1478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Simultaneous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185"/>
            <p:cNvSpPr/>
            <p:nvPr/>
          </p:nvSpPr>
          <p:spPr>
            <a:xfrm>
              <a:off x="4431960" y="492912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186"/>
            <p:cNvSpPr/>
            <p:nvPr/>
          </p:nvSpPr>
          <p:spPr>
            <a:xfrm>
              <a:off x="4501080" y="4929120"/>
              <a:ext cx="4191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you can use this method for instructors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187"/>
            <p:cNvSpPr/>
            <p:nvPr/>
          </p:nvSpPr>
          <p:spPr>
            <a:xfrm>
              <a:off x="3049200" y="5173560"/>
              <a:ext cx="3877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who jump around from topic to topic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188"/>
            <p:cNvSpPr/>
            <p:nvPr/>
          </p:nvSpPr>
          <p:spPr>
            <a:xfrm>
              <a:off x="6688080" y="517356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189"/>
            <p:cNvSpPr/>
            <p:nvPr/>
          </p:nvSpPr>
          <p:spPr>
            <a:xfrm>
              <a:off x="3051000" y="5419800"/>
              <a:ext cx="5092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After class, you can add questions to the left sid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190"/>
            <p:cNvSpPr/>
            <p:nvPr/>
          </p:nvSpPr>
          <p:spPr>
            <a:xfrm>
              <a:off x="7816680" y="54198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191"/>
            <p:cNvSpPr/>
            <p:nvPr/>
          </p:nvSpPr>
          <p:spPr>
            <a:xfrm>
              <a:off x="3049560" y="5664240"/>
              <a:ext cx="2920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an be used as a study tool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192"/>
            <p:cNvSpPr/>
            <p:nvPr/>
          </p:nvSpPr>
          <p:spPr>
            <a:xfrm>
              <a:off x="5779800" y="5664240"/>
              <a:ext cx="144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-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193"/>
            <p:cNvSpPr/>
            <p:nvPr/>
          </p:nvSpPr>
          <p:spPr>
            <a:xfrm>
              <a:off x="5919120" y="5664240"/>
              <a:ext cx="2496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o get a quick overview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194"/>
            <p:cNvSpPr/>
            <p:nvPr/>
          </p:nvSpPr>
          <p:spPr>
            <a:xfrm>
              <a:off x="3049560" y="5908680"/>
              <a:ext cx="581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and to determine whether you need more information or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195"/>
            <p:cNvSpPr/>
            <p:nvPr/>
          </p:nvSpPr>
          <p:spPr>
            <a:xfrm>
              <a:off x="3049920" y="6153120"/>
              <a:ext cx="5226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need to concentrate your study on specific topics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196"/>
            <p:cNvSpPr/>
            <p:nvPr/>
          </p:nvSpPr>
          <p:spPr>
            <a:xfrm>
              <a:off x="7938360" y="617544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197"/>
            <p:cNvSpPr/>
            <p:nvPr/>
          </p:nvSpPr>
          <p:spPr>
            <a:xfrm>
              <a:off x="1147680" y="1255680"/>
              <a:ext cx="1800" cy="514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198"/>
            <p:cNvSpPr/>
            <p:nvPr/>
          </p:nvSpPr>
          <p:spPr>
            <a:xfrm>
              <a:off x="1147680" y="639756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199"/>
            <p:cNvSpPr/>
            <p:nvPr/>
          </p:nvSpPr>
          <p:spPr>
            <a:xfrm>
              <a:off x="1147680" y="639756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200"/>
            <p:cNvSpPr/>
            <p:nvPr/>
          </p:nvSpPr>
          <p:spPr>
            <a:xfrm>
              <a:off x="1147680" y="639756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201"/>
            <p:cNvSpPr/>
            <p:nvPr/>
          </p:nvSpPr>
          <p:spPr>
            <a:xfrm>
              <a:off x="1147680" y="639756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02"/>
            <p:cNvSpPr/>
            <p:nvPr/>
          </p:nvSpPr>
          <p:spPr>
            <a:xfrm>
              <a:off x="1154160" y="6397560"/>
              <a:ext cx="18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203"/>
            <p:cNvSpPr/>
            <p:nvPr/>
          </p:nvSpPr>
          <p:spPr>
            <a:xfrm>
              <a:off x="2984400" y="1255680"/>
              <a:ext cx="1800" cy="514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204"/>
            <p:cNvSpPr/>
            <p:nvPr/>
          </p:nvSpPr>
          <p:spPr>
            <a:xfrm>
              <a:off x="2984400" y="6397560"/>
              <a:ext cx="5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205"/>
            <p:cNvSpPr/>
            <p:nvPr/>
          </p:nvSpPr>
          <p:spPr>
            <a:xfrm>
              <a:off x="2984400" y="639756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206"/>
            <p:cNvSpPr/>
            <p:nvPr/>
          </p:nvSpPr>
          <p:spPr>
            <a:xfrm>
              <a:off x="2989440" y="6397560"/>
              <a:ext cx="5678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207"/>
            <p:cNvSpPr/>
            <p:nvPr/>
          </p:nvSpPr>
          <p:spPr>
            <a:xfrm>
              <a:off x="8667720" y="1255680"/>
              <a:ext cx="1440" cy="514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208"/>
            <p:cNvSpPr/>
            <p:nvPr/>
          </p:nvSpPr>
          <p:spPr>
            <a:xfrm>
              <a:off x="8667720" y="639756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209"/>
            <p:cNvSpPr/>
            <p:nvPr/>
          </p:nvSpPr>
          <p:spPr>
            <a:xfrm>
              <a:off x="8667720" y="639756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210"/>
            <p:cNvSpPr/>
            <p:nvPr/>
          </p:nvSpPr>
          <p:spPr>
            <a:xfrm>
              <a:off x="8667720" y="639756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211"/>
            <p:cNvSpPr/>
            <p:nvPr/>
          </p:nvSpPr>
          <p:spPr>
            <a:xfrm>
              <a:off x="8667720" y="639756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212"/>
            <p:cNvSpPr/>
            <p:nvPr/>
          </p:nvSpPr>
          <p:spPr>
            <a:xfrm>
              <a:off x="1130040" y="64198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1" name="Object 2"/>
          <p:cNvGraphicFramePr/>
          <p:nvPr/>
        </p:nvGraphicFramePr>
        <p:xfrm>
          <a:off x="1066680" y="473040"/>
          <a:ext cx="7813800" cy="295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473040"/>
                    <a:ext cx="7813800" cy="29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Text Box 3"/>
          <p:cNvSpPr/>
          <p:nvPr/>
        </p:nvSpPr>
        <p:spPr>
          <a:xfrm>
            <a:off x="1371600" y="3657600"/>
            <a:ext cx="6858000" cy="2653560"/>
          </a:xfrm>
          <a:prstGeom prst="rect">
            <a:avLst/>
          </a:prstGeom>
          <a:noFill/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36600">
              <a:buClr>
                <a:srgbClr val="660066"/>
              </a:buClr>
              <a:buFont typeface="Arial"/>
              <a:buChar char="•"/>
              <a:tabLst>
                <a:tab algn="l" pos="336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 is added at the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end of ALL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note pag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n the subject (not pa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36600">
              <a:buClr>
                <a:srgbClr val="660066"/>
              </a:buClr>
              <a:buFont typeface="Arial"/>
              <a:buChar char="•"/>
              <a:tabLst>
                <a:tab algn="l" pos="336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 adde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FT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36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fin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36600">
              <a:buClr>
                <a:srgbClr val="660066"/>
              </a:buClr>
              <a:buFont typeface="Arial"/>
              <a:buChar char="•"/>
              <a:tabLst>
                <a:tab algn="l" pos="336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 shoul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nswer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proble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tated in the su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Object 1030" descr=""/>
          <p:cNvPicPr/>
          <p:nvPr/>
        </p:nvPicPr>
        <p:blipFill>
          <a:blip r:embed="rId1"/>
          <a:stretch/>
        </p:blipFill>
        <p:spPr>
          <a:xfrm>
            <a:off x="1752480" y="-28440"/>
            <a:ext cx="7391520" cy="6886440"/>
          </a:xfrm>
          <a:prstGeom prst="rect">
            <a:avLst/>
          </a:prstGeom>
          <a:ln w="0">
            <a:noFill/>
          </a:ln>
        </p:spPr>
      </p:pic>
      <p:sp>
        <p:nvSpPr>
          <p:cNvPr id="335" name="WordArt 1028"/>
          <p:cNvSpPr txBox="1"/>
          <p:nvPr/>
        </p:nvSpPr>
        <p:spPr>
          <a:xfrm>
            <a:off x="1066680" y="228600"/>
            <a:ext cx="2133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Economic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6T18:06:01Z</dcterms:created>
  <dc:creator>CIS</dc:creator>
  <dc:description/>
  <dc:language>en-US</dc:language>
  <cp:lastModifiedBy>JAntinora</cp:lastModifiedBy>
  <cp:lastPrinted>2001-08-14T21:30:16Z</cp:lastPrinted>
  <dcterms:modified xsi:type="dcterms:W3CDTF">2012-09-07T02:11:17Z</dcterms:modified>
  <cp:revision>145</cp:revision>
  <dc:subject/>
  <dc:title>PowerPoint Presentation</dc:title>
</cp:coreProperties>
</file>