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88D5-55AF-4ABE-99EC-232C409E2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A42E-4DB6-4745-8875-3A17FC9E2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EDDC-7CAF-42C5-9CF9-3EE41DBC9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42E4-56B5-4983-9F12-CCC16C450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56AE-1D89-4210-BF8F-464C7A2E1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EAAB-EB6F-4311-8307-8C3C75F6A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D9F6-2EDE-40B4-B05E-8E03CC015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5468-3BC3-4D57-9D68-F881AB540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E602-49FF-4493-B0A9-119ECADB3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334C-2C2D-477A-8B8D-FD69C4C5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2DB0-93EF-46F8-A1A4-FB2EC364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BDF1-CC4C-40CF-B655-10E2921F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81DE0-C26A-4204-B6F9-981E91D204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R. ANTINOR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ESSON# 4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UBJECT- Physics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ATE- 9/19/12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T TOPIC- The Science of Physics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NDARD- NYS 5.1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CUS- How do we use measurements in experiment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TTING STARTED ACTIVITY-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turn to your groups from Friday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tain your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ccident Investigation Group work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mework: Measurement Practice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ientific Method used in Accident Investig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Observation/collection of dat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investigator examines the crime scene and fills out a rep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Hypothesi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vestigator imagines many scenario that might of have caused the accide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us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oxic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ell aslee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pee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ad weather: affected traction or vis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ientific Method used in Accident Investig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Experiments/test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vestigator migh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Order a blood te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heck the car par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est drive the car in different weather condi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ry to reproduce the skid mark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nterpret/revise hypothesi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vestigator must reexamine evide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vidence may be inconclusiv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vestigator goes to cou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examines evide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ends theory of how accident occu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1T15:27:00Z</dcterms:created>
  <dc:creator>GX620-image</dc:creator>
  <dc:description/>
  <dc:language>en-US</dc:language>
  <cp:lastModifiedBy>JAntinora</cp:lastModifiedBy>
  <dcterms:modified xsi:type="dcterms:W3CDTF">2012-09-18T19:08:07Z</dcterms:modified>
  <cp:revision>19</cp:revision>
  <dc:subject/>
  <dc:title>MR. ANTINORA    LESSON# 2 SUBJECT- Physics    DATE- 9/11/12 UNIT TOPIC- Introduction      SCIENCE STANDARD- NYS 5.1 FOCUS- How can we read actively?  GETTING STARTED ACTIVITY-  Pd: 7 Anticipation guide (MAX);  Pd 9: practice Cornell note taking  Homework: none</dc:title>
</cp:coreProperties>
</file>