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833-BF5D-4C9B-BF79-57E9CD59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114-1181-48CB-B251-0844311E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CE7-58D8-44AE-9531-68D44D6E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D93-26F7-4FD5-9F69-58F50DC1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001-24C8-4114-83CA-335E1980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A5A-255F-4186-BFE0-7A7B3BB6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417-0ABC-424F-83E4-472350FE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6DA-7CF9-4564-B55D-51B4F186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1A3-031E-4CD0-B0AD-DE809F5E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CFE-C9E0-4B8C-BF09-90F4A13D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BEE-9F13-433E-BF82-39C28B4F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1BA-C758-4D2C-BAA3-DE34E389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8621-0C8E-47C7-9081-681F9CB91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. ANTINO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SON# 4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JECT- Physic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TE- 9/19/1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 TOPIC- The Science of Physics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- NYS 5.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- How do we use measurements in experiment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TING STARTED ACTIVITY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to your groups from Frida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tain you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cident Investigation Group work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work: Measurement Practic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 used in Accident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bservation/collection of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vestigator examines the crime scene and fills out a re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estigator imagines many scenario that might of have caused the accid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ox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ll aslee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e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d weather: affected traction or v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 used in Accident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Experiments/tes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migh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rder a blood t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eck the car par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est drive the car in different weather condi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ry to reproduce the skid mar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terpret/revise hypothes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must reexamine evid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idence may be inconclus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goes to cou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examines evid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ends theory of how accident occu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5:27:00Z</dcterms:created>
  <dc:creator>GX620-image</dc:creator>
  <dc:description/>
  <dc:language>en-US</dc:language>
  <cp:lastModifiedBy>JAntinora</cp:lastModifiedBy>
  <dcterms:modified xsi:type="dcterms:W3CDTF">2012-09-18T19:08:07Z</dcterms:modified>
  <cp:revision>19</cp:revision>
  <dc:subject/>
  <dc:title>MR. ANTINORA    LESSON# 2 SUBJECT- Physics    DATE- 9/11/12 UNIT TOPIC- Introduction      SCIENCE STANDARD- NYS 5.1 FOCUS- How can we read actively?  GETTING STARTED ACTIVITY-  Pd: 7 Anticipation guide (MAX);  Pd 9: practice Cornell note taking  Homework: none</dc:title>
</cp:coreProperties>
</file>