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281-96F4-432D-B9A8-278C2D14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75E-7F4B-4EE0-BAC8-2302890B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600-B3C0-427B-B2D8-A00C66F6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52D-E253-437B-A710-210F5E52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8F1-AB85-4DE2-B104-A43ECADD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640-491A-42C0-AC24-9EC9F43B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294-6339-43B5-ABBF-29984BB8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7D8-FE05-444F-85A2-3AF03E9D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9DF-E279-4640-A5E2-F6ED5059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DDC-F26F-4FD1-A84B-C00C9BA1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695-BEB7-465B-9EB9-EC6416D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5B2-E8C2-4016-A260-FDE9FADB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02D-AC94-4D45-90BD-32769BB8A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9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use measurements in experiment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o your groups from Fri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ain y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ident Investigation Group work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Measurement Practic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bservation/collection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vestigator examines the crime scene and fills out a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igator imagines many scenario that might of have caused the accid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ll asl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d weather: affected traction or 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xperiments/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igh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der a blood t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st drive the car in different weather condi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y to reproduce the skid mar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ence may be inconclu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examines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ends theory of how accident occ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8T19:08:07Z</dcterms:modified>
  <cp:revision>19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