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AF3-7713-4C28-947A-751AF901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62E-584B-4AD6-897E-E3158265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4D4-A0F3-4817-8243-2ADB01D7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74F-B9E3-4DE4-96BE-A3D83728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E16-3751-4173-A1E7-52D7388D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117-A026-4FA8-8652-B9A1990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8FF-BD59-4EB4-80DA-9B7860D2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13E-CB45-4F58-9B07-4505ED0C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8AD-A4DF-4BDF-B285-FEDBFFC7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0C1-E75C-4896-9894-570D39C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3EA-E277-4DC1-8460-B1B414C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D5F-89DE-42CC-8964-95DA67A3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201D-CC72-4591-A4BC-0A7777391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4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9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use measurements in experiment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to your groups from Frida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ain you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ident Investigation Group work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Measurement Practic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bservation/collection of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vestigator examines the crime scene and fills out a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stigator imagines many scenario that might of have caused the accid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ll asl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d weather: affected traction or 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xperiments/te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igh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der a blood t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st drive the car in different weather condi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ry to reproduce the skid mar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idence may be inconclu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examines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ends theory of how accident occ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8T19:08:07Z</dcterms:modified>
  <cp:revision>19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