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D449-FAE2-486D-852D-5491450A2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DED3-06C5-463A-91CA-AA701349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2707-5580-421E-A778-B186C95AA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9424-CD4B-4635-9BFC-526FD82CC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32F5-E787-4C2B-9C4A-268157E7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B79C-859C-4880-91E1-53E2DD79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6064-98C5-450E-8B2A-46BB840B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0669-B262-4470-AAA6-3FD4714F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ADA7-E975-48DE-B59D-B1695006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93CB-969B-40DE-A7A8-6D30BC76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5660-3BA2-4DDB-9908-DBA1D482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C8E2-EF52-4410-BDF6-B0240733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44D8-6EF4-4363-985C-EA357DD934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R. ANTINOR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ESSON# 4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UBJECT- Physics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ATE- 9/19/1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T TOPIC- The Science of Physics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- NYS 5.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US- How do we use measurements in experiment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TING STARTED ACTIVITY-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urn to your groups from Frida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tain you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ccident Investigation Group work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mework: Measurement Practic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ientific Method used in Accident Investig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bservation/collection of da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investigator examines the crime scene and fills out a rep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vestigator imagines many scenario that might of have caused the accid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u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oxi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ell aslee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pee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d weather: affected traction or vi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ientific Method used in Accident Investig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Experiments/tes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estigator migh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Order a blood te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eck the car par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est drive the car in different weather condi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ry to reproduce the skid mark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nterpret/revise hypothesi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estigator must reexamine evide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vidence may be inconclusi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estigator goes to cou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examines evide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ends theory of how accident occu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15:27:00Z</dcterms:created>
  <dc:creator>GX620-image</dc:creator>
  <dc:description/>
  <dc:language>en-US</dc:language>
  <cp:lastModifiedBy>JAntinora</cp:lastModifiedBy>
  <dcterms:modified xsi:type="dcterms:W3CDTF">2012-09-18T19:08:07Z</dcterms:modified>
  <cp:revision>19</cp:revision>
  <dc:subject/>
  <dc:title>MR. ANTINORA    LESSON# 2 SUBJECT- Physics    DATE- 9/11/12 UNIT TOPIC- Introduction      SCIENCE STANDARD- NYS 5.1 FOCUS- How can we read actively?  GETTING STARTED ACTIVITY-  Pd: 7 Anticipation guide (MAX);  Pd 9: practice Cornell note taking  Homework: none</dc:title>
</cp:coreProperties>
</file>