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1AD-8947-49CE-8582-AE50C73B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336D-9144-4DD7-821E-FB0FBC0E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A24-07B6-45D5-988A-C6F905B7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40C3-ADC7-46D1-B9BE-67E1D80E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F26E-DFBA-4159-B593-3003DB8E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26D4-4CEF-4F6B-9F0F-08DD4CAB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76D8-869C-49F4-B0C9-F3E282F3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6CC4-3610-4D26-BDE4-49710C88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8EEE-8E7C-4727-BC7C-64497358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4A8-79C1-4152-A6DA-65C9B415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420-441A-4EC0-BF8B-E200F119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AD7-2B98-4BAF-BD2C-39FCEA89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694A-4B5F-452D-90BB-A3CAEE7B6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. ANTINOR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SON# 3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BJECT- Physic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TE- 9/12/1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 TOPIC- The Science of Physics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- NYS 5.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- How do we define physic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TING STARTED ACTIVITY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 out your notebook so I can check your Cornell Note taking from yesterday’s lesson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work: non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bserv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lection of d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tilized by the crime scene investigat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some examples on a piece of paper under the heading: Observation/Data Col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ed during the crash investig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“educated guesses” is the investigator forced to mak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ypes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s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ight the investigator order or u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e investigat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data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vise the hypothe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an investigator us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uring the investig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ervation/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examines accident scene and fills our a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imagines several scenarios that might have caused the accid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be the driver was dru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be the driver fell aslee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the driver speed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d the car have mechanical failu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d the weather play a role in the accid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s/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ma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der a blood-alcohol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the car p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-drive the car in different weather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y to reproduce the skid marks left by the c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pret/revise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must reexamine evi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be revise original belief of what caused the accident (hypoth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idence maybe inconclu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goes to cou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examines the evi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ends his theory of how the accident occur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s on La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ll now apply what you’ve learned about scientific method and explore gra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groups have 1 member collect the equi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through the lab and gather your data for your concl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cience of Phy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ny people think physics is a difficult science far removed from their daily liv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 you think this is tru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verything around us can be described using tools of physic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use a small number of equations to describe the physical worl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ame physics principles used to describe the motions of planets can be used to describe the motion of a soccer bal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s is Every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4360" y="1600200"/>
            <a:ext cx="3733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ho design cars need to know phys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difference in shape for these two Cadilla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s try to figure our best shape to improve fuel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memimage.cardomain.com/member_images/7/web/3175000-3175999/3175979_1_full.jpg"/>
          <p:cNvPicPr/>
          <p:nvPr/>
        </p:nvPicPr>
        <p:blipFill>
          <a:blip r:embed="rId1"/>
          <a:stretch/>
        </p:blipFill>
        <p:spPr>
          <a:xfrm>
            <a:off x="4495680" y="1371600"/>
            <a:ext cx="4105440" cy="2732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images.thecarconnection.com/med/2013-cadillac-ats_100374419_m.jpg"/>
          <p:cNvPicPr/>
          <p:nvPr/>
        </p:nvPicPr>
        <p:blipFill>
          <a:blip r:embed="rId2"/>
          <a:stretch/>
        </p:blipFill>
        <p:spPr>
          <a:xfrm>
            <a:off x="4148280" y="4116240"/>
            <a:ext cx="48006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s is Every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14360" y="1600200"/>
            <a:ext cx="3733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s need to understand the science of motion and its causes to design a fuel efficient sha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 needs knowledge of physics of fluids (air fl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memimage.cardomain.com/member_images/7/web/3175000-3175999/3175979_1_full.jpg"/>
          <p:cNvPicPr/>
          <p:nvPr/>
        </p:nvPicPr>
        <p:blipFill>
          <a:blip r:embed="rId1"/>
          <a:stretch/>
        </p:blipFill>
        <p:spPr>
          <a:xfrm>
            <a:off x="4495680" y="1371600"/>
            <a:ext cx="4105440" cy="2732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images.thecarconnection.com/med/2013-cadillac-ats_100374419_m.jpg"/>
          <p:cNvPicPr/>
          <p:nvPr/>
        </p:nvPicPr>
        <p:blipFill>
          <a:blip r:embed="rId2"/>
          <a:stretch/>
        </p:blipFill>
        <p:spPr>
          <a:xfrm>
            <a:off x="4148280" y="4116240"/>
            <a:ext cx="48006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eas within Phy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1143000"/>
          <a:ext cx="8229600" cy="5400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han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ion and its ca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ing objects, friction, weight, spinning o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modyna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t and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ting/freezing processes, engines, refriger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brations and wa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types of repetitive mo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ings, pendulums, s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rrors, lenses, color, astron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omagnet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ity, magnetism, and 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charge, circuitry, permanent magnets, electromagn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les moving at the speed of 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le collisions, nuclear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um mechan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avior of subatomic parti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and its p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ck chec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your notes list a few careers that you are interested 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area within physics might contribute to those care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sts use common steps during an investigation of natural phenom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steps are called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0" y="1295280"/>
          <a:ext cx="3352680" cy="518184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ientific Meth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ect dat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at lead to a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te and te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si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y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ri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pr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esults, and revise hypothesis if necess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lusio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a form that can be evaluated by 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vestigation provides a good analogy to understand scientific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ood example is a car cra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’s watch a 10 minute video on crash scene investig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watching apply the step of scientific method to the crash scene investig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ch the following 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RASH  Ep 3  What Happened   Pt 1  The Car Crash Detective &amp; Causes of Crashes.mp4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5:27:00Z</dcterms:created>
  <dc:creator>GX620-image</dc:creator>
  <dc:description/>
  <dc:language>en-US</dc:language>
  <cp:lastModifiedBy>JAntinora</cp:lastModifiedBy>
  <dcterms:modified xsi:type="dcterms:W3CDTF">2012-09-13T17:21:06Z</dcterms:modified>
  <cp:revision>16</cp:revision>
  <dc:subject/>
  <dc:title>MR. ANTINORA    LESSON# 2 SUBJECT- Physics    DATE- 9/11/12 UNIT TOPIC- Introduction      SCIENCE STANDARD- NYS 5.1 FOCUS- How can we read actively?  GETTING STARTED ACTIVITY-  Pd: 7 Anticipation guide (MAX);  Pd 9: practice Cornell note taking  Homework: none</dc:title>
</cp:coreProperties>
</file>