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5D1-3594-4245-8252-8952766C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602-99AE-4808-AEB6-F6F8376A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2B9-820D-4ADA-9F62-3EE939D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B4C-4FAA-4F21-83F9-49A25B02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1AF-DAD4-44C6-B48B-5F18E5B9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58D-24A0-40CD-BA61-0E4FEB27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41E-6B1B-4377-BC4D-A5CCE200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111-71F6-464F-BBD4-6D1BD895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960-3363-47CE-AEE2-A1886B5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7C3-03E6-4850-AFDC-8678BEE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61E-3A76-4FB4-9F58-82D6CA3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E52-F9F9-46A2-A479-A1A0ACC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A916-36C7-464A-AC63-2ADF333CC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2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define physic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out your notebook so I can check your Cornell Note taking from yesterday’s lesso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f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ilized by the crime scene investig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some examples on a piece of paper under the heading: Observation/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d during the crash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“educated guesses” is the investigator forced to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the investigator order o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investiga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ata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e the 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investigator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/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examines accident scene and fills our a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imagines several scenarios that might have caused the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was d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fell a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he driver speed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car have mechanical fail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weather play a role in the acci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/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a blood-alcohol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-drive the car in different weathe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reproduce the skid marks left by 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revise original belief of what caused the accident (hypo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maybe incon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xamines th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s his theory of how the acciden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ll now apply what you’ve learned about scientific method and explore gra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have 1 member collect the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hrough the lab and gather your data for y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ience of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people think physics is a difficult science far removed from their daily l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you think this is tr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around us can be described using tools of phys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a small number of equations to describe the physical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ame physics principles used to describe the motions of planets can be used to describe the motion of a soccer b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esign cars need to know phy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difference in shape for these two Cadill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try to figure our best shape to improve fuel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need to understand the science of motion and its causes to design a fuel efficient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 needs knowledge of physics of fluids (air f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as within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14300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on and its 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ing objects, friction, weight, spinn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and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/freezing processes, engines, refrig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s and w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types of repetitive mo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ings, pendulums,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rors, lenses, color, astr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magnet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, magnetism, and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harge, circuitry, permanent magnets, electromag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s moving at the speed of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 collisions, nuclear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um 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r of subatomic p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and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chec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notes list a few careers that you are interested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a within physics might contribute to those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common steps during an investigation of natural phenom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steps are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1295280"/>
          <a:ext cx="3352680" cy="51818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ntific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 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lead to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te and te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s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p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sults, and revise hypothesis if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a form that can be evaluated b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estigation provides a good analogy to understand scientific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od example is a car cr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watch a 10 minute video on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tching apply the step of scientific method to the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the following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RASH  Ep 3  What Happened   Pt 1  The Car Crash Detective &amp; Causes of Crashes.mp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3T17:21:06Z</dcterms:modified>
  <cp:revision>16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