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0F4-F33F-495F-9234-234E6379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CEF-CFC2-488B-900A-F54F8F29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6B5-C385-498C-B969-96257754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29F-279B-4CB3-9CD5-6B443867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2CD-9037-4736-B111-F1B9B772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C94-AD91-4B78-A116-546E2F36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B4F-04C1-4ADA-B07B-7C323F39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734-6659-4B49-951A-559875B2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EE5-B1BC-4FA4-B066-B6A8C057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E85-B32F-4D58-BE7E-4BD37607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525-4FA4-43B8-A612-FD18EC96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C28-789F-4DCC-80B0-4A809804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26FC-5A92-491B-81B9-6D6327547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. ANTINO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SON# 3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JECT- Physic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TE- 9/12/1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 TOPIC- The Science of Physics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- NYS 5.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- How do we define physic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TING STARTED ACTIVITY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out your notebook so I can check your Cornell Note taking from yesterday’s lesso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work: non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serv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ection of d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tilized by the crime scene investigat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some examples on a piece of paper under the heading: Observation/Data Col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ed during the crash investig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“educated guesses” is the investigator forced to ma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ype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ight the investigator order or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investiga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data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ise the hypothe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an investigator u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ring the investig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ation/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examines accident scene and fills our a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imagines several scenarios that might have caused the acci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be the driver was dru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be the driver fell aslee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the driver speed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the car have mechanical failu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the weather play a role in the accid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/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m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er a blood-alcohol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the car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-drive the car in different weather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 to reproduce the skid marks left by the 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pret/revis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must reexamine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revise original belief of what caused the accident (hypo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ce maybe inconclu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or goes to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examines the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nds his theory of how the accident occur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s on L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ll now apply what you’ve learned about scientific method and explore gra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roups have 1 member collect the equi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hrough the lab and gather your data for your concl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cience of 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y people think physics is a difficult science far removed from their daily liv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you think this is tru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erything around us can be described using tools of physic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use a small number of equations to describe the physical wor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ame physics principles used to describe the motions of planets can be used to describe the motion of a soccer ba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 is Every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4360" y="160020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design cars need to know phys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difference in shape for these two Cadilla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s try to figure our best shape to improve fuel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memimage.cardomain.com/member_images/7/web/3175000-3175999/3175979_1_full.jpg"/>
          <p:cNvPicPr/>
          <p:nvPr/>
        </p:nvPicPr>
        <p:blipFill>
          <a:blip r:embed="rId1"/>
          <a:stretch/>
        </p:blipFill>
        <p:spPr>
          <a:xfrm>
            <a:off x="4495680" y="1371600"/>
            <a:ext cx="4105440" cy="2732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images.thecarconnection.com/med/2013-cadillac-ats_100374419_m.jpg"/>
          <p:cNvPicPr/>
          <p:nvPr/>
        </p:nvPicPr>
        <p:blipFill>
          <a:blip r:embed="rId2"/>
          <a:stretch/>
        </p:blipFill>
        <p:spPr>
          <a:xfrm>
            <a:off x="4148280" y="4116240"/>
            <a:ext cx="4800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 is Every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360" y="160020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s need to understand the science of motion and its causes to design a fuel efficient sha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 needs knowledge of physics of fluids (air fl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memimage.cardomain.com/member_images/7/web/3175000-3175999/3175979_1_full.jpg"/>
          <p:cNvPicPr/>
          <p:nvPr/>
        </p:nvPicPr>
        <p:blipFill>
          <a:blip r:embed="rId1"/>
          <a:stretch/>
        </p:blipFill>
        <p:spPr>
          <a:xfrm>
            <a:off x="4495680" y="1371600"/>
            <a:ext cx="4105440" cy="2732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ages.thecarconnection.com/med/2013-cadillac-ats_100374419_m.jpg"/>
          <p:cNvPicPr/>
          <p:nvPr/>
        </p:nvPicPr>
        <p:blipFill>
          <a:blip r:embed="rId2"/>
          <a:stretch/>
        </p:blipFill>
        <p:spPr>
          <a:xfrm>
            <a:off x="4148280" y="4116240"/>
            <a:ext cx="4800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eas within 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1143000"/>
          <a:ext cx="8229600" cy="5400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on and its ca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ing objects, friction, weight, spinning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o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t and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ting/freezing processes, engines, refrige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brations and wa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types of repetitive mo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ings, pendulums, s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rrors, lenses, color, astr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magnet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ity, magnetism, and 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charge, circuitry, permanent magnets, electromagn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les moving at the speed of 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le collisions, nuclear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um mechan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avior of subatomic parti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and its p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chec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notes list a few careers that you are interested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area within physics might contribute to those care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use common steps during an investigation of natural phenom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steps are calle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0" y="1295280"/>
          <a:ext cx="3352680" cy="518184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ientific Meth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 da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at lead to a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te and te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s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i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pr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esults, and revise hypothesis if necess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lusio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a form that can be evaluated by 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vestigation provides a good analogy to understand scientific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ood example is a car cra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watch a 10 minute video on crash scene investig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watching apply the step of scientific method to the crash scene investig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ch the following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RASH  Ep 3  What Happened   Pt 1  The Car Crash Detective &amp; Causes of Crashes.mp4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5:27:00Z</dcterms:created>
  <dc:creator>GX620-image</dc:creator>
  <dc:description/>
  <dc:language>en-US</dc:language>
  <cp:lastModifiedBy>JAntinora</cp:lastModifiedBy>
  <dcterms:modified xsi:type="dcterms:W3CDTF">2012-09-13T17:21:06Z</dcterms:modified>
  <cp:revision>16</cp:revision>
  <dc:subject/>
  <dc:title>MR. ANTINORA    LESSON# 2 SUBJECT- Physics    DATE- 9/11/12 UNIT TOPIC- Introduction      SCIENCE STANDARD- NYS 5.1 FOCUS- How can we read actively?  GETTING STARTED ACTIVITY-  Pd: 7 Anticipation guide (MAX);  Pd 9: practice Cornell note taking  Homework: none</dc:title>
</cp:coreProperties>
</file>