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2B0-6052-4903-9BEA-D3E5F79E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84B-5436-4FA5-949E-34008618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E74-0560-4DFB-B0FF-800286E4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C27-273B-4ECF-BBB1-1D98D89F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364-4E4E-4201-9C1F-E5B3385C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DE2-1E13-4931-974F-987DAE06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24D-4E9F-4CF9-9FBD-BB05ACC7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61A-B74E-4897-9B1F-C3797D36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EA4-0408-4959-B7EB-0433BA1F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BEC-6ED3-4B05-BA7D-2AB9D742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3D8-28C0-4F9D-BFC2-D1606E5C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364-A5BB-40DC-B3C1-E343F4E8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5C8B-CA4E-4613-91DA-11B911555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3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2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define physic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out your notebook so I can check your Cornell Note taking from yesterday’s lesso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non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serv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on of d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tilized by the crime scene investigat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some examples on a piece of paper under the heading: Observation/Data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d during the crash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“educated guesses” is the investigator forced to m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ght the investigator order or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investiga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data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se the 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n investigator 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ring the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/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examines accident scene and fills our a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imagines several scenarios that might have caused the acc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was d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fell aslee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the driver speed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car have mechanical fail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weather play a role in the acci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/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 a blood-alcohol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-drive the car in different weather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to reproduce the skid marks left by 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revise original belief of what caused the accident (hypo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maybe inconclu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examines th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nds his theory of how the accident occur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 on L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ll now apply what you’ve learned about scientific method and explore gra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oups have 1 member collect the equi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hrough the lab and gather your data for your concl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ience of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y people think physics is a difficult science far removed from their daily liv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you think this is tru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erything around us can be described using tools of physic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use a small number of equations to describe the physical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ame physics principles used to describe the motions of planets can be used to describe the motion of a soccer ba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esign cars need to know phys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difference in shape for these two Cadilla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try to figure our best shape to improve fuel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need to understand the science of motion and its causes to design a fuel efficient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 needs knowledge of physics of fluids (air f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as within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143000"/>
          <a:ext cx="8229600" cy="5400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on and its ca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ing objects, friction, weight, spinning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t and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ting/freezing processes, engines, refrig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brations and wa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types of repetitive mo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ings, pendulums,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rors, lenses, color, astr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magnet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ity, magnetism, and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charge, circuitry, permanent magnets, electromag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s moving at the speed of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 collisions, nuclear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um 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r of subatomic parti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and its p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chec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notes list a few careers that you are interested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rea within physics might contribute to those car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common steps during an investigation of natural phenom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steps are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0" y="1295280"/>
          <a:ext cx="3352680" cy="51818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ientific Meth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 da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at lead to a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te and te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s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pr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sults, and revise hypothesis if necess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a form that can be evaluated by 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vestigation provides a good analogy to understand scientific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ood example is a car cra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watch a 10 minute video on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watching apply the step of scientific method to the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ch the following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RASH  Ep 3  What Happened   Pt 1  The Car Crash Detective &amp; Causes of Crashes.mp4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3T17:21:06Z</dcterms:modified>
  <cp:revision>16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